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0EBA-5BDB-4AEB-86E7-35A1DE47E6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4BAF-ECF6-43C7-9200-0EEF3E97D3F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06E4-BBB6-4706-ABAD-D7203DF08F6B}" type="datetime">
              <a:rPr b="0" lang="en-US" sz="1200" spc="-1" strike="noStrike">
                <a:solidFill>
                  <a:srgbClr val="ffffff"/>
                </a:solidFill>
                <a:latin typeface="Verdana"/>
              </a:rPr>
              <a:t>07/30/26</a:t>
            </a:fld>
            <a:r>
              <a:rPr b="0" lang="en-US" sz="1200" spc="-1" strike="noStrike">
                <a:solidFill>
                  <a:srgbClr val="ffffff"/>
                </a:solidFill>
                <a:latin typeface="Verdana"/>
              </a:rPr>
              <a:t> </a:t>
            </a:r>
            <a:fld id="{D3A23118-8C09-4E22-8BF7-02C9A8CBD97F}"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4F7F-8EA6-47A4-B1D2-81875DBF0C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3E04-B5A9-47A6-A35A-2B8ED1482FC7}" type="datetime">
              <a:rPr b="0" lang="en-US" sz="1200" spc="-1" strike="noStrike">
                <a:solidFill>
                  <a:srgbClr val="ffffff"/>
                </a:solidFill>
                <a:latin typeface="Verdana"/>
              </a:rPr>
              <a:t>07/30/26</a:t>
            </a:fld>
            <a:r>
              <a:rPr b="0" lang="en-US" sz="1200" spc="-1" strike="noStrike">
                <a:solidFill>
                  <a:srgbClr val="ffffff"/>
                </a:solidFill>
                <a:latin typeface="Verdana"/>
              </a:rPr>
              <a:t> </a:t>
            </a:r>
            <a:fld id="{B80161EA-115E-4C45-B857-BA27B34965BE}"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CF01-2514-43C2-A6B5-FA79C4DA59D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17A7-DF3F-4BDB-87CF-D5DD118CF6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50A9-369A-4744-A265-0EE99588F290}" type="datetime">
              <a:rPr b="0" lang="en-US" sz="1200" spc="-1" strike="noStrike">
                <a:solidFill>
                  <a:srgbClr val="ffffff"/>
                </a:solidFill>
                <a:latin typeface="Verdana"/>
              </a:rPr>
              <a:t>07/30/26</a:t>
            </a:fld>
            <a:r>
              <a:rPr b="0" lang="en-US" sz="1200" spc="-1" strike="noStrike">
                <a:solidFill>
                  <a:srgbClr val="ffffff"/>
                </a:solidFill>
                <a:latin typeface="Verdana"/>
              </a:rPr>
              <a:t> </a:t>
            </a:r>
            <a:fld id="{1D8DD93B-9BA1-434D-83E2-DD5241F77F6C}"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08D8-2219-4BEF-BA89-FE75AE7555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3ACD-D737-4552-834A-0D0C8EBA1DF1}" type="datetime">
              <a:rPr b="0" lang="en-US" sz="1200" spc="-1" strike="noStrike">
                <a:solidFill>
                  <a:srgbClr val="ffffff"/>
                </a:solidFill>
                <a:latin typeface="Verdana"/>
              </a:rPr>
              <a:t>07/30/26</a:t>
            </a:fld>
            <a:r>
              <a:rPr b="0" lang="en-US" sz="1200" spc="-1" strike="noStrike">
                <a:solidFill>
                  <a:srgbClr val="ffffff"/>
                </a:solidFill>
                <a:latin typeface="Verdana"/>
              </a:rPr>
              <a:t> </a:t>
            </a:r>
            <a:fld id="{78C024BE-7AD0-4429-A84F-500AB7DC5B3C}"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4B3C-2555-4CFB-B22A-A3D0FCD087D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B9B0-53A8-43E8-B1E1-1FB7E7E0B92A}" type="datetime">
              <a:rPr b="0" lang="en-US" sz="1200" spc="-1" strike="noStrike">
                <a:solidFill>
                  <a:srgbClr val="ffffff"/>
                </a:solidFill>
                <a:latin typeface="Verdana"/>
              </a:rPr>
              <a:t>07/30/26</a:t>
            </a:fld>
            <a:r>
              <a:rPr b="0" lang="en-US" sz="1200" spc="-1" strike="noStrike">
                <a:solidFill>
                  <a:srgbClr val="ffffff"/>
                </a:solidFill>
                <a:latin typeface="Verdana"/>
              </a:rPr>
              <a:t> </a:t>
            </a:r>
            <a:fld id="{D5DB4C8B-EB15-4C2A-AF8F-B59C6016680C}"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A16A-E26A-4929-BF7B-30EC2EF1F1B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FB5A-868E-496E-8FEB-88B9DCA53896}" type="datetime">
              <a:rPr b="0" lang="en-US" sz="1200" spc="-1" strike="noStrike">
                <a:solidFill>
                  <a:srgbClr val="ffffff"/>
                </a:solidFill>
                <a:latin typeface="Verdana"/>
              </a:rPr>
              <a:t>07/30/26</a:t>
            </a:fld>
            <a:r>
              <a:rPr b="0" lang="en-US" sz="1200" spc="-1" strike="noStrike">
                <a:solidFill>
                  <a:srgbClr val="ffffff"/>
                </a:solidFill>
                <a:latin typeface="Verdana"/>
              </a:rPr>
              <a:t> </a:t>
            </a:r>
            <a:fld id="{9F776235-6D20-4B47-8E47-A07921494961}"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44F5-F6F9-4057-8933-9C794A217FF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7602-E965-43DA-9736-C5DC392DB86A}" type="datetime">
              <a:rPr b="0" lang="en-US" sz="1200" spc="-1" strike="noStrike">
                <a:solidFill>
                  <a:srgbClr val="ffffff"/>
                </a:solidFill>
                <a:latin typeface="Verdana"/>
              </a:rPr>
              <a:t>07/30/26</a:t>
            </a:fld>
            <a:r>
              <a:rPr b="0" lang="en-US" sz="1200" spc="-1" strike="noStrike">
                <a:solidFill>
                  <a:srgbClr val="ffffff"/>
                </a:solidFill>
                <a:latin typeface="Verdana"/>
              </a:rPr>
              <a:t> </a:t>
            </a:r>
            <a:fld id="{AB6A6CDD-5646-41A0-9ADD-4F8E1A36F1A8}"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08D5-9393-4C3E-B0F9-F7255DAF55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124D-D43F-412D-ABE2-FB06897DB017}" type="datetime">
              <a:rPr b="0" lang="en-US" sz="1200" spc="-1" strike="noStrike">
                <a:solidFill>
                  <a:srgbClr val="ffffff"/>
                </a:solidFill>
                <a:latin typeface="Verdana"/>
              </a:rPr>
              <a:t>07/30/26</a:t>
            </a:fld>
            <a:r>
              <a:rPr b="0" lang="en-US" sz="1200" spc="-1" strike="noStrike">
                <a:solidFill>
                  <a:srgbClr val="ffffff"/>
                </a:solidFill>
                <a:latin typeface="Verdana"/>
              </a:rPr>
              <a:t> </a:t>
            </a:r>
            <a:fld id="{84B7D23B-304E-4A4C-8727-F54DF396EB5E}"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E49C-D10C-4347-A52C-0E79FBD7C4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C82D-ED9D-40D1-B18F-933F081367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9555-C2CB-449F-BFD3-E5473C776D2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2A7B-2BA0-473F-A9A9-7DC0E1496F7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C76C-EBC0-4711-BEFF-0D4B058190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29E4-CB4B-4465-868D-27D24735B8FB}" type="datetime">
              <a:rPr b="0" lang="en-US" sz="1200" spc="-1" strike="noStrike">
                <a:solidFill>
                  <a:srgbClr val="ffffff"/>
                </a:solidFill>
                <a:latin typeface="Verdana"/>
              </a:rPr>
              <a:t>07/30/26</a:t>
            </a:fld>
            <a:r>
              <a:rPr b="0" lang="en-US" sz="1200" spc="-1" strike="noStrike">
                <a:solidFill>
                  <a:srgbClr val="ffffff"/>
                </a:solidFill>
                <a:latin typeface="Verdana"/>
              </a:rPr>
              <a:t> </a:t>
            </a:r>
            <a:fld id="{766714D7-E6F8-4439-9F83-D473AF212B58}"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72A5-D8A7-4113-879C-4E61D0107F6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B503-0B2A-4174-93AB-48055FFF7E9B}" type="datetime">
              <a:rPr b="0" lang="en-US" sz="1200" spc="-1" strike="noStrike">
                <a:solidFill>
                  <a:srgbClr val="ffffff"/>
                </a:solidFill>
                <a:latin typeface="Verdana"/>
              </a:rPr>
              <a:t>07/30/26</a:t>
            </a:fld>
            <a:r>
              <a:rPr b="0" lang="en-US" sz="1200" spc="-1" strike="noStrike">
                <a:solidFill>
                  <a:srgbClr val="ffffff"/>
                </a:solidFill>
                <a:latin typeface="Verdana"/>
              </a:rPr>
              <a:t> </a:t>
            </a:r>
            <a:fld id="{968E3BC4-0E81-49C7-A114-9C8D47220F4B}"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CB58-3A36-43D6-BC06-B73D60FD5E1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2E45-2D89-405D-B032-AD0B08A9749E}" type="datetime">
              <a:rPr b="0" lang="en-US" sz="1200" spc="-1" strike="noStrike">
                <a:solidFill>
                  <a:srgbClr val="ffffff"/>
                </a:solidFill>
                <a:latin typeface="Verdana"/>
              </a:rPr>
              <a:t>07/30/26</a:t>
            </a:fld>
            <a:r>
              <a:rPr b="0" lang="en-US" sz="1200" spc="-1" strike="noStrike">
                <a:solidFill>
                  <a:srgbClr val="ffffff"/>
                </a:solidFill>
                <a:latin typeface="Verdana"/>
              </a:rPr>
              <a:t> </a:t>
            </a:r>
            <a:fld id="{EADD2B85-F204-4DA1-97AC-E8C5195B9CEF}"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55F5-414E-4B4A-961D-AC22B4E230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1079B-4DFB-425D-BD10-DE788CCD8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1B99C-32F2-41D2-B3C4-D8F32F203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32D09-2066-4480-A142-023C01EE8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25DDF-E6AD-4929-99AE-DF2B7B7F7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4F098-CE76-4895-A9CD-637D46246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06577-405B-4A2B-96AE-50FF584C3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4F1F3-6BB7-4867-BF22-7ACEF8481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CF4E3-599B-4185-98C8-F5936B40F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956C0-D02C-4E22-B1C4-EEB300D1D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745BE-8FA6-4616-854D-934B25836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10E4B-13E2-4624-86AB-49F22D32D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4A1F1-A4C1-4B07-982C-1A9978F2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1100D-08EE-49BA-AD37-72B99C944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2C580-BA6D-4EAA-898E-A49A20176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DCB43-920B-49B6-BA26-BD1C7CD24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CD069-9635-4CFD-857E-B72438DAB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DE767-4A89-4D4D-892C-244897867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7D2DF-76E5-45BE-B92B-FF1B14BB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7CB89-7853-493F-A4C2-FD412FC19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E630-6260-4040-A4BB-A41C09EA5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67AB7-19CD-4E17-B0C6-90A2AE539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4A47-1D71-49BF-80D6-7F1A3729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9698F-4F27-4E60-AAC0-C95AB98DF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C9DB-4B37-4204-99CE-70EC935AD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9FAC-769A-4FC8-9001-50B7F5AE22A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78AB-ED1F-4809-8506-EC267C8D273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4414-0A27-4A5A-9230-EEE5E6215300}"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