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85A0-A6FF-495F-88C8-C19C201189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5422-610F-4362-A663-6BF7E65197C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F936-6ED6-42B8-B1A4-65CC7282B050}" type="datetime">
              <a:rPr b="0" lang="en-US" sz="1200" spc="-1" strike="noStrike">
                <a:solidFill>
                  <a:srgbClr val="ffffff"/>
                </a:solidFill>
                <a:latin typeface="Verdana"/>
              </a:rPr>
              <a:t>07/29/26</a:t>
            </a:fld>
            <a:r>
              <a:rPr b="0" lang="en-US" sz="1200" spc="-1" strike="noStrike">
                <a:solidFill>
                  <a:srgbClr val="ffffff"/>
                </a:solidFill>
                <a:latin typeface="Verdana"/>
              </a:rPr>
              <a:t> </a:t>
            </a:r>
            <a:fld id="{8005F480-C245-4A99-95D7-4976CC5A2742}"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8CBF-AAA3-47AD-8467-57BC23A438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F8E8-C812-42AD-B805-91997225FF0E}" type="datetime">
              <a:rPr b="0" lang="en-US" sz="1200" spc="-1" strike="noStrike">
                <a:solidFill>
                  <a:srgbClr val="ffffff"/>
                </a:solidFill>
                <a:latin typeface="Verdana"/>
              </a:rPr>
              <a:t>07/29/26</a:t>
            </a:fld>
            <a:r>
              <a:rPr b="0" lang="en-US" sz="1200" spc="-1" strike="noStrike">
                <a:solidFill>
                  <a:srgbClr val="ffffff"/>
                </a:solidFill>
                <a:latin typeface="Verdana"/>
              </a:rPr>
              <a:t> </a:t>
            </a:r>
            <a:fld id="{9B12568E-20DD-4F40-8CF3-DCA5078C7B36}"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0F30-961B-47F4-9FD4-50EF4853C5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051A-7536-492C-8AAE-5B11AAF285D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120F-981C-48D3-8183-59F56BF8EE47}" type="datetime">
              <a:rPr b="0" lang="en-US" sz="1200" spc="-1" strike="noStrike">
                <a:solidFill>
                  <a:srgbClr val="ffffff"/>
                </a:solidFill>
                <a:latin typeface="Verdana"/>
              </a:rPr>
              <a:t>07/29/26</a:t>
            </a:fld>
            <a:r>
              <a:rPr b="0" lang="en-US" sz="1200" spc="-1" strike="noStrike">
                <a:solidFill>
                  <a:srgbClr val="ffffff"/>
                </a:solidFill>
                <a:latin typeface="Verdana"/>
              </a:rPr>
              <a:t> </a:t>
            </a:r>
            <a:fld id="{30158E21-7AD3-408B-ACC4-C7A3E8830202}"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F59B-1661-4AA4-A086-532E7A792A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5B00-6249-4F5A-9456-F3014226F59F}" type="datetime">
              <a:rPr b="0" lang="en-US" sz="1200" spc="-1" strike="noStrike">
                <a:solidFill>
                  <a:srgbClr val="ffffff"/>
                </a:solidFill>
                <a:latin typeface="Verdana"/>
              </a:rPr>
              <a:t>07/29/26</a:t>
            </a:fld>
            <a:r>
              <a:rPr b="0" lang="en-US" sz="1200" spc="-1" strike="noStrike">
                <a:solidFill>
                  <a:srgbClr val="ffffff"/>
                </a:solidFill>
                <a:latin typeface="Verdana"/>
              </a:rPr>
              <a:t> </a:t>
            </a:r>
            <a:fld id="{AFD32CFD-56E0-4543-86BB-FEFE8F7F62B8}"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D840-8444-49AE-A611-CB75E9EABC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072B-4A6D-4663-A3BC-5243BC174D71}" type="datetime">
              <a:rPr b="0" lang="en-US" sz="1200" spc="-1" strike="noStrike">
                <a:solidFill>
                  <a:srgbClr val="ffffff"/>
                </a:solidFill>
                <a:latin typeface="Verdana"/>
              </a:rPr>
              <a:t>07/29/26</a:t>
            </a:fld>
            <a:r>
              <a:rPr b="0" lang="en-US" sz="1200" spc="-1" strike="noStrike">
                <a:solidFill>
                  <a:srgbClr val="ffffff"/>
                </a:solidFill>
                <a:latin typeface="Verdana"/>
              </a:rPr>
              <a:t> </a:t>
            </a:r>
            <a:fld id="{9EFDF968-950E-46A5-B7AD-6A8FCE54BE17}"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B667-5A3B-4388-B31B-8E739EAF1B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E6C8-4261-433E-95DA-C68DD686943B}" type="datetime">
              <a:rPr b="0" lang="en-US" sz="1200" spc="-1" strike="noStrike">
                <a:solidFill>
                  <a:srgbClr val="ffffff"/>
                </a:solidFill>
                <a:latin typeface="Verdana"/>
              </a:rPr>
              <a:t>07/29/26</a:t>
            </a:fld>
            <a:r>
              <a:rPr b="0" lang="en-US" sz="1200" spc="-1" strike="noStrike">
                <a:solidFill>
                  <a:srgbClr val="ffffff"/>
                </a:solidFill>
                <a:latin typeface="Verdana"/>
              </a:rPr>
              <a:t> </a:t>
            </a:r>
            <a:fld id="{F280CD8E-FC14-4C18-B598-3C6FDF64B206}"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886-4D8E-452A-85C7-4E76EB7983F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5553-0954-4200-95F3-DA13FAA3A4DB}" type="datetime">
              <a:rPr b="0" lang="en-US" sz="1200" spc="-1" strike="noStrike">
                <a:solidFill>
                  <a:srgbClr val="ffffff"/>
                </a:solidFill>
                <a:latin typeface="Verdana"/>
              </a:rPr>
              <a:t>07/29/26</a:t>
            </a:fld>
            <a:r>
              <a:rPr b="0" lang="en-US" sz="1200" spc="-1" strike="noStrike">
                <a:solidFill>
                  <a:srgbClr val="ffffff"/>
                </a:solidFill>
                <a:latin typeface="Verdana"/>
              </a:rPr>
              <a:t> </a:t>
            </a:r>
            <a:fld id="{172296B7-7670-430C-B53E-8F6AB0B76FBF}"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BB27-E6D4-40A2-AA2E-25ED8232D36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517F-9814-4AE9-B5EC-07DF74FF89E0}" type="datetime">
              <a:rPr b="0" lang="en-US" sz="1200" spc="-1" strike="noStrike">
                <a:solidFill>
                  <a:srgbClr val="ffffff"/>
                </a:solidFill>
                <a:latin typeface="Verdana"/>
              </a:rPr>
              <a:t>07/29/26</a:t>
            </a:fld>
            <a:r>
              <a:rPr b="0" lang="en-US" sz="1200" spc="-1" strike="noStrike">
                <a:solidFill>
                  <a:srgbClr val="ffffff"/>
                </a:solidFill>
                <a:latin typeface="Verdana"/>
              </a:rPr>
              <a:t> </a:t>
            </a:r>
            <a:fld id="{8BE1B7FC-A4E1-4373-8E43-33AF5CD8BDD4}"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49AE-773F-4FA8-88E9-2A69E7ECAA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2EBD-5CDE-4789-A856-434E88B324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EF0-B616-480A-887D-7999A7ABB17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0493-0321-4846-949A-C23BC2317F4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4310-0F77-4CC1-B59A-36EEB63869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1F6D-6BB8-4222-8090-5E5377FFBAFC}" type="datetime">
              <a:rPr b="0" lang="en-US" sz="1200" spc="-1" strike="noStrike">
                <a:solidFill>
                  <a:srgbClr val="ffffff"/>
                </a:solidFill>
                <a:latin typeface="Verdana"/>
              </a:rPr>
              <a:t>07/29/26</a:t>
            </a:fld>
            <a:r>
              <a:rPr b="0" lang="en-US" sz="1200" spc="-1" strike="noStrike">
                <a:solidFill>
                  <a:srgbClr val="ffffff"/>
                </a:solidFill>
                <a:latin typeface="Verdana"/>
              </a:rPr>
              <a:t> </a:t>
            </a:r>
            <a:fld id="{9418C0A4-F76B-4749-9E0A-226AE1480104}"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09EA-4694-43FC-98DB-AF523954F27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408E-EB35-431E-92BE-20728E58424C}" type="datetime">
              <a:rPr b="0" lang="en-US" sz="1200" spc="-1" strike="noStrike">
                <a:solidFill>
                  <a:srgbClr val="ffffff"/>
                </a:solidFill>
                <a:latin typeface="Verdana"/>
              </a:rPr>
              <a:t>07/29/26</a:t>
            </a:fld>
            <a:r>
              <a:rPr b="0" lang="en-US" sz="1200" spc="-1" strike="noStrike">
                <a:solidFill>
                  <a:srgbClr val="ffffff"/>
                </a:solidFill>
                <a:latin typeface="Verdana"/>
              </a:rPr>
              <a:t> </a:t>
            </a:r>
            <a:fld id="{DB34A2C5-5491-4506-A7A4-9EB01E404D31}"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E43E-CAE8-40C0-ADFF-D4880CD604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43D3-C0B1-4BE8-BB6F-51AAC5427874}" type="datetime">
              <a:rPr b="0" lang="en-US" sz="1200" spc="-1" strike="noStrike">
                <a:solidFill>
                  <a:srgbClr val="ffffff"/>
                </a:solidFill>
                <a:latin typeface="Verdana"/>
              </a:rPr>
              <a:t>07/29/26</a:t>
            </a:fld>
            <a:r>
              <a:rPr b="0" lang="en-US" sz="1200" spc="-1" strike="noStrike">
                <a:solidFill>
                  <a:srgbClr val="ffffff"/>
                </a:solidFill>
                <a:latin typeface="Verdana"/>
              </a:rPr>
              <a:t> </a:t>
            </a:r>
            <a:fld id="{DD583933-889B-4BA5-A738-07606C49D2C5}" type="datetime10">
              <a:rPr b="0" lang="en-US" sz="1200" spc="-1" strike="noStrike">
                <a:solidFill>
                  <a:srgbClr val="ffffff"/>
                </a:solidFill>
                <a:latin typeface="Verdana"/>
              </a:rPr>
              <a:t>17:56</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439F-8360-4108-B68A-22A62C3F66A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44A00-3968-4049-A4E7-B4467C8F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7BC73-CEFC-42E8-A09A-035C49FB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295D3-A940-489E-A71C-D6902ED13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865E6-D106-4841-B332-568E8802F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587A6-075D-48C9-8902-370EB406E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E547B-BE1A-4380-B575-A5728C6B3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0D581-17CB-4457-BEE9-BCA38CF68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54748-A51A-4066-A3AD-DABB6AE5A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ECCDF-13D5-4C5C-AE01-5DD072FCE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10157-CB5A-46CE-8F96-42B8F0684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2ABB-5B97-4F21-9D59-4B4164A1A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E673-3589-4ED3-A221-39F771C8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FB03-B106-4482-9245-044359B2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94E1-FF2A-4FBE-8786-2A9F903DC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D8D4-B512-4123-8452-116B05B40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C1949-F952-450D-AB0C-ECFCDDC04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C6E61-A562-488B-9093-8EF8925F7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BE32-95DD-4515-A5BD-3E3B0930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23AC-D889-4B79-95D8-4B98BD58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FA01-57A4-44D7-8AF4-27C0D746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A7E8-ECB9-4AB2-BF55-EB24E374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B9AB-EB97-4056-BFF8-DCDF8C44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09B5-47DC-40D3-95FC-214203C4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E422-68B8-430C-BC3D-66FB776EE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FB21-1CC6-44E1-8CCB-67F26A4CC29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EF9C-FFFE-4C07-BEE3-4D216BE10D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DC10-7EFA-4FB4-BB23-61ADB3D62C19}"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