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519545-35D9-4FE1-9670-E02AC0E854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0D38F1-B7CF-46C2-AC78-7FD3C420A1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C46AFE-5963-4FD2-99C4-F0D62115F9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A41DDD-CF25-4C01-B57D-7BD1D3AF39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A1D45000-6CCD-461F-8A44-E840C1F94E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4B9C047-AB2E-4D15-8ADB-C5592AC189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571A6C6-56EF-4810-B9C0-A4FB9CFF8E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BB91F29-2BE9-46AE-BF43-498CC7ED8D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26E6DFF-ACF6-43F1-97AC-C667B75B7D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817A81E-1508-4B69-B947-516AA7309F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34427BC-EE7C-4D07-86F0-45388D63E8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0E868F-8999-416F-9431-416782FBF9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3BE1489-D713-4873-A58B-7FA7E8F348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33C393C-0D7B-434A-B2A6-D641920D9A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A5ACF78-7CC0-44E9-B704-E9208BB8DE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D1EB1641-E29F-44BF-BCA9-C16BEE5003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E7492BEF-B7E0-42F3-911A-8664B7273A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B4CA31-E704-4D93-A67E-1ED3696B9A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10150F-ED4E-45A2-9676-9E7AF63696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BEE3AC-C515-4F89-9F26-9AE256C672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A6B4A6-6DCE-4E38-B699-8E1685B8D9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6D833-5751-45F6-B694-89302C5F1A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187A5-91E8-4638-8246-9B41FD8B10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C3936-DF2E-47AD-83EC-241999EAFD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70AAC-5A52-4996-A15C-FC58E580A14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A7F01-0648-427B-81A5-605874C4845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3ff"/>
                </a:solidFill>
                <a:latin typeface="Arial"/>
              </a:rPr>
              <a:t>The opportunities and challenges of urban planning in practice – The Case of Maseru</a:t>
            </a:r>
            <a:endParaRPr b="0" lang="en-US" sz="3600" spc="-1" strike="noStrike">
              <a:solidFill>
                <a:srgbClr val="e3e3ff"/>
              </a:solidFill>
              <a:latin typeface="Arial"/>
            </a:endParaRPr>
          </a:p>
        </p:txBody>
      </p:sp>
      <p:sp>
        <p:nvSpPr>
          <p:cNvPr id="123"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seru City Counci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patial Planning …..</a:t>
            </a:r>
            <a:endParaRPr b="0" lang="en-US" sz="4400" spc="-1" strike="noStrike">
              <a:solidFill>
                <a:srgbClr val="e3e3ff"/>
              </a:solidFill>
              <a:latin typeface="Arial"/>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atial planning is by nature statutory and although recent international best practices show that planning has significantly shifted towards collaborative and participatory approaches, success has in the past depended on appropriate and effectively implemented legislation;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mplementation of planning laws in Lesotho has generally not been very effectiv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hallenges of urban planning in Maseru</a:t>
            </a:r>
            <a:endParaRPr b="0" lang="en-US" sz="4000" spc="-1" strike="noStrike">
              <a:solidFill>
                <a:srgbClr val="e3e3ff"/>
              </a:solidFill>
              <a:latin typeface="Arial"/>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in Maseru that the country’s most significant urban challenges are seen, including: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pid population growth,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estruction of much of the city’s physical infrastructure due to rapid population growth,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nd tenure issue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sharp increase in land prices and rent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 prevalence of HIV/AID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 rate of unemployment,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accessible infrastructural services such as water, electricity, road network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agmented policies all aimed at addressing urban management,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 levels of poverty,</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oradic urban sprawl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rban planning not implemented to the latter (development control aspect onl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Key actors in urban planning in Maseru</a:t>
            </a:r>
            <a:endParaRPr b="0" lang="en-US" sz="3600" spc="-1" strike="noStrike">
              <a:solidFill>
                <a:srgbClr val="e3e3ff"/>
              </a:solidFill>
              <a:latin typeface="Arial"/>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stry of Local Government &amp; Chieftainship</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artment of Lands, Survey and Physical Planning</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seru Municipal Council</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sotho Housing and Land Development Corporation</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artment of Housing</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stry of Public Works and Transport</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stry of Natural Resources</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SCO</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C</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Absence of integrated planning</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Uncoordinated and often conflicting plans (case of Ha Mabot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Urbanization?</a:t>
            </a:r>
            <a:endParaRPr b="0" lang="en-US" sz="3600" spc="-1" strike="noStrike">
              <a:solidFill>
                <a:srgbClr val="e3e3ff"/>
              </a:solidFill>
              <a:latin typeface="Arial"/>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rbanization is understood to refer to a process by which an increasing proportion of a country’s population ends up living in towns and citie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stantial differences exist in the way in which different countries divide their populations into urban and rural;</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erent criteria have been used in various countries, including population size, dominant economic activities/functions and legal declar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Urbanization in Lesotho</a:t>
            </a:r>
            <a:endParaRPr b="0" lang="en-US" sz="3600" spc="-1" strike="noStrike">
              <a:solidFill>
                <a:srgbClr val="e3e3ff"/>
              </a:solidFill>
              <a:latin typeface="Arial"/>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gal declaration has been used to define urban areas, with the inherent drawback that often such definition is not based on any functional or statistical criteria;</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instance, Lesotho had 11 proclaimed urban centres up to June 1980, after which an additional 5 rural settlements with a combined population of over 30 000 people were proclaimed as urban, thereby bringing the total number of urban centres in Lesotho to 16;</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1986 the 5 urban centres that had been added in 1980 were again re-designated as rural;</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2006, yet another hitherto rural settlement of Semonkong had been gazetted as urban, thereby increasing the number of urban areas to 12;</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se shifts make it extremely difficult to compute the level of Lesotho’s urbanization with any degree of certaint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3ff"/>
                </a:solidFill>
                <a:latin typeface="Arial"/>
              </a:rPr>
              <a:t>Urbanisation …</a:t>
            </a:r>
            <a:endParaRPr b="0" lang="en-US" sz="3600" spc="-1" strike="noStrike">
              <a:solidFill>
                <a:srgbClr val="e3e3ff"/>
              </a:solidFill>
              <a:latin typeface="Arial"/>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level of urbanization in Lesotho stood at 17%, a figure which was somewhat low compared to some of the Southern African countries;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more recent survey (CWIQ Survey 2002)put the level of urbanization in Lesotho at 23%;</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aseru City continues to increase its share of Lesotho’s urban population since 1976;</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rapid expansion of the industrial and commercial base in recent years, and the poor performance of Lesotho’s agricultural sector, has given an impetus to the migration of large numbers of the rural population to the City.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3ff"/>
                </a:solidFill>
                <a:latin typeface="Arial"/>
              </a:rPr>
              <a:t>Population Indicators</a:t>
            </a:r>
            <a:endParaRPr b="0" lang="en-US" sz="2800" spc="-1" strike="noStrike">
              <a:solidFill>
                <a:srgbClr val="e3e3ff"/>
              </a:solidFill>
              <a:latin typeface="Arial"/>
            </a:endParaRPr>
          </a:p>
        </p:txBody>
      </p:sp>
      <p:graphicFrame>
        <p:nvGraphicFramePr>
          <p:cNvPr id="131" name=""/>
          <p:cNvGraphicFramePr/>
          <p:nvPr/>
        </p:nvGraphicFramePr>
        <p:xfrm>
          <a:off x="0" y="1600200"/>
          <a:ext cx="9144000" cy="4691160"/>
        </p:xfrm>
        <a:graphic>
          <a:graphicData uri="http://schemas.openxmlformats.org/drawingml/2006/table">
            <a:tbl>
              <a:tblPr/>
              <a:tblGrid>
                <a:gridCol w="1690560"/>
                <a:gridCol w="1863720"/>
                <a:gridCol w="1862280"/>
                <a:gridCol w="1863720"/>
                <a:gridCol w="1863720"/>
              </a:tblGrid>
              <a:tr h="564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dicator</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7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06</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65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tal Popul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216,81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606,0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841,96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872,72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Popul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27,435</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88,02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12,444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444,541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5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rban as % of total population</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0.5</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1.8</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7</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seru population</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5,031</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98,01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37,83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27,88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33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seru as % of total population</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1</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7.5</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2.2</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5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seru as % of urban population</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5.2</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2.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6.0</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1.3</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seru growth rate</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5%</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opulation Projections - 2030</a:t>
            </a:r>
            <a:endParaRPr b="0" lang="en-US" sz="4400" spc="-1" strike="noStrike">
              <a:solidFill>
                <a:srgbClr val="e3e3ff"/>
              </a:solidFill>
              <a:latin typeface="Arial"/>
            </a:endParaRPr>
          </a:p>
        </p:txBody>
      </p:sp>
      <p:graphicFrame>
        <p:nvGraphicFramePr>
          <p:cNvPr id="133" name=""/>
          <p:cNvGraphicFramePr/>
          <p:nvPr/>
        </p:nvGraphicFramePr>
        <p:xfrm>
          <a:off x="380880" y="1828800"/>
          <a:ext cx="8077320" cy="4343400"/>
        </p:xfrm>
        <a:graphic>
          <a:graphicData uri="http://schemas.openxmlformats.org/drawingml/2006/table">
            <a:tbl>
              <a:tblPr/>
              <a:tblGrid>
                <a:gridCol w="2694240"/>
                <a:gridCol w="2692440"/>
                <a:gridCol w="2690640"/>
              </a:tblGrid>
              <a:tr h="755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bjec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seru 200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going sprawl</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16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Popul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27 88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00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8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PA Popul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94 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55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7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A Popul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48 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00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5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PA ex. MUA</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6 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55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9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telite Town Popul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1 5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5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e3ff"/>
                </a:solidFill>
                <a:latin typeface="Arial"/>
              </a:rPr>
              <a:t>Status of Maseru</a:t>
            </a:r>
            <a:endParaRPr b="0" lang="en-US" sz="32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re is a general recognition that Maseru City has today become an important settlement with regional, national and international function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city stands out as an undisputable primate settlement in Lesotho, and as an administrative, industrial and commercial capital of the country;</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ts growth, both in terms of population and physical development, has far outpaced the provision of services, a problem that poses serious challenges for urban plann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3ff"/>
                </a:solidFill>
                <a:latin typeface="Arial"/>
              </a:rPr>
              <a:t>Social Aspects</a:t>
            </a:r>
            <a:endParaRPr b="0" lang="en-US" sz="2800" spc="-1" strike="noStrike">
              <a:solidFill>
                <a:srgbClr val="e3e3ff"/>
              </a:solidFill>
              <a:latin typeface="Arial"/>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nce Maseru City has expanded amongst traditional villages and the City itself has largely grown through rural-urban migrations, it has retained a very strong rural outlook in social structure where modern and customary laws are applied side by side and where the poor and the rich are closely integrated;</a:t>
            </a:r>
            <a:endParaRPr b="0" lang="en-US" sz="2400" spc="-1" strike="noStrike">
              <a:solidFill>
                <a:srgbClr val="ffffff"/>
              </a:solidFill>
              <a:latin typeface="Arial"/>
            </a:endParaRPr>
          </a:p>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wever, a few traditional villages have remained clearly distinct and largely characterized by dilapidated housing and concentrations of poverty;</a:t>
            </a:r>
            <a:endParaRPr b="0" lang="en-US" sz="2400" spc="-1" strike="noStrike">
              <a:solidFill>
                <a:srgbClr val="ffffff"/>
              </a:solidFill>
              <a:latin typeface="Arial"/>
            </a:endParaRPr>
          </a:p>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milarly, the central business district and its surrounds (old Maseru reserve) have not been fully integrated with peri-urban areas in terms of service provision, with the latter areas remaining largely underserv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patial Planning Issues</a:t>
            </a:r>
            <a:endParaRPr b="0" lang="en-US" sz="4400" spc="-1" strike="noStrike">
              <a:solidFill>
                <a:srgbClr val="e3e3ff"/>
              </a:solidFill>
              <a:latin typeface="Arial"/>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tempts at spatial planning in Lesotho started soon after independence and continued sporadically until 1985, ending with the National Settlement Policy in 1990;</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the local level, spatial planning appears to predate independence;</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eries of plans were prepared for Maseru again ending with the Maseru Development Plan in 1990;</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aft MUPTS now in place – yet to be accepted as a working document/planning polic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31T09:06:23Z</dcterms:created>
  <dc:creator>Mantai Phaila</dc:creator>
  <dc:description/>
  <dc:language>en-US</dc:language>
  <cp:lastModifiedBy>Mantai Phaila</cp:lastModifiedBy>
  <dcterms:modified xsi:type="dcterms:W3CDTF">2011-04-05T06:36:29Z</dcterms:modified>
  <cp:revision>5</cp:revision>
  <dc:subject/>
  <dc:title>Urbanisation?</dc:title>
</cp:coreProperties>
</file>