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4761-64E6-421E-BB71-F4713D289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1B3C-65B5-4159-9F49-7D1D25C4098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0D13-E1DD-427D-978F-7AD5DC0AE94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FC29-BA82-46C3-AC62-100EB0F1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F62F-BAF2-4610-934F-AE257544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91B1-97E6-49D3-B092-296CBCD2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293A-F987-4A55-90AA-0C69D351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3E06-B68D-43D9-AC5E-B8A8E3AB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FDFD-F3AC-47A4-8A5E-463E33FA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16FC-D528-4C11-9D02-87272D6F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2708-2469-4F37-806C-8BC74607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4E37-A402-4ED4-9A6F-9528F286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72FB-3EF0-4413-9036-4E7E8013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FD07-6E65-4F04-9C9B-70F57B94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A98C-537B-4BE3-83CF-73A3E907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171B-1A54-4C3B-ADB0-AF9B5DB9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8DC9-541D-4185-AAF0-86C0EEE1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3314-DC0C-4C78-9323-F4C19E9A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3AC4-4B38-4BEF-BF5E-8B97B820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9E6C-8BDB-45D7-A591-6FB32F0C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C655-F544-4218-B496-B8066B86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A9EB-F1CA-4E21-A2F5-F8F7593C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CE72-4AEA-4FA7-A54D-9900A1EC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C215-A1B5-4630-98AF-890E6BAB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0687-E449-46EE-870F-12527E34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3278-19A1-4321-826E-18020758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6110-1EC1-4438-B07A-7D417CA7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E7AC-6C07-4153-9437-317A0E671A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FF33-2D95-4484-A29F-F4FF63102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sotho Water Wee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hakoe Cl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eru,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E. M. Les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96E8-F0A5-4939-950B-9C720B2BAAB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47680" y="1371600"/>
            <a:ext cx="173340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AR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64,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83360" y="76212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6,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0200" y="114300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93,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14840" y="198108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5,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24120" y="2666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13,6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898640" y="342900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,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94000" y="4952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2,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054240" y="58672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4,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33400" y="44956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2,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7680" y="304920"/>
            <a:ext cx="3137040" cy="91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WLANDS WATER SCHEME TARGETTED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OW TO IMPLEMENT THE SECTOR BUDGET SUPPOR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216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gal and regulation: EDF-ACP Cotonou Agre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regulation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ules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21644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tor Budget Support  (SBS) and calendar: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bursement is foreseen f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¼ of FY following joint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2590920"/>
          <a:ext cx="8839440" cy="4082760"/>
        </p:xfrm>
        <a:graphic>
          <a:graphicData uri="http://schemas.openxmlformats.org/drawingml/2006/table">
            <a:tbl>
              <a:tblPr/>
              <a:tblGrid>
                <a:gridCol w="2127240"/>
                <a:gridCol w="1473480"/>
                <a:gridCol w="1473120"/>
                <a:gridCol w="1228680"/>
                <a:gridCol w="1063440"/>
                <a:gridCol w="147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s in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1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2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3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for monitoring and sector dialo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762120"/>
          <a:ext cx="8534520" cy="541008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5"/>
          <p:cNvSpPr/>
          <p:nvPr/>
        </p:nvSpPr>
        <p:spPr>
          <a:xfrm>
            <a:off x="2286000" y="990720"/>
            <a:ext cx="4648320" cy="28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ARTNER COUNRY’S 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14600" y="1981080"/>
            <a:ext cx="16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reig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erv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00600" y="1905120"/>
            <a:ext cx="1676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3520" y="198108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sistance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9480" y="4648320"/>
            <a:ext cx="3505320" cy="121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ditions for disbur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8288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952880" y="4648320"/>
            <a:ext cx="35816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ough partner countr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ublic Financ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4"/>
          <p:cNvSpPr/>
          <p:nvPr/>
        </p:nvSpPr>
        <p:spPr>
          <a:xfrm>
            <a:off x="5715000" y="33526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p Arrow 15"/>
          <p:cNvSpPr/>
          <p:nvPr/>
        </p:nvSpPr>
        <p:spPr>
          <a:xfrm>
            <a:off x="1752480" y="2971800"/>
            <a:ext cx="228600" cy="15238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467480" y="182880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ax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o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>
            <a:off x="1905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7"/>
          <p:cNvSpPr/>
          <p:nvPr/>
        </p:nvSpPr>
        <p:spPr>
          <a:xfrm>
            <a:off x="6629400" y="2057400"/>
            <a:ext cx="762120" cy="484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8"/>
          <p:cNvSpPr/>
          <p:nvPr/>
        </p:nvSpPr>
        <p:spPr>
          <a:xfrm>
            <a:off x="4191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>
            <a:off x="2286000" y="1447920"/>
            <a:ext cx="46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AA36-CC43-49F6-91A0-18DA02EFCF0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96360" cy="398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ndations &amp; Building Blocks Being Put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5676840"/>
            <a:ext cx="9144000" cy="943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Industrial Wastewater Management Policy, Water and Sanitation Policy, Water Act-2008, After-Care-Strategy, Interim Strategy for Water and Sanitation Sector, other laws establishing Government Agenc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312408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H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57200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OCAL GOVERNMENT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19720" y="327672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OTHER GOVERNM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76520" y="2133720"/>
            <a:ext cx="1828800" cy="66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HWC (LESOT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365760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6520" y="4343400"/>
            <a:ext cx="2616120" cy="1227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DONOR COMMUNITY: TECHNICAL AS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76520" y="3009960"/>
            <a:ext cx="2590560" cy="943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GOs: (TRC, WORLD VIS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33920" y="2133720"/>
            <a:ext cx="2057400" cy="660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411480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19840" y="3733920"/>
            <a:ext cx="20192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WA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(W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 Box 13" descr=""/>
          <p:cNvPicPr/>
          <p:nvPr/>
        </p:nvPicPr>
        <p:blipFill>
          <a:blip r:embed="rId1"/>
          <a:stretch/>
        </p:blipFill>
        <p:spPr>
          <a:xfrm>
            <a:off x="6808680" y="4522680"/>
            <a:ext cx="204336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2"/>
          <a:stretch/>
        </p:blipFill>
        <p:spPr>
          <a:xfrm>
            <a:off x="5815080" y="2084400"/>
            <a:ext cx="310356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28600" y="2590920"/>
            <a:ext cx="1143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2920" y="3276720"/>
            <a:ext cx="1676160" cy="37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28600" y="213372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M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28600" y="518148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W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00080" y="837720"/>
            <a:ext cx="8967600" cy="1255320"/>
            <a:chOff x="100080" y="837720"/>
            <a:chExt cx="8967600" cy="1255320"/>
          </a:xfrm>
        </p:grpSpPr>
        <p:sp>
          <p:nvSpPr>
            <p:cNvPr id="111" name="AutoShape 20"/>
            <p:cNvSpPr/>
            <p:nvPr/>
          </p:nvSpPr>
          <p:spPr>
            <a:xfrm rot="10800000">
              <a:off x="100080" y="837360"/>
              <a:ext cx="8967600" cy="1255320"/>
            </a:xfrm>
            <a:prstGeom prst="pie">
              <a:avLst/>
            </a:prstGeom>
            <a:blipFill rotWithShape="0">
              <a:blip r:embed="rId3">
                <a:alphaModFix amt="61000"/>
              </a:blip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898200" y="1284120"/>
              <a:ext cx="714204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IMPLEMENT SECTOR BUDGET SUPPO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Meet: Current and Future Needs (MDG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2666880" y="914400"/>
            <a:ext cx="3962520" cy="3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Gothic"/>
              </a:rPr>
              <a:t>NOW URGENTL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28600" y="464832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8"/>
          <p:cNvSpPr/>
          <p:nvPr/>
        </p:nvSpPr>
        <p:spPr>
          <a:xfrm>
            <a:off x="8915400" y="2133720"/>
            <a:ext cx="0" cy="3504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150480" y="2057400"/>
            <a:ext cx="3240" cy="358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728640" y="181620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access to water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rules for tariffs and connection fees allowing for free basic water to vulnerable households developed, tested and approved by the LE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 new public standpipes serving about 15,000 persons established for providing access to water in areas with low connection rate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00 new domestic connections installed serving about 30,000 per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expansion:  connec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or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operating efficienc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policy and strategy for meter calibration and replacement developed and being implemen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W reduced to an average of 27% overall by March 2012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consumption reduced by 20% from M9.3m/annum in 2008/09 to M7.44m/annum in the 2011/12 financia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BS PROGRAMME IMPLEM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: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OTHO GOVERNMENT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legated (decentralized) authority by EU to G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FDP: sign financing agreement, donor coordination; GoL procurement procedures (assessment done by Pot for PFM); thresholds of contracts for: works, supplies, services, grant contracts, etc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NR: implementation: water sector agencies, reporting (M&amp;E)  (supervision and execution, etc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peration with donor comm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: procurement ?, ensures agreement is sign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LAN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 and financi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C.,Other stakeholders: NGO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e production capac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olong Project: for Maseru, TY, Roma and Mori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3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Towns Project: Maputsoe, TY, and Rom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and Peri-urban Project: rehabilitation of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Scootvlei WTP (to 5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WTP (to 2,0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a-Bothe boreholes (to 2,600m3/day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thing WTP (to 1,500m3/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koe-Thetsane: intake structure at Caledon River, 20ML WTP, transmission main, gravity m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production capacity increased by 29.52ML/day by March 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190512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rbishment and upgrading of the Ratjomose WWT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WWTP at Agric Coll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, infilling and extension of sewerage systems in the Ratjomos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sewerage systems in the Agric Colleg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rban sanitation serv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for Urban Sani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on-site disposal systems (VIPs) and conversion of existing VIP latrines into water bor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 and expansion of sewerage networks and treatment plants in Maputsoe, TY and Roma (3-Towns Proj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new</cp:lastModifiedBy>
  <dcterms:modified xsi:type="dcterms:W3CDTF">2011-04-05T08:47:55Z</dcterms:modified>
  <cp:revision>388</cp:revision>
  <dc:subject/>
  <dc:title>Slide 1</dc:title>
</cp:coreProperties>
</file>