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8010-665E-489C-9CD6-AB0D0B4ED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A170-5C81-4712-A554-F052B3259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8B9C-F845-467E-93F8-5C07DD606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D79E-E23A-4915-A7E5-591BE48C4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736D-3C05-4BAA-95AB-987EE4FCE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D4B1-9E41-4D30-91A2-A95FFDEAF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B963-EE33-40DC-B9DD-DF1817EAB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5F5D-49CA-48BD-8D9B-8F2162D37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8752-806F-4AFF-96A8-C55DAEEF6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F4D8-0ECE-4F41-8497-9B080540F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25FE-11A3-4F1E-8FED-69CB18AE3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Al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Project area should include lower-income settlements where the non-served re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fford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Demand-driven services, Targeted subsi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stain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stitutional, financial, operational environmental &amp;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ale-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Build on local successful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ership/Particip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: Dialogue with all stakeholders including local PS &amp; previously excluded vulnerabl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0071B-70DE-4ECE-B85A-058BB7F2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3C225-16C1-4D64-9105-471C2224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EAC47-1341-4853-9575-CDE77053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AD8AF-8157-4056-9054-8B17F90D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6B375-E0E8-4803-9D85-1E98A6A8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7042C-39CE-4965-914A-639F7A49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FCFA0-9B90-4EAE-B91F-3E0A3A34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2AFED-0BEA-4D0B-82A5-1D4FCEED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201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5B4C0-AC00-40B5-9DD5-21BB94E1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A272A-21E6-43C8-AC6E-322A1B57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C29C3-C87A-403B-A0EA-FFACC5E6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BAD42-5B3A-4E1A-A56B-454F0F46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239C-69AF-43A0-9594-9B51C5C1718F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F202-0DA6-43B9-9C01-A78A0877369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403280" y="6524640"/>
            <a:ext cx="6337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ater and Sanitation EC-EIB Seminar</a:t>
            </a:r>
            <a:br>
              <a:rPr sz="1800"/>
            </a:br>
            <a:br>
              <a:rPr sz="1800"/>
            </a:br>
            <a:r>
              <a:rPr b="1" i="1" lang="en-GB" sz="2400" spc="-1" strike="noStrike">
                <a:solidFill>
                  <a:srgbClr val="015cab"/>
                </a:solidFill>
                <a:latin typeface="Arial"/>
              </a:rPr>
              <a:t>Session 3: Sanitation “supply”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a12f0b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Malawi Peri-Urban Water and Sanitation Project -</a:t>
            </a:r>
            <a:br>
              <a:rPr sz="2800"/>
            </a:b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Working with NGO’s to increase W&amp;S coverage </a:t>
            </a:r>
            <a:br>
              <a:rPr sz="2800"/>
            </a:br>
            <a:br>
              <a:rPr sz="2800"/>
            </a:br>
            <a:r>
              <a:rPr b="0" i="1" lang="en-GB" sz="2400" spc="-1" strike="noStrike">
                <a:solidFill>
                  <a:srgbClr val="015cab"/>
                </a:solidFill>
                <a:latin typeface="Arial"/>
              </a:rPr>
              <a:t>Brussels, 6 July 2010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46232-68F8-4B4B-AB45-CF5DA97D09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1B763-4FB0-4EC8-88D4-66BF8D306D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6480" y="847800"/>
            <a:ext cx="9156960" cy="5162400"/>
            <a:chOff x="-6480" y="847800"/>
            <a:chExt cx="9156960" cy="5162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6480" y="847800"/>
              <a:ext cx="9156960" cy="51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2768760"/>
              <a:ext cx="2633400" cy="14842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7B01D-6573-4F7F-B67E-BEF358241B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31808-D5F5-4C5C-BDEF-C9A6B760CF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7880" cy="551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1484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4A6BC-BE09-4DDB-83F7-53FB563585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41840" y="4248000"/>
            <a:ext cx="14781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L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360" y="1722600"/>
            <a:ext cx="1476360" cy="6984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63840" y="2852640"/>
            <a:ext cx="2217960" cy="698760"/>
          </a:xfrm>
          <a:prstGeom prst="flowChartProcess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6080" y="4186080"/>
            <a:ext cx="14763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B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5360" y="620640"/>
            <a:ext cx="1476360" cy="69840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U ACP 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2"/>
            <a:endCxn id="84" idx="0"/>
          </p:cNvCxnSpPr>
          <p:nvPr/>
        </p:nvCxnSpPr>
        <p:spPr>
          <a:xfrm>
            <a:off x="4473360" y="1318680"/>
            <a:ext cx="1080" cy="4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5" idx="2"/>
            <a:endCxn id="83" idx="0"/>
          </p:cNvCxnSpPr>
          <p:nvPr/>
        </p:nvCxnSpPr>
        <p:spPr>
          <a:xfrm flipH="1" rot="16200000">
            <a:off x="5029200" y="2995200"/>
            <a:ext cx="697320" cy="1808640"/>
          </a:xfrm>
          <a:prstGeom prst="bentConnector3">
            <a:avLst>
              <a:gd name="adj1" fmla="val 6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6" idx="0"/>
          </p:cNvCxnSpPr>
          <p:nvPr/>
        </p:nvCxnSpPr>
        <p:spPr>
          <a:xfrm rot="5400000">
            <a:off x="3346200" y="3058920"/>
            <a:ext cx="635400" cy="1620000"/>
          </a:xfrm>
          <a:prstGeom prst="bentConnector3">
            <a:avLst>
              <a:gd name="adj1" fmla="val 76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64000" y="134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tribu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5467320"/>
            <a:ext cx="147780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5" idx="0"/>
            <a:endCxn id="84" idx="2"/>
          </p:cNvCxnSpPr>
          <p:nvPr/>
        </p:nvCxnSpPr>
        <p:spPr>
          <a:xfrm flipV="1">
            <a:off x="4473360" y="2420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62640" y="2421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an/ grant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5733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On-lending agre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00068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rtnership 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0"/>
            <a:endCxn id="83" idx="3"/>
          </p:cNvCxnSpPr>
          <p:nvPr/>
        </p:nvCxnSpPr>
        <p:spPr>
          <a:xfrm flipV="1" rot="16200000">
            <a:off x="7043400" y="4573080"/>
            <a:ext cx="870480" cy="91836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66560" y="5467320"/>
            <a:ext cx="147816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6" idx="1"/>
            <a:endCxn id="98" idx="0"/>
          </p:cNvCxnSpPr>
          <p:nvPr/>
        </p:nvCxnSpPr>
        <p:spPr>
          <a:xfrm flipV="1" rot="10800000">
            <a:off x="1205640" y="4535280"/>
            <a:ext cx="910440" cy="93240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989440" y="5467320"/>
            <a:ext cx="3159000" cy="698400"/>
          </a:xfrm>
          <a:prstGeom prst="flowChartProcess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Private Service Contr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6" idx="2"/>
            <a:endCxn id="100" idx="0"/>
          </p:cNvCxnSpPr>
          <p:nvPr/>
        </p:nvCxnSpPr>
        <p:spPr>
          <a:xfrm flipH="1" rot="16200000">
            <a:off x="3420360" y="4318560"/>
            <a:ext cx="583200" cy="1715040"/>
          </a:xfrm>
          <a:prstGeom prst="bentConnector3">
            <a:avLst>
              <a:gd name="adj1" fmla="val 55281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3" idx="2"/>
            <a:endCxn id="100" idx="0"/>
          </p:cNvCxnSpPr>
          <p:nvPr/>
        </p:nvCxnSpPr>
        <p:spPr>
          <a:xfrm rot="5400000">
            <a:off x="5164200" y="4350600"/>
            <a:ext cx="521280" cy="1713600"/>
          </a:xfrm>
          <a:prstGeom prst="bentConnector3">
            <a:avLst>
              <a:gd name="adj1" fmla="val 49965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056040" y="48736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rformance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3933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mplementa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2749C-6732-42C4-B88B-9BC3BD9F96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caling up NGO’s service enabler role through projec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342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kiosk sites in GIS system for PSP to construct 700 kio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up associated WU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out 70,000 latr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awareness building and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lab bui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private pit latrine emptying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lper; Ni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we have the NGO’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ongwe: WaterAid –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ntyre: -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588000" y="227664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CB36B-C2F2-40B7-9F8A-6FE9B3CC51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Procuring an NGO for Blantyre 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identified 3 potential NGO’s at outs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’s need local grass-root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CBO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bid competitively (WaterAid no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to consul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00720" y="2276640"/>
            <a:ext cx="35701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71891-4FC9-4F90-9D43-B9190E2C2E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stricted tender carried ou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tender for Expression of Interest (E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expressions of interest from int’l &amp; lo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re-qualified bi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win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4P, on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ture in 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g help: </a:t>
            </a:r>
            <a:r>
              <a:rPr b="0" lang="fr-CH" sz="2400" spc="-1" strike="noStrike">
                <a:solidFill>
                  <a:srgbClr val="cc3300"/>
                </a:solidFill>
                <a:latin typeface="Arial"/>
              </a:rPr>
              <a:t>Transaction Advisory Services (Fichtner Consulting) to prepare tender documents, raise market awareness, manage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25838-FE1E-4A4B-8B6D-052E76A8C3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ome early conclusions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 can play a very important role in reaching the MDG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specially crucial on the sani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cluding NGO’s in the project structure simply adds mode parties and thu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f sanitation is out of Water Supplier’s remit, even more parties (city council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e walked a thin line to procure competitively, but market is thin: Would other bidders have done as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inning bidder confirmed sanitation marketing approa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complaints received from bidders other than tigh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AF529-E755-471D-87E6-E238D083A3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84AA5-35BD-4C9C-AACD-4A6243623C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828720" y="-531720"/>
            <a:ext cx="10693440" cy="75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141720"/>
            <a:ext cx="2016000" cy="649080"/>
          </a:xfrm>
          <a:prstGeom prst="wedgeRectCallout">
            <a:avLst>
              <a:gd name="adj1" fmla="val 57638"/>
              <a:gd name="adj2" fmla="val 85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0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2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797360"/>
            <a:ext cx="2016000" cy="649440"/>
          </a:xfrm>
          <a:prstGeom prst="wedgeRectCallout">
            <a:avLst>
              <a:gd name="adj1" fmla="val 79449"/>
              <a:gd name="adj2" fmla="val 55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15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AF5D3-A76E-492A-B114-0290AEBDED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ain Project Objectives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w income areas of the cities of Blantyre and Lilongwe by September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-hour water supply for 408,000 people in Blantyre who currently receive it intermit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competent and sustainable Wat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Sector Service Contractor with Performance 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5614A-8E1F-4EA4-8BDC-C8A06C8140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takeholders and project budget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58560"/>
            <a:ext cx="359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keholders bef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longw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ntyr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isatio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WD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I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, C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Income Are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y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800" y="1258560"/>
            <a:ext cx="3741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Budget in EUR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U grant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14.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 lo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ter Board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le EUW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hich for LIA’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7.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B691E-6A3B-4E61-8A26-CE1EE4A5CE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ost challenging task is the water and sanitation delivery in the LIA’s: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35 Kio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,000 VIP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LI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land ten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paymen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rine investment hu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7AA61-8B5E-429D-B7FB-FAC3A0683D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2B7FC-23D1-4BC9-B7F5-2B4F16FB05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FAB29-C8DC-4E23-A546-EC37C6CE0A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33760" y="-9360"/>
            <a:ext cx="3643200" cy="64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BEDD8-5DB8-4F27-AFDB-092EA4656C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plicating successful models: WaterAid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 (in partnership with LWB) demonstrated a succesful local kiosk managem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ter User Association” built on a strong social/community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UA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 up to 100 kio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customer interface for Wa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A’s: charge slightly increased fe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 kiosk operators &amp; WUA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 prior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osk design with “superstructure” against vandals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has sensitised WaterBoards who now have special LIA unit to deal with WU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marketing vs slab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mal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b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 latrine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92720" y="4554360"/>
            <a:ext cx="3384720" cy="19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0A746-A30B-41B4-974C-52D0E2A13D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VANGILST</cp:lastModifiedBy>
  <dcterms:modified xsi:type="dcterms:W3CDTF">2010-07-05T19:49:59Z</dcterms:modified>
  <cp:revision>290</cp:revision>
  <dc:subject/>
  <dc:title>PowerPoint Presentation</dc:title>
</cp:coreProperties>
</file>