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25AA7-B9A9-4415-B04D-DB0BECC91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B4617-FCDA-4485-B9B8-93EF8807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B1D3B-46C4-4851-8437-B4E8D1A69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931C6-BE17-4B0B-88FD-E7C5B346B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322F8-B1A7-4A3C-A109-903FB55AA4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1D3130-8008-442C-B4E1-688E5E02EC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784EEA-AD83-432C-85B0-E9F1FFA220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E055B-84E4-47B9-9CB3-764193731C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6AFBBB-3008-4D26-BDD2-F9E9782E4A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4F98F-D9F4-4FA3-9826-6939B8727B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FC148-5432-4094-AAC6-B98A4099FB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9D4F0-265D-4AE7-A55E-6B77B324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4CAFE-CBB8-4C2D-9894-48310EB793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615A8-E88E-4FB6-8238-C9310EE158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52DAD-144F-4EE6-90C8-889F913D69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F45B36-5D51-4714-BD19-1E94695D049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B3478D-5B8B-48A1-9450-AC9C109F7F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E0719-1A95-4B3A-B6B6-622A90939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54C4-3215-4E02-A3D5-F3DD3B10E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D4063-4831-4A36-A32E-DCD9AA14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E0CC-2799-48CA-A68B-55C3205DF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CDC1-4467-4378-905D-7A580DC56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02958-FC0B-459F-9B10-498B062C7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1899-F0E0-46D6-8AA7-3574DB549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E74AA8FE-7BED-4A59-9309-CFF652CEA44A}" type="datetime11">
              <a:rPr b="0" lang="en-US" sz="1400" spc="-1" strike="noStrike">
                <a:solidFill>
                  <a:srgbClr val="ffffff"/>
                </a:solidFill>
                <a:latin typeface="Times New Roman"/>
              </a:rPr>
              <a:t>17:56:3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A178-23D9-45E8-8E45-E799E88B5F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1E0C-ED22-48CE-858B-71B4E6FBAB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13EE2D16-73F1-4C69-A94A-F7932021A239}" type="datetime11">
              <a:rPr b="0" lang="en-US" sz="1400" spc="-1" strike="noStrike">
                <a:solidFill>
                  <a:srgbClr val="ffffff"/>
                </a:solidFill>
                <a:latin typeface="Times New Roman"/>
              </a:rPr>
              <a:t>17:56:38</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69412A8-0638-43C9-A562-332C2C6AF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82CB68D-0CA9-4F6A-BED3-731CB4F74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0D87E78-E5F2-48F4-BE23-CA15ABB3F1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36F7272-DC8D-41D5-94C2-F6A5B88868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5F15D20A-88F2-409D-BF97-9CE7536B92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151EBB3-F5C4-4446-8241-BDB02A3C25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4E139CF-1404-4C47-A0BE-7A59BD653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D37C925-B6F5-4DAD-A95F-C05A21EAE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0D543BB6-5EDB-4418-A7B8-934468B820A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87D1042-F6C2-4903-9FBA-95ECBFF0723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317A722-4B44-4A47-BD47-FA8251D8E4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3ADEC75-F1BB-40AB-8EE3-352DA3905B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F0C8925-54A6-441D-81AA-D52D5CEC4C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B1968B7-9226-4487-A07B-D5515DD648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8F9C153-2E92-4B73-BDF3-A937B1133C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7A4A54D-02BB-441B-8A0A-ED4D7277B1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31BF068-7C51-4B18-A666-28B41753D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