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FEE12-1657-4FD2-B3E9-B2FA56AC5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8725-80F9-428A-B32B-42BCF022A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75BEE-02BC-44AC-9380-741AF31BD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83BAD-E04A-438F-B96E-CE3191FE0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85D066-CECC-486D-8C3E-164D411882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6C40A-EB83-4603-AECA-DFF6B8C60C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E2CE9-F110-4DBF-9F63-765A37121C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ED17A-0C00-49AC-8FA9-0FE3CDE05F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46DF4-CABD-419D-8114-FFBFF46D69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492B2-EE45-486E-AAB0-B7473BBFB8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8AC07-76E0-41A5-ACD2-B6B9D15E35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0423-A297-42C8-9052-54A7A2CC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54C43-44D7-4B26-A7C5-DFD1EDC44D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3E091-4C73-46B9-B1DF-555940BF4A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C4938-6188-429D-A4B6-A21E5659E8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4A16F8-497E-4E67-A0F8-AD2160E81C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4904BC-7CCE-4BBA-9E9B-C4AF9A8FB1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62333-72C4-4FBD-B83C-BFD4350B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A4872-BCEC-46BD-8B9E-024DEA4B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31A9-FB03-4665-A441-B518988A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F700-CD66-4AC0-9FEC-D371BB158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1D37-AFEE-428C-A434-EB1947738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766C-CF2E-49AF-905C-83FD335EE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D07F-6484-4B4C-BCD4-7AE5E91DE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3D6429DE-39FC-424B-B22D-28D30D64CB1A}" type="datetime11">
              <a:rPr b="0" lang="en-US" sz="1400" spc="-1" strike="noStrike">
                <a:solidFill>
                  <a:srgbClr val="ffffff"/>
                </a:solidFill>
                <a:latin typeface="Times New Roman"/>
              </a:rPr>
              <a:t>17:59:0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7267-DA47-4A0D-96F4-09B6C51452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69AF-7E9C-46A4-B601-BB72A6E58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6C7CAC1-A66C-4B19-BEE3-133A37464340}" type="datetime11">
              <a:rPr b="0" lang="en-US" sz="1400" spc="-1" strike="noStrike">
                <a:solidFill>
                  <a:srgbClr val="ffffff"/>
                </a:solidFill>
                <a:latin typeface="Times New Roman"/>
              </a:rPr>
              <a:t>17:59:07</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A37A846-E59F-4827-8990-A2783F5636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ECBADB4-70A0-4389-9898-2FDBBF9C5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35DE668-1261-423E-A04B-0EBDC7451E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E4EB0A3-3562-4A98-87A4-45E836DF1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8430D520-0AF5-46FE-B8EE-930EE10CEF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7F40C22-1F08-4217-8455-E2C2E4F85D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672E58F-A665-453F-B053-347CAA542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F5639F2-35D5-4915-A600-9E5CBFF2CC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9269B324-C640-4BD0-9E93-533C626DAD6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1E2935E-32EC-4122-B1C8-DC61A55C53B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B7DAF2C-D7F7-4724-83C0-25E7FB4243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0FE9524-AE5E-49D5-BDD7-42DE79034A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296C0CB-C683-4CD5-B779-0659F7430B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E8D3707-7AF8-41EB-9A40-50A61FA646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5322155-5E0A-4ACA-9471-F9C50955BC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294B0B0-9B55-46C6-A232-07A60BB69B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5F51DD3-47E4-4E29-B253-54A0DBA99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