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836D-E67C-4463-A0B4-1E83F895322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B7E1-8B6E-4910-97AF-5583B4EE19E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706A1-6FF8-4564-925C-F2084A8B1857}" type="datetime">
              <a:rPr b="0" lang="en-US" sz="1200" spc="-1" strike="noStrike">
                <a:solidFill>
                  <a:srgbClr val="ffffff"/>
                </a:solidFill>
                <a:latin typeface="Verdana"/>
              </a:rPr>
              <a:t>07/29/26</a:t>
            </a:fld>
            <a:r>
              <a:rPr b="0" lang="en-US" sz="1200" spc="-1" strike="noStrike">
                <a:solidFill>
                  <a:srgbClr val="ffffff"/>
                </a:solidFill>
                <a:latin typeface="Verdana"/>
              </a:rPr>
              <a:t> </a:t>
            </a:r>
            <a:fld id="{F84BF84E-45EE-4108-9335-52D8EB302998}"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B663A-CD16-42FC-84BE-785CB759BEE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2C8C-73BA-47F4-ADC6-23E7A91EAC2E}" type="datetime">
              <a:rPr b="0" lang="en-US" sz="1200" spc="-1" strike="noStrike">
                <a:solidFill>
                  <a:srgbClr val="ffffff"/>
                </a:solidFill>
                <a:latin typeface="Verdana"/>
              </a:rPr>
              <a:t>07/29/26</a:t>
            </a:fld>
            <a:r>
              <a:rPr b="0" lang="en-US" sz="1200" spc="-1" strike="noStrike">
                <a:solidFill>
                  <a:srgbClr val="ffffff"/>
                </a:solidFill>
                <a:latin typeface="Verdana"/>
              </a:rPr>
              <a:t> </a:t>
            </a:r>
            <a:fld id="{ABC64903-FAC4-422A-B145-D512F0F33B46}"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C628A-8E3D-4728-8391-68724610250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374C5-FEAC-442B-9E1F-BA8AA57D7F3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AC953-B238-48BB-BB60-35157B016F34}" type="datetime">
              <a:rPr b="0" lang="en-US" sz="1200" spc="-1" strike="noStrike">
                <a:solidFill>
                  <a:srgbClr val="ffffff"/>
                </a:solidFill>
                <a:latin typeface="Verdana"/>
              </a:rPr>
              <a:t>07/29/26</a:t>
            </a:fld>
            <a:r>
              <a:rPr b="0" lang="en-US" sz="1200" spc="-1" strike="noStrike">
                <a:solidFill>
                  <a:srgbClr val="ffffff"/>
                </a:solidFill>
                <a:latin typeface="Verdana"/>
              </a:rPr>
              <a:t> </a:t>
            </a:r>
            <a:fld id="{431993B1-981B-4B82-848B-975A365009E1}"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AF21D-4FB5-4497-9D46-ACAC7C47C59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98FE-FBC2-41E9-9F4E-C5E5D29142E3}" type="datetime">
              <a:rPr b="0" lang="en-US" sz="1200" spc="-1" strike="noStrike">
                <a:solidFill>
                  <a:srgbClr val="ffffff"/>
                </a:solidFill>
                <a:latin typeface="Verdana"/>
              </a:rPr>
              <a:t>07/29/26</a:t>
            </a:fld>
            <a:r>
              <a:rPr b="0" lang="en-US" sz="1200" spc="-1" strike="noStrike">
                <a:solidFill>
                  <a:srgbClr val="ffffff"/>
                </a:solidFill>
                <a:latin typeface="Verdana"/>
              </a:rPr>
              <a:t> </a:t>
            </a:r>
            <a:fld id="{95E886D5-C45C-4F85-B475-332656B07756}"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83C02-3791-4D15-AE36-FC96F54E367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55F31-714A-4466-B1D0-A5894068E5E7}" type="datetime">
              <a:rPr b="0" lang="en-US" sz="1200" spc="-1" strike="noStrike">
                <a:solidFill>
                  <a:srgbClr val="ffffff"/>
                </a:solidFill>
                <a:latin typeface="Verdana"/>
              </a:rPr>
              <a:t>07/29/26</a:t>
            </a:fld>
            <a:r>
              <a:rPr b="0" lang="en-US" sz="1200" spc="-1" strike="noStrike">
                <a:solidFill>
                  <a:srgbClr val="ffffff"/>
                </a:solidFill>
                <a:latin typeface="Verdana"/>
              </a:rPr>
              <a:t> </a:t>
            </a:r>
            <a:fld id="{F2FC6753-B561-43EC-A69E-157686EB35F6}"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33A13-2388-4A6F-A12A-A0597F98374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07383-273D-4183-B7F9-35D4DF0CEB69}" type="datetime">
              <a:rPr b="0" lang="en-US" sz="1200" spc="-1" strike="noStrike">
                <a:solidFill>
                  <a:srgbClr val="ffffff"/>
                </a:solidFill>
                <a:latin typeface="Verdana"/>
              </a:rPr>
              <a:t>07/29/26</a:t>
            </a:fld>
            <a:r>
              <a:rPr b="0" lang="en-US" sz="1200" spc="-1" strike="noStrike">
                <a:solidFill>
                  <a:srgbClr val="ffffff"/>
                </a:solidFill>
                <a:latin typeface="Verdana"/>
              </a:rPr>
              <a:t> </a:t>
            </a:r>
            <a:fld id="{97D30A8E-BE19-44C6-A11D-1ED4F0A05AE3}"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3539E-15E6-4AAB-B372-E052178B328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BBDA3-869D-49E5-B1D2-9B365F8B07BA}" type="datetime">
              <a:rPr b="0" lang="en-US" sz="1200" spc="-1" strike="noStrike">
                <a:solidFill>
                  <a:srgbClr val="ffffff"/>
                </a:solidFill>
                <a:latin typeface="Verdana"/>
              </a:rPr>
              <a:t>07/29/26</a:t>
            </a:fld>
            <a:r>
              <a:rPr b="0" lang="en-US" sz="1200" spc="-1" strike="noStrike">
                <a:solidFill>
                  <a:srgbClr val="ffffff"/>
                </a:solidFill>
                <a:latin typeface="Verdana"/>
              </a:rPr>
              <a:t> </a:t>
            </a:r>
            <a:fld id="{F3F2589B-5B88-4FC6-8377-A31F52B28D69}"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8BFBD-3B43-4B48-977A-372851C4C2B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AE58-D2D4-484E-A7B9-24B97CBDF643}" type="datetime">
              <a:rPr b="0" lang="en-US" sz="1200" spc="-1" strike="noStrike">
                <a:solidFill>
                  <a:srgbClr val="ffffff"/>
                </a:solidFill>
                <a:latin typeface="Verdana"/>
              </a:rPr>
              <a:t>07/29/26</a:t>
            </a:fld>
            <a:r>
              <a:rPr b="0" lang="en-US" sz="1200" spc="-1" strike="noStrike">
                <a:solidFill>
                  <a:srgbClr val="ffffff"/>
                </a:solidFill>
                <a:latin typeface="Verdana"/>
              </a:rPr>
              <a:t> </a:t>
            </a:r>
            <a:fld id="{6AEE56D5-8BDD-45EA-BCC8-300560F44CFC}"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1143B-F86C-44CE-A3AA-E00DBB2D2AA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BBC71-4DF8-4527-9379-75D211AE142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01B63-07B8-414B-BFF8-AD281BC2CC3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624FF-5E6D-418E-99C3-1082F8CF26C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84E7-D4DF-4CBA-83FE-47EDD03CABA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5803-6822-4892-A0C1-7608799652E6}" type="datetime">
              <a:rPr b="0" lang="en-US" sz="1200" spc="-1" strike="noStrike">
                <a:solidFill>
                  <a:srgbClr val="ffffff"/>
                </a:solidFill>
                <a:latin typeface="Verdana"/>
              </a:rPr>
              <a:t>07/29/26</a:t>
            </a:fld>
            <a:r>
              <a:rPr b="0" lang="en-US" sz="1200" spc="-1" strike="noStrike">
                <a:solidFill>
                  <a:srgbClr val="ffffff"/>
                </a:solidFill>
                <a:latin typeface="Verdana"/>
              </a:rPr>
              <a:t> </a:t>
            </a:r>
            <a:fld id="{2D4DBBE8-375B-417F-A339-E8442F778B06}"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23F6E-7C5A-4190-9C3D-C0B28FA0CF6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45630-6CD9-4B97-965D-AE2349A7971D}" type="datetime">
              <a:rPr b="0" lang="en-US" sz="1200" spc="-1" strike="noStrike">
                <a:solidFill>
                  <a:srgbClr val="ffffff"/>
                </a:solidFill>
                <a:latin typeface="Verdana"/>
              </a:rPr>
              <a:t>07/29/26</a:t>
            </a:fld>
            <a:r>
              <a:rPr b="0" lang="en-US" sz="1200" spc="-1" strike="noStrike">
                <a:solidFill>
                  <a:srgbClr val="ffffff"/>
                </a:solidFill>
                <a:latin typeface="Verdana"/>
              </a:rPr>
              <a:t> </a:t>
            </a:r>
            <a:fld id="{769DAFFF-FE90-429C-A12C-F52630F63626}"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2F56A-52F0-42C1-A78A-18433636ABF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0BED4-B7DB-420F-B640-906D28CFBD83}" type="datetime">
              <a:rPr b="0" lang="en-US" sz="1200" spc="-1" strike="noStrike">
                <a:solidFill>
                  <a:srgbClr val="ffffff"/>
                </a:solidFill>
                <a:latin typeface="Verdana"/>
              </a:rPr>
              <a:t>07/29/26</a:t>
            </a:fld>
            <a:r>
              <a:rPr b="0" lang="en-US" sz="1200" spc="-1" strike="noStrike">
                <a:solidFill>
                  <a:srgbClr val="ffffff"/>
                </a:solidFill>
                <a:latin typeface="Verdana"/>
              </a:rPr>
              <a:t> </a:t>
            </a:r>
            <a:fld id="{33751E27-B94D-4B38-A521-FE52AB2E94B2}"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4621-42D4-4ACD-94FC-92CE71D14E4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2EE51-953E-40AC-B75D-CEC9F6C6F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40835-4686-4A35-BFC0-813677322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40949-B444-4E1D-B626-5FDAF3650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3DA00-4873-42D0-8227-D647B3308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E088D4-3748-428B-865A-36A4B75405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09AA8-F2D7-4F10-8392-3FEB01330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FBC21-9570-478D-880F-072B410A9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261C7-D65B-4369-B116-5C587FF25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4763E-19DF-46F0-9420-5157698AD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B7092-6E7A-417B-8FCB-AD96D7D75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31D3A-FB88-4DE6-AF0A-9FCA184E6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4047F-6E2D-422A-BEAD-9EE070B8B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925D0-2875-43CB-8668-6298781A0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E15D8-9CA6-4CF5-A9D4-5158EAB31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9859D-7FC4-4331-A41E-9F1B73D73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02EE48-458C-478C-B196-6FA358A321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A5B311-9EE6-4F1C-B2FE-CEC8623D41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548EF-947B-4EEC-A6BD-12D231D29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7B10B-D2F0-47B4-B242-D884B200E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186FE-AD64-4238-A6AE-D4AE4F851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9FEC9-2BB0-48C7-956F-D5ACAD43B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F5A66-89EF-4ABA-94F9-95B76BF8C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BB0A1-B64A-4C0B-9809-A0A38B92A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7FB01-2F14-419B-8231-AB0F585D2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5A6C5-9EFE-4FC7-B9A9-DEB1AC1CEB5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ADF0C-C471-4872-86DF-6F33557871B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27BCC-E290-4053-B810-9B75818EB559}"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