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BA5EA-D99E-4838-AF4C-CB6AC47EF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2EFE1-C5C1-4AF2-B968-511003524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15B3A-3655-4D9A-8858-82BF8E66B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BD48C-177B-41F8-AB64-BBCE6C5BC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655F9-08BE-4D54-AF3E-753079AF5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33397-3686-413A-8164-2E47754CC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B9E4F-0EFB-43DE-AA9F-7E2C5A751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C1559-1CEF-4F6A-9F8B-8D159A118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8DA32-76EC-4ED6-A447-EEBB11216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66913-0308-4A42-8FCF-E5AFDE8C6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91C43-CBE9-4BB6-A65A-3664AC7D4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1D8DE-E848-4B31-8321-19D2157DA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298E6-5D9B-4CBD-83AA-90C9BD7AF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FE12D-1C2C-4765-A860-891C8E1FA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CB596-5DB7-4707-BC87-0CA252680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969C7-646D-4674-AFCC-2FFDD1116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3FF71-1199-42C7-A33F-3D0980AEF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D172D-9F2F-48B9-BD3B-68C5F69F0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26FD4-3A7E-4314-A1C1-BE258E4C1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F7B84-CEF0-4A90-87FA-E27CE0FF7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57EA6-BB4F-49A9-952A-8C64AB170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7ABDB-DE8A-4AD0-957D-5567A8C7C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B45EC-F963-47C6-8187-A70DD3ADD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A05AF-5308-4661-84FE-ED45DB2D4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C297D-60C1-4BCD-A6DF-7AA4089313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81405-007E-41F7-B3D4-F8BDD5690E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Nairobi Water and Sanitation, Workshop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52280" y="2285640"/>
            <a:ext cx="87631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8989"/>
                </a:solidFill>
                <a:latin typeface="Calibri"/>
              </a:rPr>
              <a:t>Sector Budget Support: Lesotho Experienc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8989"/>
                </a:solidFill>
                <a:latin typeface="Calibri"/>
              </a:rPr>
              <a:t>Fairview Hotel,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8989"/>
                </a:solidFill>
                <a:latin typeface="Calibri"/>
              </a:rPr>
              <a:t>Nairobi, 18 - 21 October, 201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8989"/>
                </a:solidFill>
                <a:latin typeface="Calibri"/>
              </a:rPr>
              <a:t>by: E. M. Lesom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TERVENTION BY SBS: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xpected results and activitie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2255400"/>
            <a:ext cx="8229600" cy="444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ordination capacity addressing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spcBef>
                <a:spcPts val="601"/>
              </a:spcBef>
              <a:buClr>
                <a:srgbClr val="000000"/>
              </a:buClr>
              <a:buFont typeface="Calibri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nitoring func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spcBef>
                <a:spcPts val="601"/>
              </a:spcBef>
              <a:buClr>
                <a:srgbClr val="000000"/>
              </a:buClr>
              <a:buFont typeface="Calibri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arification of institutional responsibili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spcBef>
                <a:spcPts val="601"/>
              </a:spcBef>
              <a:buClr>
                <a:srgbClr val="000000"/>
              </a:buClr>
              <a:buFont typeface="Calibri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pacity develop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livery of water supply and sanitation services: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urban and rural areas improve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tor dialogue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nhanc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Sector Communication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for  improved services deliver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2666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bserve among others importance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tor Coordination Meeting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sotho Youth Water and Action Tea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sotho Water Partnership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s lett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ebsit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28760" y="1522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Calibri"/>
              </a:rPr>
              <a:t>INFORMATION FLOW CHAR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Content Placeholder 3" descr=""/>
          <p:cNvPicPr/>
          <p:nvPr/>
        </p:nvPicPr>
        <p:blipFill>
          <a:blip r:embed="rId1"/>
          <a:stretch/>
        </p:blipFill>
        <p:spPr>
          <a:xfrm>
            <a:off x="228600" y="914400"/>
            <a:ext cx="86868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essons learned when introducing change and implementing refor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52280" y="1752120"/>
            <a:ext cx="876312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refully map-up direction you want to take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t all stakeholders involved in influencing decisions support reforms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inful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nce started reforms for good course go straight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ally everybody around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municate effectively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nagement the change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y open-up good opportunities for all stakeholders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93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 Black"/>
              </a:rPr>
              <a:t>Thank</a:t>
            </a:r>
            <a:r>
              <a:rPr b="1" lang="en-US" sz="8800" spc="-1" strike="noStrike">
                <a:solidFill>
                  <a:srgbClr val="000000"/>
                </a:solidFill>
                <a:latin typeface="Calibri"/>
              </a:rPr>
              <a:t> You: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2819160"/>
            <a:ext cx="8229600" cy="330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 Black"/>
              </a:rPr>
              <a:t>Comments !!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 Black"/>
              </a:rPr>
              <a:t>Comments !!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 Black"/>
              </a:rPr>
              <a:t>Questions !!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ector background until 199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152280" y="990360"/>
            <a:ext cx="883944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During 1986-1995 the followings were don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2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spcBef>
                <a:spcPts val="575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Department of Water Affairs was established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spcBef>
                <a:spcPts val="575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Completed Lesotho Highlands Water Project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spcBef>
                <a:spcPts val="575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Established DRWS and SWAP for rural settings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spcBef>
                <a:spcPts val="575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Combined Ministry of Lesotho Water Project with Ministry of Water, Energy, and Mining and formed Ministry of Natural Resources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Sector situation analysis for 1996-1998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ater sector fragmentation became obstacle for project appraisal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mmenced Lesotho Highlands Water Phase-I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veloped After-Care-Strateg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76320"/>
            <a:ext cx="883944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e road for water sector improve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228600" y="1600200"/>
            <a:ext cx="87631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ater Resources Management Policy – 1999 was endorsed by Cabine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dustry Wastewater Management Policy endors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ater Sector Improvement Program developed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wlands Water Supply Unit was established in 2002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olicy, Planning, and Strategy Unit was established to advise formulation and developmen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 2003 Commissioner of Water recruited and tasked to driver the reform proces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binet endorsed Water and  Sanitation Polic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457200" y="1981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nor coordination, various missions were receiv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gressively developed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ater sector program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at was based o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tor Policy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tor strategy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tor budget and medium-term expenditu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ender balanced Steering Committee (SC) establish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ater and Sanitation Policy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228600" y="1981080"/>
            <a:ext cx="87631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ater Sector endorsed feedback from stakeholders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C developed IWSS aiming a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mplementing Water and Sanitation Policy (WSP)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uring funding for Water Sector development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tor also developing Financing Strategy for further implementation of IWS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omplete IWSS by end of March 2010, and Cabinet endorse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mplement IWSS for financial years: 2010 to 2012,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evelop, complete, and endorse a Five year sector strategy by end of 2011 for period: 2012 to 2017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Process (roadmap) for development of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Interim Water and Sanitation Sector Strategy (IWSS)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221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BASELINE AND TARGETS: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SSUES OF WATER SERVICE DELIVERY TO MEET MDGs</a:t>
            </a:r>
            <a:br>
              <a:rPr sz="32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bjective of SBS is to address Policy statements: 2 and 7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2" descr=""/>
          <p:cNvPicPr/>
          <p:nvPr/>
        </p:nvPicPr>
        <p:blipFill>
          <a:blip r:embed="rId1"/>
          <a:stretch/>
        </p:blipFill>
        <p:spPr>
          <a:xfrm>
            <a:off x="152280" y="2995560"/>
            <a:ext cx="8763120" cy="3786120"/>
          </a:xfrm>
          <a:prstGeom prst="rect">
            <a:avLst/>
          </a:prstGeom>
          <a:ln w="0">
            <a:noFill/>
          </a:ln>
        </p:spPr>
      </p:pic>
      <p:sp>
        <p:nvSpPr>
          <p:cNvPr id="94" name="Slide Number Placeholder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41724-580F-408C-A56B-74699605E3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inancing Agreement N</a:t>
            </a:r>
            <a:r>
              <a:rPr b="1" lang="en-US" sz="3200" spc="-1" strike="noStrike" baseline="30000">
                <a:solidFill>
                  <a:srgbClr val="000000"/>
                </a:solidFill>
                <a:latin typeface="Calibri"/>
              </a:rPr>
              <a:t>0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21644: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ector Policy Support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152280" y="1600200"/>
            <a:ext cx="883944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tor Budget Support and Technical Assistance – centralized managemen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sbursement (in Fixed tranche and Variable tranche) is foreseen for first quarter of Financial Year following joint review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eneral Conditions for disbursement of each tranch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pecific Conditions for tranche release of variable tranch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 evaluation arrangements for variable tranches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≥100%, ≥50%, &lt;50%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82296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Performance Indicator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304920" y="685800"/>
            <a:ext cx="861048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ollowing indicators will be used to measure urban performanc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461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2d700"/>
                </a:solidFill>
                <a:latin typeface="Arial"/>
              </a:rPr>
              <a:t>Improving access to water suppl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lear rules for tariffs and connection fees allowing for free basic water to vulnerable households developed, tested and approved by the Regulato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50 new public standpipes serving about 15,000 persons established for providing access to water in areas with low connection rates;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6,000 new domestic connections installed serving about 30,000 pers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461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2d700"/>
                </a:solidFill>
                <a:latin typeface="Arial"/>
              </a:rPr>
              <a:t>Improving operating efficienci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lear policy and strategy for meter calibration and replacement developed and being implemente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fW reduced to an average of 27% overall by March 2012;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nergy consumption reduced by 20% from M9.3m/annum in 2008/09 to M7.44m/annum in the 2011/12 financial ye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461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2d700"/>
                </a:solidFill>
                <a:latin typeface="Arial"/>
              </a:rPr>
              <a:t>Improving production capacit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2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ASA’s production capacity increased by 29.52ML/day by March 201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inalization of Institutional Arrangement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28600" y="1904760"/>
            <a:ext cx="8763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ASA is now a registered Water and Sewage Company (WASC) and shall be regulated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A has become multi-sector regulator.  Lesotho Electricity and Water  Authority (LEWA)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 asset management agency will be created during 2010/11 Financial Year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Bulk Water Authority will also be created during this Financial Year 2010/11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6T17:37:15Z</dcterms:created>
  <dc:creator>Windows User</dc:creator>
  <dc:description/>
  <dc:language>en-US</dc:language>
  <cp:lastModifiedBy>Windows User</cp:lastModifiedBy>
  <dcterms:modified xsi:type="dcterms:W3CDTF">2010-10-20T05:52:49Z</dcterms:modified>
  <cp:revision>378</cp:revision>
  <dc:subject/>
  <dc:title>Slide 1</dc:title>
</cp:coreProperties>
</file>