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gif" ContentType="image/gif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907588" cy="6858000"/>
  <p:notesSz cx="674211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742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2"/>
          </p:nvPr>
        </p:nvSpPr>
        <p:spPr>
          <a:xfrm>
            <a:off x="3820680" y="-36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70DE2C-8056-4D5B-B504-556FE3FF0304}" type="datetime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F8DBB10A-EF39-46A6-80DE-2F5684F105B6}" type="datetime10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8:07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698040" y="741240"/>
            <a:ext cx="534852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7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3"/>
          </p:nvPr>
        </p:nvSpPr>
        <p:spPr>
          <a:xfrm>
            <a:off x="0" y="9381960"/>
            <a:ext cx="292248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4"/>
          </p:nvPr>
        </p:nvSpPr>
        <p:spPr>
          <a:xfrm>
            <a:off x="382068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F8BF55-8F3F-41A9-9600-5D3ADAFDE7B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77AEF2-697C-4249-83F2-CB340460957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698400" y="741240"/>
            <a:ext cx="5348520" cy="37036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1DC855-9111-4030-8073-98AB116253E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698400" y="741240"/>
            <a:ext cx="5348520" cy="37036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6D569-EE5A-42A7-B601-4F09F35097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CE573-1CDC-459B-97A6-0AD7248F8D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68217-5DD2-4872-91C9-EB550E83ED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0964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2428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500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0964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2428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C6F1D-992E-4D21-8CC2-A99A3BC92A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7657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1DB0F-D133-4C14-A788-F492F334FE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0964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2428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500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0964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52428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5189E-8332-4FFC-B30A-87A7197CDE1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7657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0964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2428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9500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0964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52428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B337D-3D77-454E-93DC-821A094D35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55683-0944-4807-9128-C974F25833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7657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6D5D8-BAD6-4412-AC96-C9D7EFD694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7FE0A-2D69-42E8-A939-504A708034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7F59A-07F4-4CBD-B295-23676193AE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65D97-6E0A-429B-92E6-E03B1E4DFE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775720" y="6008760"/>
            <a:ext cx="496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32FC6-47D2-43B0-8209-8DF6825E89AC}" type="slidenum"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" name="Object 39"/>
          <p:cNvGraphicFramePr/>
          <p:nvPr/>
        </p:nvGraphicFramePr>
        <p:xfrm>
          <a:off x="7532640" y="6173640"/>
          <a:ext cx="392040" cy="27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Object 3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32640" y="6173640"/>
                    <a:ext cx="39204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" name="Picture 40" descr="\\Mark\C\My Documents\logo DED_2002_offiziell.jpg"/>
          <p:cNvPicPr/>
          <p:nvPr/>
        </p:nvPicPr>
        <p:blipFill>
          <a:blip r:embed="rId4"/>
          <a:stretch/>
        </p:blipFill>
        <p:spPr>
          <a:xfrm>
            <a:off x="6959520" y="6235560"/>
            <a:ext cx="355680" cy="2970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41" descr="031124_KFW_Logo_Entwicklung-Positiv-4c"/>
          <p:cNvPicPr/>
          <p:nvPr/>
        </p:nvPicPr>
        <p:blipFill>
          <a:blip r:embed="rId5"/>
          <a:stretch/>
        </p:blipFill>
        <p:spPr>
          <a:xfrm>
            <a:off x="8077320" y="6172200"/>
            <a:ext cx="685800" cy="293760"/>
          </a:xfrm>
          <a:prstGeom prst="rect">
            <a:avLst/>
          </a:prstGeom>
          <a:ln w="0">
            <a:noFill/>
          </a:ln>
        </p:spPr>
      </p:pic>
      <p:sp>
        <p:nvSpPr>
          <p:cNvPr id="5" name="Rectangle 43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c0c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AutoShape 44"/>
          <p:cNvSpPr/>
          <p:nvPr/>
        </p:nvSpPr>
        <p:spPr>
          <a:xfrm>
            <a:off x="358920" y="179280"/>
            <a:ext cx="9161280" cy="134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AutoShape 45"/>
          <p:cNvSpPr/>
          <p:nvPr/>
        </p:nvSpPr>
        <p:spPr>
          <a:xfrm>
            <a:off x="358920" y="1619280"/>
            <a:ext cx="9161280" cy="4768920"/>
          </a:xfrm>
          <a:prstGeom prst="roundRect">
            <a:avLst>
              <a:gd name="adj" fmla="val 3778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AutoShape 46">
            <a:hlinkClick r:id="" action="ppaction://hlinkshowjump?jump=previousslide"/>
          </p:cNvPr>
          <p:cNvSpPr/>
          <p:nvPr/>
        </p:nvSpPr>
        <p:spPr>
          <a:xfrm>
            <a:off x="8153280" y="6553080"/>
            <a:ext cx="660600" cy="304920"/>
          </a:xfrm>
          <a:custGeom>
            <a:avLst/>
            <a:gdLst>
              <a:gd name="textAreaLeft" fmla="*/ 19440 w 660600"/>
              <a:gd name="textAreaRight" fmla="*/ 641160 w 6606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6766" h="21600">
                <a:moveTo>
                  <a:pt x="0" y="0"/>
                </a:moveTo>
                <a:lnTo>
                  <a:pt x="46766" y="0"/>
                </a:lnTo>
                <a:lnTo>
                  <a:pt x="46766" y="21600"/>
                </a:lnTo>
                <a:lnTo>
                  <a:pt x="0" y="21600"/>
                </a:lnTo>
                <a:close/>
              </a:path>
              <a:path fill="lightenLess" w="46766" h="21600">
                <a:moveTo>
                  <a:pt x="0" y="0"/>
                </a:moveTo>
                <a:lnTo>
                  <a:pt x="46766" y="0"/>
                </a:lnTo>
                <a:lnTo>
                  <a:pt x="45366" y="1400"/>
                </a:lnTo>
                <a:lnTo>
                  <a:pt x="1400" y="1400"/>
                </a:lnTo>
                <a:close/>
              </a:path>
              <a:path fill="darken" w="46766" h="21600">
                <a:moveTo>
                  <a:pt x="46766" y="0"/>
                </a:moveTo>
                <a:lnTo>
                  <a:pt x="46766" y="21600"/>
                </a:lnTo>
                <a:lnTo>
                  <a:pt x="45366" y="20200"/>
                </a:lnTo>
                <a:lnTo>
                  <a:pt x="45366" y="1400"/>
                </a:lnTo>
                <a:close/>
              </a:path>
              <a:path fill="darkenLess" w="46766" h="21600">
                <a:moveTo>
                  <a:pt x="46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66" y="20200"/>
                </a:lnTo>
                <a:close/>
              </a:path>
              <a:path fill="lighten" w="46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66" h="21600">
                <a:moveTo>
                  <a:pt x="16377" y="10800"/>
                </a:moveTo>
                <a:lnTo>
                  <a:pt x="30390" y="3794"/>
                </a:lnTo>
                <a:lnTo>
                  <a:pt x="3039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AutoShape 47">
            <a:hlinkClick r:id="" action="ppaction://hlinkshowjump?jump=previousslide"/>
          </p:cNvPr>
          <p:cNvSpPr/>
          <p:nvPr/>
        </p:nvSpPr>
        <p:spPr>
          <a:xfrm>
            <a:off x="8158320" y="6550200"/>
            <a:ext cx="660240" cy="304560"/>
          </a:xfrm>
          <a:custGeom>
            <a:avLst/>
            <a:gdLst>
              <a:gd name="textAreaLeft" fmla="*/ 19440 w 660240"/>
              <a:gd name="textAreaRight" fmla="*/ 640800 w 6602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6796" h="21600">
                <a:moveTo>
                  <a:pt x="0" y="0"/>
                </a:moveTo>
                <a:lnTo>
                  <a:pt x="46796" y="0"/>
                </a:lnTo>
                <a:lnTo>
                  <a:pt x="46796" y="21600"/>
                </a:lnTo>
                <a:lnTo>
                  <a:pt x="0" y="21600"/>
                </a:lnTo>
                <a:close/>
              </a:path>
              <a:path fill="lightenLess" w="46796" h="21600">
                <a:moveTo>
                  <a:pt x="0" y="0"/>
                </a:moveTo>
                <a:lnTo>
                  <a:pt x="46796" y="0"/>
                </a:lnTo>
                <a:lnTo>
                  <a:pt x="45396" y="1400"/>
                </a:lnTo>
                <a:lnTo>
                  <a:pt x="1400" y="1400"/>
                </a:lnTo>
                <a:close/>
              </a:path>
              <a:path fill="darken" w="46796" h="21600">
                <a:moveTo>
                  <a:pt x="46796" y="0"/>
                </a:moveTo>
                <a:lnTo>
                  <a:pt x="46796" y="21600"/>
                </a:lnTo>
                <a:lnTo>
                  <a:pt x="45396" y="20200"/>
                </a:lnTo>
                <a:lnTo>
                  <a:pt x="45396" y="1400"/>
                </a:lnTo>
                <a:close/>
              </a:path>
              <a:path fill="darkenLess" w="46796" h="21600">
                <a:moveTo>
                  <a:pt x="46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96" y="20200"/>
                </a:lnTo>
                <a:close/>
              </a:path>
              <a:path fill="lighten" w="46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96" h="21600">
                <a:moveTo>
                  <a:pt x="16391" y="10800"/>
                </a:moveTo>
                <a:lnTo>
                  <a:pt x="30404" y="3794"/>
                </a:lnTo>
                <a:lnTo>
                  <a:pt x="3040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50"/>
          <p:cNvSpPr/>
          <p:nvPr/>
        </p:nvSpPr>
        <p:spPr>
          <a:xfrm>
            <a:off x="395280" y="6381720"/>
            <a:ext cx="1155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3E2A3-796D-477C-A17C-13E5A01D9368}" type="slidenum">
              <a:rPr b="1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Picture 119" descr="GDC Logo"/>
          <p:cNvPicPr/>
          <p:nvPr/>
        </p:nvPicPr>
        <p:blipFill>
          <a:blip r:embed="rId6"/>
          <a:stretch/>
        </p:blipFill>
        <p:spPr>
          <a:xfrm>
            <a:off x="8601120" y="338040"/>
            <a:ext cx="689040" cy="957240"/>
          </a:xfrm>
          <a:prstGeom prst="rect">
            <a:avLst/>
          </a:prstGeom>
          <a:ln w="0">
            <a:noFill/>
          </a:ln>
        </p:spPr>
      </p:pic>
      <p:sp>
        <p:nvSpPr>
          <p:cNvPr id="12" name="PlaceHolder 2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body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6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c0c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7"/>
          <p:cNvSpPr/>
          <p:nvPr/>
        </p:nvSpPr>
        <p:spPr>
          <a:xfrm>
            <a:off x="304920" y="304920"/>
            <a:ext cx="9242280" cy="6208560"/>
          </a:xfrm>
          <a:prstGeom prst="roundRect">
            <a:avLst>
              <a:gd name="adj" fmla="val 3380"/>
            </a:avLst>
          </a:prstGeom>
          <a:blipFill rotWithShape="0">
            <a:blip r:embed="rId2"/>
            <a:srcRect/>
            <a:stretch/>
          </a:blip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6"/>
          <p:cNvSpPr/>
          <p:nvPr/>
        </p:nvSpPr>
        <p:spPr>
          <a:xfrm>
            <a:off x="1981080" y="3048120"/>
            <a:ext cx="5867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856080" y="4724280"/>
            <a:ext cx="328032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rector of Water Sector Refo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nistry of Water and Irrig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ji House, Ngong Roa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.O.Box 19512-0020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irobi, Keny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Object 39"/>
          <p:cNvGraphicFramePr/>
          <p:nvPr/>
        </p:nvGraphicFramePr>
        <p:xfrm>
          <a:off x="7532640" y="6173640"/>
          <a:ext cx="392040" cy="27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Object 3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32640" y="6173640"/>
                    <a:ext cx="39204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4" name="Picture 40" descr="\\Mark\C\My Documents\logo DED_2002_offiziell.jpg"/>
          <p:cNvPicPr/>
          <p:nvPr/>
        </p:nvPicPr>
        <p:blipFill>
          <a:blip r:embed="rId4"/>
          <a:stretch/>
        </p:blipFill>
        <p:spPr>
          <a:xfrm>
            <a:off x="6959520" y="6235560"/>
            <a:ext cx="355680" cy="297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1" descr="031124_KFW_Logo_Entwicklung-Positiv-4c"/>
          <p:cNvPicPr/>
          <p:nvPr/>
        </p:nvPicPr>
        <p:blipFill>
          <a:blip r:embed="rId5"/>
          <a:stretch/>
        </p:blipFill>
        <p:spPr>
          <a:xfrm>
            <a:off x="8077320" y="6172200"/>
            <a:ext cx="685800" cy="2937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43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c0c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44"/>
          <p:cNvSpPr/>
          <p:nvPr/>
        </p:nvSpPr>
        <p:spPr>
          <a:xfrm>
            <a:off x="358920" y="179280"/>
            <a:ext cx="9161280" cy="134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45"/>
          <p:cNvSpPr/>
          <p:nvPr/>
        </p:nvSpPr>
        <p:spPr>
          <a:xfrm>
            <a:off x="358920" y="1619280"/>
            <a:ext cx="9161280" cy="4768920"/>
          </a:xfrm>
          <a:prstGeom prst="roundRect">
            <a:avLst>
              <a:gd name="adj" fmla="val 3778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46">
            <a:hlinkClick r:id="" action="ppaction://hlinkshowjump?jump=previousslide"/>
          </p:cNvPr>
          <p:cNvSpPr/>
          <p:nvPr/>
        </p:nvSpPr>
        <p:spPr>
          <a:xfrm>
            <a:off x="8153280" y="6553080"/>
            <a:ext cx="660600" cy="304920"/>
          </a:xfrm>
          <a:custGeom>
            <a:avLst/>
            <a:gdLst>
              <a:gd name="textAreaLeft" fmla="*/ 19440 w 660600"/>
              <a:gd name="textAreaRight" fmla="*/ 641160 w 6606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6766" h="21600">
                <a:moveTo>
                  <a:pt x="0" y="0"/>
                </a:moveTo>
                <a:lnTo>
                  <a:pt x="46766" y="0"/>
                </a:lnTo>
                <a:lnTo>
                  <a:pt x="46766" y="21600"/>
                </a:lnTo>
                <a:lnTo>
                  <a:pt x="0" y="21600"/>
                </a:lnTo>
                <a:close/>
              </a:path>
              <a:path fill="lightenLess" w="46766" h="21600">
                <a:moveTo>
                  <a:pt x="0" y="0"/>
                </a:moveTo>
                <a:lnTo>
                  <a:pt x="46766" y="0"/>
                </a:lnTo>
                <a:lnTo>
                  <a:pt x="45366" y="1400"/>
                </a:lnTo>
                <a:lnTo>
                  <a:pt x="1400" y="1400"/>
                </a:lnTo>
                <a:close/>
              </a:path>
              <a:path fill="darken" w="46766" h="21600">
                <a:moveTo>
                  <a:pt x="46766" y="0"/>
                </a:moveTo>
                <a:lnTo>
                  <a:pt x="46766" y="21600"/>
                </a:lnTo>
                <a:lnTo>
                  <a:pt x="45366" y="20200"/>
                </a:lnTo>
                <a:lnTo>
                  <a:pt x="45366" y="1400"/>
                </a:lnTo>
                <a:close/>
              </a:path>
              <a:path fill="darkenLess" w="46766" h="21600">
                <a:moveTo>
                  <a:pt x="46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66" y="20200"/>
                </a:lnTo>
                <a:close/>
              </a:path>
              <a:path fill="lighten" w="46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66" h="21600">
                <a:moveTo>
                  <a:pt x="16377" y="10800"/>
                </a:moveTo>
                <a:lnTo>
                  <a:pt x="30390" y="3794"/>
                </a:lnTo>
                <a:lnTo>
                  <a:pt x="3039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7">
            <a:hlinkClick r:id="" action="ppaction://hlinkshowjump?jump=previousslide"/>
          </p:cNvPr>
          <p:cNvSpPr/>
          <p:nvPr/>
        </p:nvSpPr>
        <p:spPr>
          <a:xfrm>
            <a:off x="8158320" y="6550200"/>
            <a:ext cx="660240" cy="304560"/>
          </a:xfrm>
          <a:custGeom>
            <a:avLst/>
            <a:gdLst>
              <a:gd name="textAreaLeft" fmla="*/ 19440 w 660240"/>
              <a:gd name="textAreaRight" fmla="*/ 640800 w 6602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6796" h="21600">
                <a:moveTo>
                  <a:pt x="0" y="0"/>
                </a:moveTo>
                <a:lnTo>
                  <a:pt x="46796" y="0"/>
                </a:lnTo>
                <a:lnTo>
                  <a:pt x="46796" y="21600"/>
                </a:lnTo>
                <a:lnTo>
                  <a:pt x="0" y="21600"/>
                </a:lnTo>
                <a:close/>
              </a:path>
              <a:path fill="lightenLess" w="46796" h="21600">
                <a:moveTo>
                  <a:pt x="0" y="0"/>
                </a:moveTo>
                <a:lnTo>
                  <a:pt x="46796" y="0"/>
                </a:lnTo>
                <a:lnTo>
                  <a:pt x="45396" y="1400"/>
                </a:lnTo>
                <a:lnTo>
                  <a:pt x="1400" y="1400"/>
                </a:lnTo>
                <a:close/>
              </a:path>
              <a:path fill="darken" w="46796" h="21600">
                <a:moveTo>
                  <a:pt x="46796" y="0"/>
                </a:moveTo>
                <a:lnTo>
                  <a:pt x="46796" y="21600"/>
                </a:lnTo>
                <a:lnTo>
                  <a:pt x="45396" y="20200"/>
                </a:lnTo>
                <a:lnTo>
                  <a:pt x="45396" y="1400"/>
                </a:lnTo>
                <a:close/>
              </a:path>
              <a:path fill="darkenLess" w="46796" h="21600">
                <a:moveTo>
                  <a:pt x="46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96" y="20200"/>
                </a:lnTo>
                <a:close/>
              </a:path>
              <a:path fill="lighten" w="46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96" h="21600">
                <a:moveTo>
                  <a:pt x="16391" y="10800"/>
                </a:moveTo>
                <a:lnTo>
                  <a:pt x="30404" y="3794"/>
                </a:lnTo>
                <a:lnTo>
                  <a:pt x="3040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0"/>
          <p:cNvSpPr/>
          <p:nvPr/>
        </p:nvSpPr>
        <p:spPr>
          <a:xfrm>
            <a:off x="395280" y="6381720"/>
            <a:ext cx="1155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22F58-07F5-4B3F-80FE-DF8031D09762}" type="slidenum">
              <a:rPr b="1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5" descr="3dflagsdotcom_kenya_2fawm"/>
          <p:cNvPicPr/>
          <p:nvPr/>
        </p:nvPicPr>
        <p:blipFill>
          <a:blip r:embed="rId6"/>
          <a:stretch/>
        </p:blipFill>
        <p:spPr>
          <a:xfrm>
            <a:off x="8221680" y="76320"/>
            <a:ext cx="1627200" cy="10666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160" y="2568240"/>
            <a:ext cx="8839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Ministry of Water and Irrigatio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Directorate of Water Sector Refor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tatus of sector refor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ctober 19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, 2010</a:t>
            </a:r>
            <a:endParaRPr b="1" lang="en-US" sz="2000" spc="-1" strike="noStrike">
              <a:solidFill>
                <a:srgbClr val="003a67"/>
              </a:solidFill>
              <a:latin typeface="Arial"/>
            </a:endParaRPr>
          </a:p>
        </p:txBody>
      </p:sp>
      <p:pic>
        <p:nvPicPr>
          <p:cNvPr id="149" name="Picture 37" descr="~AUT0000"/>
          <p:cNvPicPr/>
          <p:nvPr/>
        </p:nvPicPr>
        <p:blipFill>
          <a:blip r:embed="rId1"/>
          <a:stretch/>
        </p:blipFill>
        <p:spPr>
          <a:xfrm>
            <a:off x="3598920" y="457200"/>
            <a:ext cx="219240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99"/>
                </a:solidFill>
                <a:latin typeface="Gill Sans MT"/>
              </a:rPr>
              <a:t>The current situation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304920" y="1600200"/>
            <a:ext cx="9372600" cy="55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sector reforms that commenced in 2004 based on the Water Act 2002 are progressing well creating the intended impacts that included increased access/coverage, professionalizing sector management, stakeholder participation and pro poor orientation both in rural and urban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various sector institutions are progressively taking charge of their respective mandates and carrying their roles effectively albeit with challenge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sector players are embracing and appreciating the new institution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MWI is increasingly concentrating on policy formulation, sector coordination, oversight and resource mobilization; WRMA on water resources management, WASREB on regulation of WSS, WSTF on pro poor funding in rural, urban and peri urban settings; WSBs on investment planning and development; WSPs on provision of WS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transfer plan has since been revised, approved and awaits circulation. Key outstanding issues addressed in the revised transfer plan include transfer of assets and liabilities; complete de-linking of human resources to the respective sector institution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62699"/>
                </a:solidFill>
                <a:latin typeface="Arial"/>
              </a:rPr>
              <a:t>Progress during the last one year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3" name="TextBox 110"/>
          <p:cNvSpPr/>
          <p:nvPr/>
        </p:nvSpPr>
        <p:spPr>
          <a:xfrm>
            <a:off x="304920" y="1600200"/>
            <a:ext cx="92199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WSS assets from all WSBs have now been documented and valued, Cabinet memorandum prepared and ready for submis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WSIs Pension Scheme registered and launch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Deadline for HR delinking set for June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creased confidence in sector reform confirmed by increased financial commitments by development (i.e ADB, KfW) and government (sector budget now over Kshs. 30 billi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Development of secondary legislation including water rules, governance guidelines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creased focus on human right to water eg continued formalization of service provision in urban and peri urban sett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Gill Sans MT"/>
              </a:rPr>
              <a:t>rd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 Impact report on the water services sector performance launch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formation briefs published and issued by the WSRS to clarify and elaborate critical issu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Empowerment of right holders eg WA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62699"/>
                </a:solidFill>
                <a:latin typeface="Arial"/>
              </a:rPr>
              <a:t>Challenges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5" name="TextBox 5"/>
          <p:cNvSpPr/>
          <p:nvPr/>
        </p:nvSpPr>
        <p:spPr>
          <a:xfrm>
            <a:off x="304920" y="1676520"/>
            <a:ext cx="92962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Re-aligning the Water Act 2002 to the provisions of the New Constit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Sustainability/viability of several sector institutions at national, regional and local lev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ommunication within and outside the sector still inadequ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Governance challenge has given the sector negative publicity eg appointment of board members, misuse of funds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adequate institutional capacities eg. laboratories at treatment, sustainable metering management capacity,  financial management at WSBs and WSPs levels, customer c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adequate skills and competencies in the sector eg. chemists, plant mechanics, customer care, finance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Ring fencing of sector revenues (lease fees, DWO allocations etc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Aligning budgets to critical sector institu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Finalize restructuring of MWI and NWCP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adequate funding of directorate of re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99"/>
                </a:solidFill>
                <a:latin typeface="Gill Sans MT"/>
              </a:rPr>
              <a:t>Next steps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7" name="TextBox 3"/>
          <p:cNvSpPr/>
          <p:nvPr/>
        </p:nvSpPr>
        <p:spPr>
          <a:xfrm>
            <a:off x="304920" y="1676520"/>
            <a:ext cx="94485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ask force in place preparing amendments to the Water Act 2002 to complete by Dec 201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luster WSPs based on viability criteria and county govern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Reorganization of WRMA to separate regulation and implementation in progr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Need to progressively sustain enforcement of governance guidelines and public reporting by all sector institu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On communication promote reporting to public, stakeholder forums, pro active media briefing, publicize the gains/successes of reforms, issue communication briefs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arry out capacity needs assessment, both institutional, for the sector (incl WSIs) and propose action pl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omplete asset re-assignment and gradually outlaw lease f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Work with Treasury to realign budgets to critical sector institu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mplement recommendations on restructuring of MWI and NWCP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crease funding for the directorate of re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2T10:10:19Z</dcterms:created>
  <dc:creator>ralf.wegener</dc:creator>
  <dc:description/>
  <dc:language>en-US</dc:language>
  <cp:lastModifiedBy>Administrator</cp:lastModifiedBy>
  <cp:lastPrinted>2000-11-03T14:33:29Z</cp:lastPrinted>
  <dcterms:modified xsi:type="dcterms:W3CDTF">2010-10-19T05:40:23Z</dcterms:modified>
  <cp:revision>220</cp:revision>
  <dc:subject/>
  <dc:title> Study </dc:title>
</cp:coreProperties>
</file>