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5941-E079-4C0E-B386-69700D02A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E9BA-E2F6-42AC-AA3E-975B904E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3D51-0868-447A-8AEF-9B7A213EA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96E6-B105-42D2-AD8E-FAA3C0D12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C391-13DF-4B65-9DEA-89472B143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22819-795E-45F9-8C9A-60F2D9B2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2D7A-CDB7-4528-AEDD-470392E2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F3B1-24C2-47DA-B4A2-64AD778B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DF43-D817-43A6-885B-D444FF40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489C-5625-483B-83B4-86F56083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CAD7-8B87-4511-AC62-F20EFC27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C4A2-E152-45C8-ADBA-AE4E6014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7E63-CF93-4F4E-81D7-5E92D12E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28B3-66BE-4B09-91B0-E8DC2DF8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8286-8378-4FB4-8B84-B58000D6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E186-00A3-420A-9FC1-F99F662D6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47C9-11BC-41EC-947A-1CE650595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52D4-C534-4AC7-BAB9-BB1DF953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1D02-EAB0-4970-A8D1-BFA40EAE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D6B7-1244-4421-8FA8-7D747E6D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7D4C-C1C3-45A7-9FD3-2A221487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C874-D344-4549-9922-2A1545D9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5CAF-7FCA-443F-B188-17F9084A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7BD0-DAAD-42E8-AAD7-567BEA86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8289-1A16-427F-801F-56AC79B5D8BD}" type="slidenum">
              <a:rPr b="0" lang="en-US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982B-2BCE-4586-A23B-C44F264E1233}" type="slidenum">
              <a:rPr b="0" lang="en-US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457200" indent="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914400" indent="144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371600" algn="ctr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82880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Water and Sanitation programmes within a focal sector in Budget and 10th EDF</a:t>
            </a:r>
            <a:br>
              <a:rPr sz="2000"/>
            </a:br>
            <a:endParaRPr b="1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513432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133960" cy="4897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8360" y="5589720"/>
            <a:ext cx="820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5373720"/>
            <a:ext cx="835344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less than 60% population using improved water sources (UND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water and sanitation programmes inside a focal sector (10th EDF/                Bud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5805360"/>
            <a:ext cx="431640" cy="289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5373720"/>
            <a:ext cx="431640" cy="28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82c8"/>
                </a:solidFill>
                <a:latin typeface="Verdana"/>
              </a:rPr>
              <a:t>Amounts for Water Sector 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Southern Africa :  201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Central Africa : 137,4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East Africa: 25,5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West Africa: 208,6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Neighbourhood South: 253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9:10:53Z</dcterms:created>
  <dc:creator>aidco-sd-tech2</dc:creator>
  <dc:description/>
  <dc:language>en-US</dc:language>
  <cp:lastModifiedBy>aidco-sd-tech2</cp:lastModifiedBy>
  <dcterms:modified xsi:type="dcterms:W3CDTF">2010-10-14T09:51:59Z</dcterms:modified>
  <cp:revision>6</cp:revision>
  <dc:subject/>
  <dc:title>Water and Sanitation in Budget and 10th EDF </dc:title>
</cp:coreProperties>
</file>