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A1E-C5AA-485D-8F13-E7CF0E6849E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92AB-97FA-4F11-8D34-E663ED37230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12F-7B6D-4653-A3C8-E61622A5F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3D8-3E1C-4E62-81E8-6E50372A6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00F5-F5E4-4487-9718-C80D5E55E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A7E-5BCB-46DF-80B2-089265F6E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A4F-6B85-48A0-A87F-206C0ED3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C93-D64E-40F7-87AC-757B94D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A14-1AD9-4BE4-9EDC-B0872EC3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381-C546-475C-A47D-EC407822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4947-60D2-46C1-B8B4-008B45BE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E44C-A0F4-4726-A142-5781A731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AF35-18DF-46D7-923E-EC932250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5B29-7D00-4B64-A1EE-C8EA3B0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C2C8-8D0D-4337-81E3-FCC148F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C97B-444D-44E6-8E4E-6A85E72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137-D0A2-4126-B826-11372D6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F1C-AF38-4457-A2AD-685B76CA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8A79-D8E2-476F-8451-4F84999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093-212A-4491-B19E-67BFAE8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A74-4C84-4653-A967-588789F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657-941E-4C08-96F9-88DB8270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AD2-9BED-4743-B8F6-BE36A038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86F00-68C8-401B-B084-DDE1D1CD80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F9FB6-465E-4F53-AA41-03CAF016AE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AEC05-5C2F-4E88-80C2-D8A1FBE72C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EB7F2-EC66-40D0-80D5-8516B6FA2A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F4228-8B0F-4FDD-8A2D-33BF2B26D5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1AC-8026-44EC-8194-18D9572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35645-EC91-4D47-9039-6EBB429DC7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E4D59-D9B2-4280-8C16-DD8B3FA629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22239-15AE-4CB5-B344-F0BBDEA568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E41C6-1E68-484B-AAE8-4D674B5B25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8F2A7-BC0E-457B-80AE-AB62519993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19A61-0981-4AF9-A157-14138226F8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2A124-E6DE-4271-B242-74A4FE1E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214-6D32-4C4F-976A-44C26E3F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EDA-FAEF-4EDF-A171-7F6103B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1AF-CA07-4F8E-898A-F2A41BC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1B7-2643-4DDF-9277-49233D8A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014-8BDC-4F30-AAB7-0C7C04AD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638-470E-4C62-BB05-A887FCE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A66-3C84-4CE1-A53B-74A55E056A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4A5-52C0-4581-ADCC-2943C762F8F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1F2-8FDB-4EE6-80D6-8296223B8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pacity4dev.ec.europa.eu/macro-eco_pub-fin/blog/pfm-reform-sequencin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85520" y="3571920"/>
            <a:ext cx="7088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5.4: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Introduction to PFM Refor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Verdana"/>
              </a:rPr>
              <a:t>INTRODUCTION TO PUBLIC FINANCE MANAGEMEN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2552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s is not a comprehensive module on reform sequencing – there is a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edicated course on PFM reform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on offer!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e points in this module are purely introductory and a basis for discussing the issues of this weeks course, and where they lie in developing a good PFM system…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37B0-C87F-4F07-BFA8-28AA571A1A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3680" y="244800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On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PFM Technical facto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wo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Factors External to PF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hre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ettling on a sub-set of reform op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our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ialogue with stakeholders to agree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iv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cide sequencing of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ix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t in place an adequate delivery mechanis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even: Formal monitoring and review of reform eff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80" y="113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A schematic view of the PFM reform decision proces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FF5-374B-4A13-A710-1A04303CDC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49280" y="2118960"/>
            <a:ext cx="82454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Top Political Economy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is essential to address the external factor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Deciding on what is possible within the "basics" in PFM reform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as risk managemen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implications in deciding the feasibility of refor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Institutional Organizational Lev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An approach to assessing risks from external factors at the lower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stitutional structure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ternal organization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 reform risk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D70-211B-4595-A491-265FB1FD9C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3560" y="2097000"/>
            <a:ext cx="7616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 Risk-based Approach to Sequencing within the Basi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risk as a criterion for sequencing decis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Operationalizing the risk-based approa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Employing the risk analysis to determine reform strateg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oosing the sequence of reform a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ssess reform risk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179A-9FF9-407F-BB51-DE41666B61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460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Jack Diamonds' 2013 "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Good Practice not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shows lessons learnt and guidance, but it is not a manual…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cus on order and timing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nsure core functions first,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- fiscal control (financial compliance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n sophisticated refor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crete sequencing is country-specific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textual factors are crucial (risks)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capacity4dev.ec.europa.eu/macro-eco_pub-fin/blog/pfm-reform-sequencing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E908-041B-4B34-8D25-586CD70125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dcterms:modified xsi:type="dcterms:W3CDTF">2018-03-22T10:45:42Z</dcterms:modified>
  <cp:revision>118</cp:revision>
  <dc:subject/>
  <dc:title>Slide 1</dc:title>
</cp:coreProperties>
</file>