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8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9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0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DAC9-86E1-427E-9BE8-A512A01D8BD8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7139-299A-40E8-A513-28CAFC66B861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17A8-564F-4D9B-8338-56F2D0C41C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3B6B-4D3F-42AF-BB30-316BCD8E22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6598-BD9E-4E51-8A4D-4FC002550C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D813-3564-4B1D-9C34-4D5B08102A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CE96-C93F-451B-8E3D-918D1538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2C98-4BA1-4662-964A-00DAFAA8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2CCC-49B6-4BE1-BF61-A31B3CDDE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3A94-C97B-4BBB-B0D7-B04DF9C58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24D3-7ACC-485B-AC3D-FE90EF1A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0F1F-D491-44E0-BEAE-31330FB3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DBC7-8D3D-4961-BA98-7D5FB705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A312-FE4A-4EFD-BD42-D8EF7750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734F-045A-4C04-8ADA-3CC4461F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1C43-CF79-4905-8337-9225121D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381E-9708-43B9-8E7A-53D8E295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DBEC-02A4-426D-B4AD-3B3366FD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1EE1-E7ED-4488-B061-5EBF867E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2EA8-D3D7-4418-ADC1-8A00C7B6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7CAA-7FCC-4CFE-9AC0-3AE051A9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5872-2CD0-4412-94F7-CE42880D5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15B3-19B0-4FFC-9862-B3D9D9470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511C9B-2C96-4115-AAFC-EFAF1AD170F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587798-6E9D-458D-9F20-5446FF0D109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1B22B7-EAEB-404E-8332-DC1B33D1224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83A058-9890-4CA9-8120-FAACCFE7353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69EEC0-1A5D-413C-96F3-B345EE24C9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225E-9E22-4954-9009-C0200735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070B02-5C27-4EE8-A8C1-02DBD9D50C0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675049-1161-4A95-90D7-D1D30094F38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811C2C-51E0-4770-B3F3-A2E9FD34A6A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CD2F22-BB67-4235-85AA-AFF6A0B95D8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F27F60-B511-47F7-9ACD-70DC3EC9174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BCA7BD-9415-4BFD-B603-7DDECA0F787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6A8837-AD9C-48D4-ACF8-CEB028EB69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22EA-21D1-4C62-B537-05502E54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7C64-39FA-4F64-B468-333301F0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0EF4-4790-4F91-9EB0-2AB2D5FF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2ABE-D4F1-41A9-887B-AF493AF9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B116-5360-409E-A0E0-579514D6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6430-D0D3-42D3-A22C-A5419FD8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DE83-EE12-4B52-98C1-9CB603808E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3952-5754-44F3-9859-7D49FC4F994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0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BD37-9BB0-4604-BA15-9E79ECBC26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apacity4dev.ec.europa.eu/macro-eco_pub-fin/blog/pfm-reform-sequencing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85520" y="3571920"/>
            <a:ext cx="708804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odule 5.4:</a:t>
            </a: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 Introduction to PFM Reform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42960" y="228600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000"/>
                </a:solidFill>
                <a:latin typeface="Verdana"/>
              </a:rPr>
              <a:t>INTRODUCTION TO PUBLIC FINANCE MANAGEMENT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25520" y="1844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This is not a comprehensive module on reform sequencing – there is a </a:t>
            </a: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dedicated course on PFM reforms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on offer!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The points in this module are purely introductory and a basis for discussing the issues of this weeks course, and where they lie in developing a good PFM system…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95F3-CFB2-4035-91C9-D059330C0B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63680" y="2448000"/>
            <a:ext cx="82296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74960" indent="-1795680">
              <a:spcBef>
                <a:spcPts val="499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Stage One: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Analysis and Diagnosis – PFM Technical factor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974960" indent="-1795680">
              <a:spcBef>
                <a:spcPts val="499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Stage Two: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Analysis and Diagnosis – Factors External to PFM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974960" indent="-1795680">
              <a:spcBef>
                <a:spcPts val="499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Stage Three: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Settling on a sub-set of reform option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974960" indent="-1795680">
              <a:spcBef>
                <a:spcPts val="499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Stage Four: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Dialogue with stakeholders to agree reform action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974960" indent="-1795680">
              <a:spcBef>
                <a:spcPts val="499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Stage Five: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Decide sequencing of reform action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974960" indent="-1795680">
              <a:spcBef>
                <a:spcPts val="499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Stage Six: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Put in place an adequate delivery mechanism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974960" indent="-1795680">
              <a:spcBef>
                <a:spcPts val="499"/>
              </a:spcBef>
              <a:tabLst>
                <a:tab algn="l" pos="0"/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Stage Seven: Formal monitoring and review of reform effort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974960" indent="-1795680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1974960" indent="-1795680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1974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400" spc="-1" strike="noStrike">
                <a:solidFill>
                  <a:srgbClr val="0f5494"/>
                </a:solidFill>
                <a:latin typeface="Verdana"/>
              </a:rPr>
              <a:t>Jack Diamond 2013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80" y="1133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A schematic view of the PFM reform decision proces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CBF6-1E4E-494F-8B4F-8C5653E429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49280" y="2118960"/>
            <a:ext cx="824544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Assessing Reform Risks at the Top Political Economy Level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79280">
              <a:spcBef>
                <a:spcPts val="400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Change management is essential to address the external factor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79280">
              <a:spcBef>
                <a:spcPts val="400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Deciding on what is possible within the "basics" in PFM reform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79280">
              <a:spcBef>
                <a:spcPts val="400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Change management as risk management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79280">
              <a:spcBef>
                <a:spcPts val="400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Reform implications in deciding the feasibility of reform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792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 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792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Assessing Reform Risks at the Institutional Organizational Level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79280">
              <a:spcBef>
                <a:spcPts val="400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An approach to assessing risks from external factors at the lower leve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79280">
              <a:spcBef>
                <a:spcPts val="400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The institutional structure of PFM system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79280">
              <a:spcBef>
                <a:spcPts val="400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The internal organization of PFM system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792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 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79280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400" spc="-1" strike="noStrike">
                <a:solidFill>
                  <a:srgbClr val="0f5494"/>
                </a:solidFill>
                <a:latin typeface="Verdana"/>
              </a:rPr>
              <a:t>Jack Diamond 2013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Assess reform risk (1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556B-8FC8-44F4-8377-00D1C8FBB68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763560" y="2097000"/>
            <a:ext cx="7616880" cy="33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f5494"/>
                </a:solidFill>
                <a:latin typeface="Verdana"/>
              </a:rPr>
              <a:t> 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A Risk-based Approach to Sequencing within the Basic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Reform risk as a criterion for sequencing decision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Operationalizing the risk-based approach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Employing the risk analysis to determine reform strategy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Choosing the sequence of reform action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400" spc="-1" strike="noStrike">
                <a:solidFill>
                  <a:srgbClr val="0f5494"/>
                </a:solidFill>
                <a:latin typeface="Verdana"/>
              </a:rPr>
              <a:t>Jack Diamond 2013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071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Assess reform risk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D2B7-73FF-4892-887F-428C5D99A8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4604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Jack Diamonds' 2013 "</a:t>
            </a: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Good Practice note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" shows lessons learnt and guidance, but it is not a manual…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Focus on order and timing: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Ensure core functions first,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2" marL="914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- fiscal control (financial compliance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Then sophisticated reform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Concrete sequencing is country-specific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Contextual factors are crucial (risks).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capacity4dev.ec.europa.eu/macro-eco_pub-fin/blog/pfm-reform-sequencing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506B-B08B-4A9E-8E00-421E04868D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Florence Brosset-Heckel</cp:lastModifiedBy>
  <dcterms:modified xsi:type="dcterms:W3CDTF">2018-03-22T10:45:42Z</dcterms:modified>
  <cp:revision>118</cp:revision>
  <dc:subject/>
  <dc:title>Slide 1</dc:title>
</cp:coreProperties>
</file>