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F7D-4281-47F7-98AF-BB07B34CD1B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6FB0-139F-4D7F-B650-AC99A7EDBD3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DC4-29D9-495A-9C4D-4E8C4D64C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AD2F-97A2-4C9F-8C6A-49614B7CF4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ACE4-2B22-4849-AECC-722302532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4A7E-D12A-4929-991D-25500CDD2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A2A-7789-490C-AC20-AB5BEDF7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9F5-79A1-4BF9-9283-9CA5411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041-614D-43EC-9D42-3444936A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9ED-645D-4667-B9AA-76ECECAB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7C7F-86DC-44AB-9762-8F25E35B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8836-E1FC-43EB-AA33-3C28732F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0A48-B9F3-4647-9FD0-3568176E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469C-5789-46C2-A4DF-E12C5A1D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C873-5046-4B3A-AA1C-FC6CE4F2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E353-41D9-42AA-9DA4-3DDB259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A257-B26D-4765-9F71-4331B82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0FB-DA28-490B-90E9-3EE74BC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A29D-FF9B-427E-99C5-5F8C6456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4B27-7738-4F41-8302-BEEDF5E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7ADD-3F40-4C49-8127-4FE51FDC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EFFD-28A5-4A84-A10E-1283DFDE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190D-ABF3-4601-B688-7359E51B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3337D-F539-47CA-8069-433AF61707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10B91-556B-4924-BBB3-4CE530419D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364ED-125A-4F69-9A34-6CC5DD96BB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5C984-347F-4FB8-A830-A546CA54F2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59904-266F-4602-AE30-9E873DA012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E64-F096-4695-9C0E-1FF239D2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E843F-58C7-4203-A948-1D29C5ED3E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C36F5-2AD6-494E-B4D7-C6A29D64F2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3A571-F497-44BB-AD9F-5348329575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5F563B-F980-4BE4-B74C-141B02E41D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F300E-D979-4B64-A6F7-3FFDCE4EBB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4EF44-7F98-40CC-9FAE-7DA8862749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9304F-48D0-4DEC-9BA9-C89EC7A85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DD4-AB3A-495C-AC10-0E23793A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3D8-C53C-4B63-B441-E1B6F70A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4A8-4EBC-4771-8E7D-31C8C462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A0A-7864-4770-829E-BBC518D3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477-678D-493D-97D2-74CAC9E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701-84FE-4A4C-AA5B-A1B3A6E9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3BEC-BC54-409F-A99B-FBED2AEAAF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BCCC-8659-483C-845D-1C148735A4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4181-55D0-40A2-98CE-D92F711DFA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pacity4dev.ec.europa.eu/macro-eco_pub-fin/blog/pfm-reform-sequencin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85520" y="3571920"/>
            <a:ext cx="7088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ule 5.4: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Introduction to PFM Reform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Verdana"/>
              </a:rPr>
              <a:t>INTRODUCTION TO PUBLIC FINANCE MANAGEMEN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2552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is is not a comprehensive module on reform sequencing – there is a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dedicated course on PFM reform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on offer!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e points in this module are purely introductory and a basis for discussing the issues of this weeks course, and where they lie in developing a good PFM system…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1086-A97F-4CFA-AC0B-862C64A848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3680" y="244800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One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nalysis and Diagnosis – PFM Technical facto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Two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nalysis and Diagnosis – Factors External to PF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Three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ettling on a sub-set of reform op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Four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ialogue with stakeholders to agree reform a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Five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cide sequencing of reform a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Six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Put in place an adequate delivery mechanis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Seven: Formal monitoring and review of reform eff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f5494"/>
                </a:solidFill>
                <a:latin typeface="Verdana"/>
              </a:rPr>
              <a:t>Jack Diamond 2013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80" y="113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A schematic view of the PFM reform decision proces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EF2D-CA9E-4094-A8C0-8AD8ECADF8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49280" y="2118960"/>
            <a:ext cx="82454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Assessing Reform Risks at the Top Political Economy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Change management is essential to address the external factor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Deciding on what is possible within the "basics" in PFM reform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Change management as risk managemen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Reform implications in deciding the feasibility of refor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Assessing Reform Risks at the Institutional Organizational Lev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An approach to assessing risks from external factors at the lower leve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The institutional structure of PFM syste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The internal organization of PFM syste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f5494"/>
                </a:solidFill>
                <a:latin typeface="Verdana"/>
              </a:rPr>
              <a:t>Jack Diamond 2013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 reform risk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A01-21F4-4366-97FC-B43E72CDA6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63560" y="2097000"/>
            <a:ext cx="7616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A Risk-based Approach to Sequencing within the Basi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Reform risk as a criterion for sequencing decis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Operationalizing the risk-based approac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Employing the risk analysis to determine reform strategy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Choosing the sequence of reform a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f5494"/>
                </a:solidFill>
                <a:latin typeface="Verdana"/>
              </a:rPr>
              <a:t>Jack Diamond 2013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Assess reform risk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F696-F701-463B-BC4D-7187AB8594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460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Jack Diamonds' 2013 "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Good Practice not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" shows lessons learnt and guidance, but it is not a manual…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cus on order and timing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nsure core functions first,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- fiscal control (financial compliance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hen sophisticated refor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oncrete sequencing is country-specific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ontextual factors are crucial (risks)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capacity4dev.ec.europa.eu/macro-eco_pub-fin/blog/pfm-reform-sequencing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A006-BDF5-4327-94F4-EDA13D9FD8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Florence Brosset-Heckel</cp:lastModifiedBy>
  <dcterms:modified xsi:type="dcterms:W3CDTF">2018-03-22T10:45:42Z</dcterms:modified>
  <cp:revision>118</cp:revision>
  <dc:subject/>
  <dc:title>Slide 1</dc:title>
</cp:coreProperties>
</file>