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002E-AF5B-46C9-AA65-D4BE3ABFED0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34E2-C838-458F-956A-C193840816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9D8E-F55E-4E7C-9A1A-76F7EE53D0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C0C2-0C30-40B7-9C89-1587A3C657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03A3-A087-40D8-8CED-12A85FDF87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867B-155C-4580-ADFD-7C4E51417C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BE29-3665-4AED-8959-A9FBC2D94D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A431-3980-4DCD-AC9C-5B7462D2C2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B6C8-1940-4A9E-B3E1-A7CC4B0B4C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A3F4-87AF-44DF-92EE-1650B707EB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DF55-7217-44EB-8454-5CB282B57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02E5-1A2D-497F-B6AA-FDE09DECF4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a unit of measurement, used to describe a situation, monitor the evolution of a situation or measure achievements against an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measurement may be based on quantitative or qualit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performance standard to be reached; the concrete translation of an objective, expressed by means of an indicator (possibly expressed against a baseline) associated with a point in time (by which the target is expected to be re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key step in the process of developing or implementing a policy, programme o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adoption of a policy, law or regulation, establishment of a coordination structure, restructuring of an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lisation/completion of a milestone is a way of measuring progress towards an objective but it is not a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BD2A-0694-41BB-BFDC-712A4C23B1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434A-AD4B-4140-B43E-9E6B0CC1DD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93A6-4979-44C0-8340-034D195833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F302-80C6-430E-97BF-83EF2FA804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AC99-2DF9-455F-A179-1E7B46938D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FD1F-132C-4CAA-98C7-8F2A4CE774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0F0E-F7B2-4E4D-800B-5E7D322E42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6F7-70E1-4B2C-AD30-FD03EB95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AE4-D79B-40DC-A393-8CDD508A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384-2E42-47DB-986E-5D16F0A9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466-87D0-4DD8-9E26-29E08BE8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02E2-42EF-4FB4-81C4-338B54B4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9A42-9F88-4E73-B243-18D0A12C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274E-96FA-45FD-95D9-9CE373D8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B59C-1ECD-406E-B758-D06560FC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191F-A03D-422C-8541-150FAD95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1AAD-51B2-4989-BA4B-355D1BF0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E1D6-1708-450A-9ED8-7A46A1FF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3AB-032E-4753-B937-9E4DDA4E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D506-34CC-443F-B959-D44FA554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7984-BEFF-43AC-B8BA-E0BD9134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82BB-3776-4046-B33A-C97484EB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FB50-7A94-44CA-9899-A4438100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3069-7BE7-4746-9ACF-61B9AF83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5B5-9EE9-4C75-8F51-AD608D93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A2B-2ECC-43C7-8605-85F43AEF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DBB-EC84-4EFC-B850-E4BAAD97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7C0-59F1-43D9-A050-A43EF68E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1B1-AE20-4D39-8E42-1E790CDB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692-C229-462F-995C-611431E3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C33-3014-473E-AD14-CD9137E5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C82B-8B77-418B-A5D4-556F51534D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B915-2D49-4011-A479-5F655E2CE49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country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nitoring system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40C3-D70B-4AAC-BA5D-DFCE55911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cy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itutional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tegration of environment/climate change considerations in national &amp; sector policies/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adaptation- &amp; mitigation-oriented policies &amp; plans (e.g. DRR, REDD </a:t>
            </a: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ateg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environment-specific policies &amp; plans (e.g. IWRM, biodiversit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olitical leadership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stitutional commit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oordination &amp; participatory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ced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apacity building program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mainstreaming getting institutionalised at all level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8DD3-74A7-4386-86EA-F5C9191B1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mplementation (inputs, output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191628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utcomes, impa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allocation of resour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Inclusion of) environment/climate change (measures in) programmes/proje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mplementation &amp; enforcement of environment/climate change measures &amp; regul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educed environmental degradation and its incidence on poverty/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vulnerable groups (women, children, farmers, coastal communities, ..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key secto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growth, </a:t>
            </a:r>
            <a:br>
              <a:rPr sz="1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job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nvironmentally sustainable, climate-resilient, low-emission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Does the mainstreaming process produce results and impact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assessment frameworks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d budget suppor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A27E-2D89-456D-ABA0-0152ADA94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Role of PAFs in relation to budget support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gress measured against the PAF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 criteria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 targets provides opportunities for policy dialogue in the context of budget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ly, the PAF associated with development and poverty reduction strategies is likely to include indicators and targets associated with environmental sustainability, climate change adaptation, disaster risk reduction, energy efficiency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the case of EC budget support, performance against a chosen sub-set of criteria and targets also determines the final amount of disburs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3039-6EAA-453C-8170-A00DB6457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iscussion and action plan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A8A1-EBEA-4798-B315-2C17CA6C3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6514-6EF8-4C0D-BA6C-5EF75E22D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292640"/>
            <a:ext cx="5410440" cy="194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can be done and what are the institutional and capacity needs in your country/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monitoring, and monitoring of responses for environmental sustainability and climate change, should be integrated into existing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s is a key aspect of the mainstreaming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ultiple aspects can be subject to monito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tate of environmental variables closely linked to poverty and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variability and change and their impa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policies and institu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mplementation and outcomes of adaptation and mitigation meas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CDD8-3F4C-4A57-B0CC-F4D2F7D6C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orld Bank report 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instreaming Adaptation to Climate Change in Agriculture and Natural Resources Management Proj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pean Commission Guidance on the Integration of Environment and Climate Change in Development Cooper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3138-2F1C-4777-8D95-AEE80E893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3336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Aid Delivery Methods series, Volume 1. European Commission, Brussel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9) Guidance on Integration of the Environment and Climate Change in Development Cooperation. EuropeAid Tools and Methods Series Guidelines No. 4, Brussels. Available from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ECD (2002) Glossary of Key Terms in Evaluation and Results Based Management. OECD Publishing, Pari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9AC7-2EF5-460D-BEA3-2CC127AD0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measurement and monitoring: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Key concept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5A33-4066-4002-8970-01FE86ACF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ctives and related indicators/milesto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77336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erarchy of objectiv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773360"/>
            <a:ext cx="2971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Progress measur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57976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49416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Specific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405320"/>
            <a:ext cx="2971800" cy="39888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termediate resul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39888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57800" y="257652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ac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49092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come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2530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167440"/>
            <a:ext cx="2971800" cy="70380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78480" y="480456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78480" y="3893760"/>
            <a:ext cx="3960" cy="511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>
            <a:stCxn id="103" idx="0"/>
            <a:endCxn id="102" idx="2"/>
          </p:cNvCxnSpPr>
          <p:nvPr/>
        </p:nvCxnSpPr>
        <p:spPr>
          <a:xfrm flipV="1">
            <a:off x="2778480" y="297900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 flipV="1">
            <a:off x="4266720" y="55195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 flipV="1">
            <a:off x="4266720" y="46051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6910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720" y="27766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57200" y="1989000"/>
            <a:ext cx="304920" cy="2040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Outco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57200" y="427356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EC (2004), OECD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7072-7E42-42DE-83E8-2712A7049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MART indicators and targe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F74C-53F3-4E71-8EFC-DF64498B4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206064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ors and targets should be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pecific to the related objectiv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sur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vailable at a reasonable cos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evant to information needs of decision maker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ime-bound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EC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 environment and climate change in monitoring system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3747-E38C-495A-A494-535135D55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should be monitored, and why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6932-B5FC-4CDB-AFAC-3D83D30F5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89000"/>
          <a:ext cx="8686800" cy="463896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 to monit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onale for monitor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in environmental parameters that influence poverty/development in a significant man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-informed as possible to take opportunities to enhance effects on poverty reduction and revert adverse trend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mate variability and change, impacts and vulnera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 informed as pos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adaptive man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and institutional chan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e the institutionalisation of environmental and climate change mainstream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transparency and accountability of the mainstreaming proces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/Strategy implementation and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commitment to the objectives set in policies and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te the achievement of tangible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nvironment and climate change in the national development monitoring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change monitoring should be integrated into wider national and specific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Strengthen and adapt existing monitoring systems (incl. statistical systems) to integrate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on existing institutions and sources of information..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.. but adapt statistical systems and data 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4880-FBD2-4173-8BB3-F97291F32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evels at which to measure environment- and climate-related performanc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tors and milestones related to environment/climate change and the associated response can be included in the PAFs 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of environmental and climate change strategies and actions plans, but also those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ational and sectoral development strategies and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-national (e.g. regional, local) development pla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vidual projects (logical framewor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Performance assessment framework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15328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364000" y="5867280"/>
            <a:ext cx="306576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ltimate objective of mainstreaming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01B5-FC26-434D-9934-1D42E64B4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environment &amp;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7DF3-D93B-4E97-A092-6EAFEDC3D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57336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191628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teorology, climate variability, environmental parameter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20500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28464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ata collection, management and dissemin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engthening of meteorological information &amp; 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28464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ew patter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merging trend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jections, scenari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 for assessing impacts, vulnerabilitie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&amp; risk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487692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the mainstreaming process based on reliable informatio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8T15:03:59Z</dcterms:modified>
  <cp:revision>119</cp:revision>
  <dc:subject/>
  <dc:title>Slide 1</dc:title>
</cp:coreProperties>
</file>