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31BA-278F-4B1F-AE90-45ADD2F3CF36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04DA-86BE-40FB-A4B5-1DB17769DB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8E19-DA5F-49B1-A74A-158D98B51D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8CF1-185C-4131-8C97-4905140BEB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lic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general course of action or proposed overall direction (“road map”) that a government is pursuing or intends to pursue, and which guides all “downstream” decision making; it usually reflects a long-term vision, defines high-level objectives and sets a number of priorities and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purposeful, forward-looking strategy, setting more precise objectives and coordinated priorities, that elaborates a policy and provides a framework for its implementation; it should ideally link objectives and priorities with the identification of required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gramm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coherent, organised agenda or schedule of commitments, investments, projects and/or activities that elaborate and implement a plan and/or policy; it is the operational translation of a strategy, and will usually include a more detailed allocation of resources, as well as specific objectives to be achieved during a given time fr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coherent set of activities that together, based on a detailed design, are expected to lead to the achievement of a specific obj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BBA5-94B3-49C5-9887-08DFF2779B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205D-5073-45C5-B9E2-8DD5FBCF41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213E-8D50-4118-8DBE-BE713B8625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EE74-D367-4E0C-9243-0F60F505BA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te of the Environment and the Socio-economic situation both affect performance of different sectors (e.g. eroded grazing lands affect agriculture [e.g. critical in Lesotho]; large out-migration affects agricultural productivity [e.g. critical in Moldova]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development (planned and unplanned) also have impacts on the state of the environment and on the socio-economic situation (e.g. increase in use of pesticides as a policy for agricultural development can lead to water pollution and health impacts; construction of roads can fragment habitats and biological corrido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te of the environment also affects the socio-economic situation,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vice vers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e.g. low agricultural productivity is an incentive for migration and can also be an incentive for deforestation; water pollution affects heal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ages between the biophysical and socio-economic impacts of climate change are such that any specific effect tends to have implications in multiple 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response, to be effective, thus also requires intersectoral coordination and integrated approac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rce resources must be allocated across sectors in the most efficient possible m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tegrated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ased on a more comprehensive understanding of linkages, opportunities, risks and con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effective respon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through better coordination across sectors and between various levels of gover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efficient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through more enlightened prioritisation and alloc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ing in more sustainable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01D8-A048-422B-9DEC-5A4DA62234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streaming at strategic levels complements adaptation/mitigation projects and supports better integration than standalone climate action plans (although a climate action plan may be an outcome of the mainstreaming pro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tional level provides the overall guiding policy framework within which “lower” levels (sectoral and sub-national) ope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policies and programmes directly contribute to the operationalisation and implementation of national policies/strateg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key functions are best exercised at national level (e.g. collection and analysis of climate-related data, setting up of early warning systems, overall disaster risk reduction plannin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absence of a national-level response to climate change, sector-level initiatives may start developing capacities and good pract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ional as well as sector-specific legislation/regulations: (i) affect vulnerability and adaptive capacity, and  (ii) create incentives and disincentives to engage in climate adaptation and mitig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tional level manages international relations. This is important for shared resource management (e.g. cross-border river basins), for the implementation of international treaties including the UNFCCC, for aid coordination,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-specific bodies are sometimes involved in transboundary cooperation on climate-relevant issues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(e.g. river basin management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D4D8-11AF-441A-94B1-2301601D42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702A-3CE6-417A-B442-65811D20AD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32FE-8152-4169-97EC-439992C68A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C496-0CEF-4735-90DA-78C7EDC8BE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4488-8070-4A9C-BFDD-AF97DE83A6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531E-ED22-4F6D-B83C-D17AF04E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9399-4A77-44FD-8E34-6C759F83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B951-1E94-46E7-AE35-8EDE3BCB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B1AD-F100-4AD7-8D50-83A3EFC0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8D69-FDC1-467D-83D0-5B331F23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BA19-04BA-44CE-B8C6-84B4A823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0187-04E2-40BA-AB0F-319312DA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71D7-52F0-4984-9243-226FE249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ED91-945F-47C5-B141-218E22F9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F778-B979-47B3-B99F-7AEF4029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95AC-A16C-457C-AB61-4A76AB44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5A5F-4714-44AE-81F0-99E39A80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FC46-C8A6-40E3-A2D4-5C6FCE67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C07B-7AFB-462E-89E9-39418775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1C74-C098-42C6-B6D8-6339B3D8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AE44-62B8-4E7C-9A38-5D650260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BD35-13C3-4E24-8A36-A9CB47A44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0434-FDD1-4E50-8BAE-EC44B70B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0914-89F0-400B-AE2C-22E8E3A4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C3E8-3074-46AB-B4D3-F7151744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9324-563A-4731-8F94-9B612470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853A-BFF6-414D-8538-F1A7D38B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5BC0-6B80-4FEC-85FE-688A4CE2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B08A-0769-4DC6-9B68-E7E0D5B2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A174-7478-4AE6-9CC3-BDFA5B3419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AF91-7E46-4E57-B456-E499DBECE44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mikehulme.org/wp-content/uploads/2007/04/2004-dessai-hulme-probabilities.pdf" TargetMode="External"/><Relationship Id="rId2" Type="http://schemas.openxmlformats.org/officeDocument/2006/relationships/hyperlink" Target="http://browse.oecdbookshop.org/oecd/pdfs/browseit/4309171E.PDF" TargetMode="External"/><Relationship Id="rId3" Type="http://schemas.openxmlformats.org/officeDocument/2006/relationships/hyperlink" Target="http://browse.oecdbookshop.org/oecd/pdfs/browseit/4309171E.PDF" TargetMode="External"/><Relationship Id="rId4" Type="http://schemas.openxmlformats.org/officeDocument/2006/relationships/hyperlink" Target="http://www.undp.org/climatechange/library_integrating_cc.shtm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565360"/>
            <a:ext cx="8856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5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in national, sector and sub-national policies, strategies and programm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8920" y="4797360"/>
            <a:ext cx="8533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 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ools for mainstreaming environment and climate change in strategic policy and planning proces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A0AF-2057-429A-BCCD-19E029A77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ools supporting awarenes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aising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DDCF-D050-464B-B5CD-F92B85A59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Rounded Rectangle 4"/>
          <p:cNvSpPr/>
          <p:nvPr/>
        </p:nvSpPr>
        <p:spPr>
          <a:xfrm>
            <a:off x="5419800" y="3008160"/>
            <a:ext cx="2124000" cy="1044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wareness rais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Rounded Rectangle 5"/>
          <p:cNvSpPr/>
          <p:nvPr/>
        </p:nvSpPr>
        <p:spPr>
          <a:xfrm>
            <a:off x="5419800" y="4379760"/>
            <a:ext cx="2124000" cy="104472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fluence on polic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Left Brace 6"/>
          <p:cNvSpPr/>
          <p:nvPr/>
        </p:nvSpPr>
        <p:spPr>
          <a:xfrm flipH="1" rot="10800000">
            <a:off x="5150520" y="2857320"/>
            <a:ext cx="182520" cy="2819160"/>
          </a:xfrm>
          <a:custGeom>
            <a:avLst/>
            <a:gdLst>
              <a:gd name="textAreaLeft" fmla="*/ 116280 w 182520"/>
              <a:gd name="textAreaRight" fmla="*/ 182520 w 182520"/>
              <a:gd name="textAreaTop" fmla="*/ 4680 h 2819160"/>
              <a:gd name="textAreaBottom" fmla="*/ 281448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9"/>
                  <a:pt x="10800" y="117"/>
                </a:cubicBezTo>
                <a:lnTo>
                  <a:pt x="10800" y="10683"/>
                </a:lnTo>
                <a:cubicBezTo>
                  <a:pt x="10800" y="10742"/>
                  <a:pt x="5400" y="10800"/>
                  <a:pt x="0" y="10800"/>
                </a:cubicBezTo>
                <a:cubicBezTo>
                  <a:pt x="5400" y="10800"/>
                  <a:pt x="10800" y="10859"/>
                  <a:pt x="10800" y="10917"/>
                </a:cubicBezTo>
                <a:lnTo>
                  <a:pt x="10800" y="21483"/>
                </a:lnTo>
                <a:cubicBezTo>
                  <a:pt x="10800" y="2154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Flowchart: Document 7"/>
          <p:cNvSpPr/>
          <p:nvPr/>
        </p:nvSpPr>
        <p:spPr>
          <a:xfrm>
            <a:off x="1219320" y="2362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Vulnerability and adaptation assessmen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Flowchart: Document 8"/>
          <p:cNvSpPr/>
          <p:nvPr/>
        </p:nvSpPr>
        <p:spPr>
          <a:xfrm>
            <a:off x="1219320" y="3505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Macro and meso economic analysi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Flowchart: Document 9"/>
          <p:cNvSpPr/>
          <p:nvPr/>
        </p:nvSpPr>
        <p:spPr>
          <a:xfrm>
            <a:off x="1219320" y="4724280"/>
            <a:ext cx="2438280" cy="7621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Demonstration proj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0" name="Straight Arrow Connector 10"/>
          <p:cNvCxnSpPr>
            <a:stCxn id="197" idx="3"/>
            <a:endCxn id="196" idx="1"/>
          </p:cNvCxnSpPr>
          <p:nvPr/>
        </p:nvCxnSpPr>
        <p:spPr>
          <a:xfrm>
            <a:off x="3657600" y="2895480"/>
            <a:ext cx="1494720" cy="1372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1" name="Straight Arrow Connector 11"/>
          <p:cNvCxnSpPr>
            <a:stCxn id="198" idx="3"/>
            <a:endCxn id="196" idx="1"/>
          </p:cNvCxnSpPr>
          <p:nvPr/>
        </p:nvCxnSpPr>
        <p:spPr>
          <a:xfrm>
            <a:off x="3657600" y="4038120"/>
            <a:ext cx="1494720" cy="229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2" name="Straight Arrow Connector 12"/>
          <p:cNvCxnSpPr>
            <a:stCxn id="199" idx="3"/>
            <a:endCxn id="196" idx="1"/>
          </p:cNvCxnSpPr>
          <p:nvPr/>
        </p:nvCxnSpPr>
        <p:spPr>
          <a:xfrm flipV="1">
            <a:off x="3657600" y="4266360"/>
            <a:ext cx="1494720" cy="839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3" name="Cloud Callout 27"/>
          <p:cNvSpPr/>
          <p:nvPr/>
        </p:nvSpPr>
        <p:spPr>
          <a:xfrm>
            <a:off x="3733920" y="990720"/>
            <a:ext cx="4495680" cy="1600200"/>
          </a:xfrm>
          <a:prstGeom prst="cloudCallout">
            <a:avLst>
              <a:gd name="adj1" fmla="val -51694"/>
              <a:gd name="adj2" fmla="val -65513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... are also useful for influencing policies and informing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4" name="Straight Arrow Connector 14"/>
          <p:cNvCxnSpPr>
            <a:stCxn id="194" idx="2"/>
            <a:endCxn id="195" idx="0"/>
          </p:cNvCxnSpPr>
          <p:nvPr/>
        </p:nvCxnSpPr>
        <p:spPr>
          <a:xfrm flipH="1">
            <a:off x="6481440" y="4053960"/>
            <a:ext cx="2160" cy="3279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205" name="TextBox 22"/>
          <p:cNvSpPr/>
          <p:nvPr/>
        </p:nvSpPr>
        <p:spPr>
          <a:xfrm>
            <a:off x="4281480" y="630864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Flowchart: Document 7"/>
          <p:cNvSpPr/>
          <p:nvPr/>
        </p:nvSpPr>
        <p:spPr>
          <a:xfrm>
            <a:off x="1219320" y="1295280"/>
            <a:ext cx="2438280" cy="9907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ntegrated ecosystem assessmen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7" name="Straight Arrow Connector 13"/>
          <p:cNvCxnSpPr>
            <a:stCxn id="206" idx="3"/>
            <a:endCxn id="196" idx="1"/>
          </p:cNvCxnSpPr>
          <p:nvPr/>
        </p:nvCxnSpPr>
        <p:spPr>
          <a:xfrm>
            <a:off x="3657600" y="1790280"/>
            <a:ext cx="1494720" cy="2477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8" name="Flowchart: Document 9"/>
          <p:cNvSpPr/>
          <p:nvPr/>
        </p:nvSpPr>
        <p:spPr>
          <a:xfrm>
            <a:off x="1219320" y="5638680"/>
            <a:ext cx="2438280" cy="106704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Knowledge, communication and advocacy strateg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9" name="Straight Arrow Connector 30"/>
          <p:cNvCxnSpPr>
            <a:stCxn id="208" idx="3"/>
            <a:endCxn id="196" idx="1"/>
          </p:cNvCxnSpPr>
          <p:nvPr/>
        </p:nvCxnSpPr>
        <p:spPr>
          <a:xfrm flipV="1">
            <a:off x="3657600" y="4266720"/>
            <a:ext cx="1494720" cy="1905840"/>
          </a:xfrm>
          <a:prstGeom prst="straightConnector1">
            <a:avLst/>
          </a:prstGeom>
          <a:ln w="25560">
            <a:solidFill>
              <a:srgbClr val="0066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uropeAid’s Guidelines on integration of environment and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6AFD-1A04-4821-81AC-20529EC9DC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4114800" y="2008080"/>
            <a:ext cx="4800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1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eneral environmental issues in cooperation focal area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3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uidance for integrating environmental and climate-related aspects in SPSP formulation studi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9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uidelines for integrating environmental and climate related aspects in project formulation studi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581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uropeAid’s climate chang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sector scrip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5" name="Content Placeholder 4" descr="sector script cover .tiff"/>
          <p:cNvPicPr/>
          <p:nvPr/>
        </p:nvPicPr>
        <p:blipFill>
          <a:blip r:embed="rId1"/>
          <a:srcRect l="-78212" t="0" r="-78212" b="0"/>
          <a:stretch/>
        </p:blipFill>
        <p:spPr>
          <a:xfrm>
            <a:off x="-2209680" y="1676520"/>
            <a:ext cx="8458200" cy="4876560"/>
          </a:xfrm>
          <a:prstGeom prst="rect">
            <a:avLst/>
          </a:prstGeom>
          <a:ln w="0">
            <a:noFill/>
          </a:ln>
        </p:spPr>
      </p:pic>
      <p:sp>
        <p:nvSpPr>
          <p:cNvPr id="2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C5E3-B3CE-4AC0-880E-B9323390F3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3809880" y="190512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griculture and rural develop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cosystems and biodiversity manage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ducation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nergy supply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Health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frastructure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olid waste managemen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rade and investmen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Water supply and sanitation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6095880" y="661356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FB4B-BAF4-47F4-95E4-BD4BF051D17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trategic environmental 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assessment (SEA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180880"/>
            <a:ext cx="8077320" cy="35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An iterative and participative proces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alysing potential environmental consequences of proposed policies/plans/programmes, as well as the main environmental opportunities, risks and constraints to be taken into accou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taking into consideration the expected effects of climate chan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or the purpose of promoting more sustainable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Rounded Rectangle 5"/>
          <p:cNvSpPr/>
          <p:nvPr/>
        </p:nvSpPr>
        <p:spPr>
          <a:xfrm>
            <a:off x="1219320" y="5715000"/>
            <a:ext cx="6705360" cy="83808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nsures that environmental considerations are taken into account EARLY in the policy &amp; planning proces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Approaches to SE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89000"/>
            <a:ext cx="8362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Based on draft PPP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v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in parallel to PPP elaboration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v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fully integrat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C283-77E7-4799-BA8F-CD8DC64B2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5" name="Picture 1" descr="SEA process 1.png"/>
          <p:cNvPicPr/>
          <p:nvPr/>
        </p:nvPicPr>
        <p:blipFill>
          <a:blip r:embed="rId1"/>
          <a:stretch/>
        </p:blipFill>
        <p:spPr>
          <a:xfrm>
            <a:off x="395280" y="3213000"/>
            <a:ext cx="3960720" cy="26290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2"/>
          <p:cNvSpPr/>
          <p:nvPr/>
        </p:nvSpPr>
        <p:spPr>
          <a:xfrm>
            <a:off x="4038480" y="643428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GTZ (nd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7" name="Picture 2" descr="SEA process 2.png"/>
          <p:cNvPicPr/>
          <p:nvPr/>
        </p:nvPicPr>
        <p:blipFill>
          <a:blip r:embed="rId2"/>
          <a:stretch/>
        </p:blipFill>
        <p:spPr>
          <a:xfrm>
            <a:off x="4716360" y="3146400"/>
            <a:ext cx="422280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Guidelines for SE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65AB-075E-4515-8C99-D476935C0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0" y="1139760"/>
            <a:ext cx="3095640" cy="4953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3124080" y="990720"/>
            <a:ext cx="2514600" cy="3566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3"/>
          <a:stretch/>
        </p:blipFill>
        <p:spPr>
          <a:xfrm>
            <a:off x="6095880" y="99072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"/>
          <p:cNvPicPr/>
          <p:nvPr/>
        </p:nvPicPr>
        <p:blipFill>
          <a:blip r:embed="rId4"/>
          <a:stretch/>
        </p:blipFill>
        <p:spPr>
          <a:xfrm>
            <a:off x="3429000" y="2133720"/>
            <a:ext cx="2514600" cy="3429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"/>
          <p:cNvPicPr/>
          <p:nvPr/>
        </p:nvPicPr>
        <p:blipFill>
          <a:blip r:embed="rId5"/>
          <a:stretch/>
        </p:blipFill>
        <p:spPr>
          <a:xfrm>
            <a:off x="6629400" y="205740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"/>
          <p:cNvPicPr/>
          <p:nvPr/>
        </p:nvPicPr>
        <p:blipFill>
          <a:blip r:embed="rId6"/>
          <a:stretch/>
        </p:blipFill>
        <p:spPr>
          <a:xfrm>
            <a:off x="3809880" y="3219480"/>
            <a:ext cx="25146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" y="126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xamples of SEA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44CB-7316-42A5-9D60-578D6A60C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8" name="Picture 4" descr="SEA report Rwanda cover.png"/>
          <p:cNvPicPr/>
          <p:nvPr/>
        </p:nvPicPr>
        <p:blipFill>
          <a:blip r:embed="rId1"/>
          <a:stretch/>
        </p:blipFill>
        <p:spPr>
          <a:xfrm>
            <a:off x="33480" y="2021040"/>
            <a:ext cx="2798640" cy="38098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0" y="60595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Rwanda’s Agricultural Polic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0" name="Picture 7" descr="SEA report Zambia cover.png"/>
          <p:cNvPicPr/>
          <p:nvPr/>
        </p:nvPicPr>
        <p:blipFill>
          <a:blip r:embed="rId2"/>
          <a:stretch/>
        </p:blipFill>
        <p:spPr>
          <a:xfrm>
            <a:off x="3048120" y="1258920"/>
            <a:ext cx="2892240" cy="38098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8"/>
          <p:cNvSpPr/>
          <p:nvPr/>
        </p:nvSpPr>
        <p:spPr>
          <a:xfrm>
            <a:off x="3048120" y="522144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Zambia’s sugar sector reform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2" name="Picture 9" descr="SEA mining SL cover.png"/>
          <p:cNvPicPr/>
          <p:nvPr/>
        </p:nvPicPr>
        <p:blipFill>
          <a:blip r:embed="rId3"/>
          <a:stretch/>
        </p:blipFill>
        <p:spPr>
          <a:xfrm>
            <a:off x="6124680" y="152280"/>
            <a:ext cx="2993760" cy="44197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0"/>
          <p:cNvSpPr/>
          <p:nvPr/>
        </p:nvSpPr>
        <p:spPr>
          <a:xfrm>
            <a:off x="6222960" y="4724280"/>
            <a:ext cx="28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Sierra Leone’s mining sector reform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Example: supporting the development of a national SEA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 Chile the EU supported the development of the national SEA syste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etting up of an SEA department within the environmental author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Development of regulatory framework and guidanc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Pilot SEAs to build capacities and test the syste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2828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dentifies potential risks for a programme or project by assessing, in its specific contex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 standard </a:t>
            </a:r>
            <a:r>
              <a:rPr b="0" i="1" lang="en-GB" sz="2400" spc="-1" strike="noStrike">
                <a:solidFill>
                  <a:srgbClr val="002060"/>
                </a:solidFill>
                <a:latin typeface="Verdana"/>
              </a:rPr>
              <a:t>screening questionnaire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an be developed to support this exercis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B2DA-4A2B-4F27-9A0F-198951286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Rounded Rectangle 4"/>
          <p:cNvSpPr/>
          <p:nvPr/>
        </p:nvSpPr>
        <p:spPr>
          <a:xfrm>
            <a:off x="1295280" y="2819520"/>
            <a:ext cx="2362320" cy="609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sure to the effects of C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Rounded Rectangle 5"/>
          <p:cNvSpPr/>
          <p:nvPr/>
        </p:nvSpPr>
        <p:spPr>
          <a:xfrm>
            <a:off x="1295280" y="3581280"/>
            <a:ext cx="2362320" cy="6098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ensitivity to such eff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Rounded Rectangle 6"/>
          <p:cNvSpPr/>
          <p:nvPr/>
        </p:nvSpPr>
        <p:spPr>
          <a:xfrm>
            <a:off x="1295280" y="4343400"/>
            <a:ext cx="2362320" cy="814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sponse &amp; adaptation capacit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Rounded Rectangle 7"/>
          <p:cNvSpPr/>
          <p:nvPr/>
        </p:nvSpPr>
        <p:spPr>
          <a:xfrm>
            <a:off x="4648320" y="2819520"/>
            <a:ext cx="2361960" cy="609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ladaptation risk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Rounded Rectangle 8"/>
          <p:cNvSpPr/>
          <p:nvPr/>
        </p:nvSpPr>
        <p:spPr>
          <a:xfrm>
            <a:off x="4648320" y="3789360"/>
            <a:ext cx="2361960" cy="13683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mpacts on climate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GHG emissions/ emission removals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514240"/>
            <a:ext cx="853416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Why mainstream environment and climate change at the national, sector and sub-national level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63EA-C9B0-472E-A8E2-9D7959CF7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4130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Various tools available, e.g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 (World Bank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TAL (SDC, IISD, SEI, IUCN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limate-FIRST (ADB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ORCHID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P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APAssess (SEI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ation Wizard (UK climate impacts programme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anida Climate change screening matrix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ee, e.g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 (2010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, UNEP, UNEP Riso Centre (2011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50A6-356E-4104-8A4E-3C74EB7AD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008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utcomes of 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2CF1-78E0-4A55-B79D-2BABAE50A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Rounded Rectangle 3"/>
          <p:cNvSpPr/>
          <p:nvPr/>
        </p:nvSpPr>
        <p:spPr>
          <a:xfrm>
            <a:off x="468360" y="52801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GHG emissions or emission removals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Rounded Rectangle 4"/>
          <p:cNvSpPr/>
          <p:nvPr/>
        </p:nvSpPr>
        <p:spPr>
          <a:xfrm>
            <a:off x="2971800" y="5791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Significa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Rounded Rectangle 5"/>
          <p:cNvSpPr/>
          <p:nvPr/>
        </p:nvSpPr>
        <p:spPr>
          <a:xfrm>
            <a:off x="4952880" y="1316160"/>
            <a:ext cx="378000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No specific action, or limited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Rounded Rectangle 6"/>
          <p:cNvSpPr/>
          <p:nvPr/>
        </p:nvSpPr>
        <p:spPr>
          <a:xfrm>
            <a:off x="4952880" y="1841400"/>
            <a:ext cx="3780000" cy="57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adaptation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Rounded Rectangle 7"/>
          <p:cNvSpPr/>
          <p:nvPr/>
        </p:nvSpPr>
        <p:spPr>
          <a:xfrm>
            <a:off x="4952880" y="2529000"/>
            <a:ext cx="3780000" cy="82872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redesign  for reduced vulnerability/enhanced adaptive capacity, or even aband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Rounded Rectangle 8"/>
          <p:cNvSpPr/>
          <p:nvPr/>
        </p:nvSpPr>
        <p:spPr>
          <a:xfrm>
            <a:off x="4952880" y="3505320"/>
            <a:ext cx="3780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No specific ac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Rounded Rectangle 9"/>
          <p:cNvSpPr/>
          <p:nvPr/>
        </p:nvSpPr>
        <p:spPr>
          <a:xfrm>
            <a:off x="4932360" y="4084560"/>
            <a:ext cx="3780000" cy="7923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redesign for reduced maladaptation risk, or even aband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Rounded Rectangle 10"/>
          <p:cNvSpPr/>
          <p:nvPr/>
        </p:nvSpPr>
        <p:spPr>
          <a:xfrm>
            <a:off x="4952880" y="5181480"/>
            <a:ext cx="3780000" cy="43200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No specific action, or limited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Rounded Rectangle 11"/>
          <p:cNvSpPr/>
          <p:nvPr/>
        </p:nvSpPr>
        <p:spPr>
          <a:xfrm>
            <a:off x="4952880" y="5791320"/>
            <a:ext cx="3780000" cy="50328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 and enhancement of mitigation potential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Rounded Rectangle 12"/>
          <p:cNvSpPr/>
          <p:nvPr/>
        </p:nvSpPr>
        <p:spPr>
          <a:xfrm>
            <a:off x="468360" y="17035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Vulnerability to the effects of CC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Rounded Rectangle 13"/>
          <p:cNvSpPr/>
          <p:nvPr/>
        </p:nvSpPr>
        <p:spPr>
          <a:xfrm>
            <a:off x="457200" y="3530520"/>
            <a:ext cx="205272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Risk of maladapt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Rounded Rectangle 14"/>
          <p:cNvSpPr/>
          <p:nvPr/>
        </p:nvSpPr>
        <p:spPr>
          <a:xfrm>
            <a:off x="2971800" y="1316160"/>
            <a:ext cx="1440000" cy="433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ne or low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Rounded Rectangle 15"/>
          <p:cNvSpPr/>
          <p:nvPr/>
        </p:nvSpPr>
        <p:spPr>
          <a:xfrm>
            <a:off x="2987640" y="191916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Mediu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Rounded Rectangle 16"/>
          <p:cNvSpPr/>
          <p:nvPr/>
        </p:nvSpPr>
        <p:spPr>
          <a:xfrm>
            <a:off x="2987640" y="251136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igh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Rounded Rectangle 17"/>
          <p:cNvSpPr/>
          <p:nvPr/>
        </p:nvSpPr>
        <p:spPr>
          <a:xfrm>
            <a:off x="2971800" y="3505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Rounded Rectangle 18"/>
          <p:cNvSpPr/>
          <p:nvPr/>
        </p:nvSpPr>
        <p:spPr>
          <a:xfrm>
            <a:off x="2987640" y="4097160"/>
            <a:ext cx="1440000" cy="4320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Rounded Rectangle 19"/>
          <p:cNvSpPr/>
          <p:nvPr/>
        </p:nvSpPr>
        <p:spPr>
          <a:xfrm>
            <a:off x="2987640" y="51721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Insignifica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TextBox 20"/>
          <p:cNvSpPr/>
          <p:nvPr/>
        </p:nvSpPr>
        <p:spPr>
          <a:xfrm>
            <a:off x="2948040" y="6381720"/>
            <a:ext cx="4824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62673"/>
                </a:solidFill>
                <a:latin typeface="Calibri"/>
                <a:ea typeface="Calibri"/>
              </a:rPr>
              <a:t>(*) In proportion to the size/scope of the interventio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ounded Rectangle 1"/>
          <p:cNvSpPr/>
          <p:nvPr/>
        </p:nvSpPr>
        <p:spPr>
          <a:xfrm>
            <a:off x="468360" y="1413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s the assessment linked to: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Rounded Rectangle 2"/>
          <p:cNvSpPr/>
          <p:nvPr/>
        </p:nvSpPr>
        <p:spPr>
          <a:xfrm>
            <a:off x="468360" y="2151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olicy, strategy, programme or project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Flowchart: Decision 3"/>
          <p:cNvSpPr/>
          <p:nvPr/>
        </p:nvSpPr>
        <p:spPr>
          <a:xfrm>
            <a:off x="3995640" y="2241720"/>
            <a:ext cx="11527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Rounded Rectangle 4"/>
          <p:cNvSpPr/>
          <p:nvPr/>
        </p:nvSpPr>
        <p:spPr>
          <a:xfrm>
            <a:off x="5796000" y="2486160"/>
            <a:ext cx="2879640" cy="61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Vulnerability and adaptation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Flowchart: Decision 6"/>
          <p:cNvSpPr/>
          <p:nvPr/>
        </p:nvSpPr>
        <p:spPr>
          <a:xfrm>
            <a:off x="1332000" y="2960640"/>
            <a:ext cx="1150920" cy="43200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Rounded Rectangle 7"/>
          <p:cNvSpPr/>
          <p:nvPr/>
        </p:nvSpPr>
        <p:spPr>
          <a:xfrm>
            <a:off x="468360" y="3591000"/>
            <a:ext cx="2879640" cy="611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olicy, plan, programme, strategy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Flowchart: Decision 8"/>
          <p:cNvSpPr/>
          <p:nvPr/>
        </p:nvSpPr>
        <p:spPr>
          <a:xfrm>
            <a:off x="3995640" y="35370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Flowchart: Decision 11"/>
          <p:cNvSpPr/>
          <p:nvPr/>
        </p:nvSpPr>
        <p:spPr>
          <a:xfrm>
            <a:off x="1332000" y="4400640"/>
            <a:ext cx="11509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Rounded Rectangle 13"/>
          <p:cNvSpPr/>
          <p:nvPr/>
        </p:nvSpPr>
        <p:spPr>
          <a:xfrm>
            <a:off x="468360" y="50292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roject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Flowchart: Decision 14"/>
          <p:cNvSpPr/>
          <p:nvPr/>
        </p:nvSpPr>
        <p:spPr>
          <a:xfrm>
            <a:off x="3995640" y="49752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Rounded Rectangle 15"/>
          <p:cNvSpPr/>
          <p:nvPr/>
        </p:nvSpPr>
        <p:spPr>
          <a:xfrm>
            <a:off x="5796000" y="3591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Strategic environmental assessme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Rounded Rectangle 17"/>
          <p:cNvSpPr/>
          <p:nvPr/>
        </p:nvSpPr>
        <p:spPr>
          <a:xfrm>
            <a:off x="5796000" y="50292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Environmental impact assessme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TextBox 18"/>
          <p:cNvSpPr/>
          <p:nvPr/>
        </p:nvSpPr>
        <p:spPr>
          <a:xfrm>
            <a:off x="5508720" y="6232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  <a:ea typeface="Calibri"/>
              </a:rPr>
              <a:t>(*) With ToRs adapted to include climate-related consider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0" name="Straight Arrow Connector 20"/>
          <p:cNvCxnSpPr>
            <a:stCxn id="278" idx="3"/>
            <a:endCxn id="279" idx="1"/>
          </p:cNvCxnSpPr>
          <p:nvPr/>
        </p:nvCxnSpPr>
        <p:spPr>
          <a:xfrm>
            <a:off x="3347640" y="2457000"/>
            <a:ext cx="648360" cy="252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1" name="Straight Arrow Connector 24"/>
          <p:cNvCxnSpPr>
            <a:stCxn id="282" idx="3"/>
            <a:endCxn id="283" idx="1"/>
          </p:cNvCxnSpPr>
          <p:nvPr/>
        </p:nvCxnSpPr>
        <p:spPr>
          <a:xfrm>
            <a:off x="3347640" y="38970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2" name="Straight Arrow Connector 26"/>
          <p:cNvCxnSpPr>
            <a:stCxn id="283" idx="3"/>
            <a:endCxn id="287" idx="1"/>
          </p:cNvCxnSpPr>
          <p:nvPr/>
        </p:nvCxnSpPr>
        <p:spPr>
          <a:xfrm>
            <a:off x="5148000" y="38973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3" name="Straight Arrow Connector 37"/>
          <p:cNvCxnSpPr>
            <a:stCxn id="285" idx="3"/>
            <a:endCxn id="286" idx="1"/>
          </p:cNvCxnSpPr>
          <p:nvPr/>
        </p:nvCxnSpPr>
        <p:spPr>
          <a:xfrm>
            <a:off x="3347640" y="53352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4" name="Straight Arrow Connector 39"/>
          <p:cNvCxnSpPr>
            <a:stCxn id="286" idx="3"/>
            <a:endCxn id="288" idx="1"/>
          </p:cNvCxnSpPr>
          <p:nvPr/>
        </p:nvCxnSpPr>
        <p:spPr>
          <a:xfrm>
            <a:off x="5148000" y="53355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5" name="Straight Arrow Connector 46"/>
          <p:cNvCxnSpPr>
            <a:stCxn id="278" idx="2"/>
            <a:endCxn id="281" idx="0"/>
          </p:cNvCxnSpPr>
          <p:nvPr/>
        </p:nvCxnSpPr>
        <p:spPr>
          <a:xfrm flipH="1">
            <a:off x="1907280" y="2763360"/>
            <a:ext cx="108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6" name="Straight Arrow Connector 48"/>
          <p:cNvCxnSpPr>
            <a:stCxn id="281" idx="2"/>
            <a:endCxn id="282" idx="0"/>
          </p:cNvCxnSpPr>
          <p:nvPr/>
        </p:nvCxnSpPr>
        <p:spPr>
          <a:xfrm>
            <a:off x="1906920" y="3392280"/>
            <a:ext cx="108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7" name="Straight Arrow Connector 50"/>
          <p:cNvCxnSpPr>
            <a:stCxn id="282" idx="2"/>
          </p:cNvCxnSpPr>
          <p:nvPr/>
        </p:nvCxnSpPr>
        <p:spPr>
          <a:xfrm flipH="1">
            <a:off x="1907280" y="4201920"/>
            <a:ext cx="108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8" name="Straight Arrow Connector 56"/>
          <p:cNvCxnSpPr>
            <a:stCxn id="284" idx="2"/>
            <a:endCxn id="285" idx="0"/>
          </p:cNvCxnSpPr>
          <p:nvPr/>
        </p:nvCxnSpPr>
        <p:spPr>
          <a:xfrm>
            <a:off x="1906920" y="4831920"/>
            <a:ext cx="108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sp>
        <p:nvSpPr>
          <p:cNvPr id="299" name="TextBox 47"/>
          <p:cNvSpPr/>
          <p:nvPr/>
        </p:nvSpPr>
        <p:spPr>
          <a:xfrm>
            <a:off x="468360" y="6273720"/>
            <a:ext cx="43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c8c93"/>
                </a:solidFill>
                <a:latin typeface="Calibri"/>
                <a:ea typeface="Calibri"/>
              </a:rPr>
              <a:t>(†) Climate risk screening can be applied before undertaking a more detailed assessment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Slide Number Placeholder 2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02AD-46F9-40ED-91BF-AD2726E87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Rounded Rectangle 38"/>
          <p:cNvSpPr/>
          <p:nvPr/>
        </p:nvSpPr>
        <p:spPr>
          <a:xfrm>
            <a:off x="5791320" y="1725480"/>
            <a:ext cx="2879640" cy="6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Integrated ecosystems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2" name="Elbow Connector 19"/>
          <p:cNvCxnSpPr>
            <a:stCxn id="279" idx="3"/>
            <a:endCxn id="301" idx="1"/>
          </p:cNvCxnSpPr>
          <p:nvPr/>
        </p:nvCxnSpPr>
        <p:spPr>
          <a:xfrm flipV="1">
            <a:off x="5148360" y="2031480"/>
            <a:ext cx="643320" cy="42624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303" name="Elbow Connector 23"/>
          <p:cNvCxnSpPr>
            <a:stCxn id="279" idx="3"/>
            <a:endCxn id="280" idx="1"/>
          </p:cNvCxnSpPr>
          <p:nvPr/>
        </p:nvCxnSpPr>
        <p:spPr>
          <a:xfrm>
            <a:off x="5148000" y="2457360"/>
            <a:ext cx="648360" cy="33408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urning words into a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2285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streaming environment and climate change in national and sector policies, strategies and program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7493-BD15-4A9D-9FDB-92765CCFC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Rounded Rectangle 4"/>
          <p:cNvSpPr/>
          <p:nvPr/>
        </p:nvSpPr>
        <p:spPr>
          <a:xfrm>
            <a:off x="1866960" y="3962520"/>
            <a:ext cx="5410080" cy="2058840"/>
          </a:xfrm>
          <a:prstGeom prst="roundRect">
            <a:avLst>
              <a:gd name="adj" fmla="val 16667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7b"/>
                </a:solidFill>
                <a:latin typeface="Verdana"/>
              </a:rPr>
              <a:t>What can be done and what are the institutional and capacity needs in your country/ sector of responsibility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23640" y="1267920"/>
            <a:ext cx="8569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streaming environment and climate change at strategic planning levels supports more integrated, effective, efficient and sustainable respon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16680" indent="-2372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But top-down and bottom-up approaches are complementary and mainstreaming is also justified at local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ultiple tools and approaches are available to support environmental and climate change mainstreaming in policies, strategies, programmes and proje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oth ad hoc studies and assessments, and integration of environmental and climate-related considerations in feasibility / formulation studies, support this mainstreaming proces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389F-ED66-485E-A5BC-606ED941E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92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28600" y="150768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C (2009a) EC Cooperation: Responding to Climate </a:t>
            </a:r>
            <a:br>
              <a:rPr sz="1800"/>
            </a:b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ange – ‘Sector scripts’ series. European Commission, Bruss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C (2009b) Guidelines on the Integration of </a:t>
            </a:r>
            <a:br>
              <a:rPr sz="1800"/>
            </a:b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vironment and Climate Change in Development Cooperation. European Commission, Bruss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ECD DAC (2006) Applying Strategic Environmental Assessment, good practice guidance for development co-operation. OECD: Paris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 (2010) Screening tools and guidelines to support the mainstreaming of climate change adaptation into development assistance – a stocktaking re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, UNEP, UNEP Riso Centre (2011) Climate risk screening tools and their application. CC DARE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EE94-910C-452C-AC8E-5E74D5FC3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24000" y="1268280"/>
            <a:ext cx="83628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essai S. &amp; Hulme M. (2004) Does climate adaptation policy need probabilities? Climate Policy, vol. 4 (2) 107-128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mikehulme.org/wp-content/uploads/2007/04/2004-dessai-hulme-probabilities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GTZ (nd) Strategic Environmental Assessment, a practice-oriented training for policy-makers, administration officials, consultants and NGO representatives. Powerpoint presentation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ECD (2009a) Integrating Climate Change Adaptation into Development Co-operation: Policy guidance. OECD Publishing, Paris. [Read-only, browse-it edition]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browse.oecdbookshop.org/oecd/pdfs/browseit/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4309171E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ECD DAC (2010) Strategic Environmental Assessment and Adaptation to Climate Change. OECD: Paris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lhoff A. &amp; Schaer C. (2010) Screening tools and guidelines to support the mainstreaming of climate change adaptation into development assistance: A stocktaking report. Environment &amp; Energy Group, United Nations Development Programme, New York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http://www.undp.org/climatechange/library_integrating_cc.s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0348-216B-459B-88B4-5FB6DB31D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strategic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lanning levels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3657600" y="487692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1028880" y="1447920"/>
            <a:ext cx="4914720" cy="4876560"/>
          </a:xfrm>
          <a:prstGeom prst="ellipse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3657600" y="388620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3657600" y="2895480"/>
            <a:ext cx="1676520" cy="10670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914400" y="2133720"/>
            <a:ext cx="182880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National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3962520" y="323064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3962520" y="4267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3962520" y="5181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6019920" y="2362320"/>
            <a:ext cx="1600200" cy="58068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ate of the Envir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6019920" y="5857920"/>
            <a:ext cx="1600200" cy="82404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ocio-economic situ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4"/>
          <p:cNvCxnSpPr>
            <a:stCxn id="108" idx="2"/>
            <a:endCxn id="109" idx="0"/>
          </p:cNvCxnSpPr>
          <p:nvPr/>
        </p:nvCxnSpPr>
        <p:spPr>
          <a:xfrm>
            <a:off x="6819480" y="2946240"/>
            <a:ext cx="1080" cy="2912400"/>
          </a:xfrm>
          <a:prstGeom prst="straightConnector1">
            <a:avLst/>
          </a:prstGeom>
          <a:ln w="38160">
            <a:solidFill>
              <a:srgbClr val="0099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1" name="Straight Arrow Connector 16"/>
          <p:cNvCxnSpPr>
            <a:stCxn id="108" idx="1"/>
            <a:endCxn id="103" idx="7"/>
          </p:cNvCxnSpPr>
          <p:nvPr/>
        </p:nvCxnSpPr>
        <p:spPr>
          <a:xfrm flipH="1">
            <a:off x="5087160" y="2654280"/>
            <a:ext cx="932760" cy="39744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2" name="Straight Arrow Connector 18"/>
          <p:cNvCxnSpPr/>
          <p:nvPr/>
        </p:nvCxnSpPr>
        <p:spPr>
          <a:xfrm flipH="1">
            <a:off x="5181120" y="3047760"/>
            <a:ext cx="1067760" cy="10674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3" name="Straight Arrow Connector 20"/>
          <p:cNvCxnSpPr/>
          <p:nvPr/>
        </p:nvCxnSpPr>
        <p:spPr>
          <a:xfrm flipH="1">
            <a:off x="5257440" y="3048120"/>
            <a:ext cx="1296000" cy="2134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4" name="Straight Arrow Connector 22"/>
          <p:cNvCxnSpPr/>
          <p:nvPr/>
        </p:nvCxnSpPr>
        <p:spPr>
          <a:xfrm flipH="1" flipV="1">
            <a:off x="5257440" y="3657240"/>
            <a:ext cx="1296000" cy="221040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5" name="Straight Arrow Connector 24"/>
          <p:cNvCxnSpPr/>
          <p:nvPr/>
        </p:nvCxnSpPr>
        <p:spPr>
          <a:xfrm flipH="1" flipV="1">
            <a:off x="5333760" y="4647960"/>
            <a:ext cx="838800" cy="12196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6" name="Straight Arrow Connector 26"/>
          <p:cNvCxnSpPr>
            <a:stCxn id="109" idx="1"/>
          </p:cNvCxnSpPr>
          <p:nvPr/>
        </p:nvCxnSpPr>
        <p:spPr>
          <a:xfrm flipH="1" flipV="1">
            <a:off x="5257080" y="5638320"/>
            <a:ext cx="762840" cy="6357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headEnd len="med" type="arrow" w="med"/>
            <a:tailEnd len="med" type="arrow" w="med"/>
          </a:ln>
        </p:spPr>
      </p:cxnSp>
      <p:sp>
        <p:nvSpPr>
          <p:cNvPr id="117" name="TextBox 29"/>
          <p:cNvSpPr/>
          <p:nvPr/>
        </p:nvSpPr>
        <p:spPr>
          <a:xfrm>
            <a:off x="1371600" y="3352680"/>
            <a:ext cx="167652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Sector coordin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30"/>
          <p:cNvSpPr/>
          <p:nvPr/>
        </p:nvSpPr>
        <p:spPr>
          <a:xfrm>
            <a:off x="1371600" y="4572000"/>
            <a:ext cx="1676520" cy="119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Allocation of resources across secto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9" name="Straight Arrow Connector 32"/>
          <p:cNvCxnSpPr>
            <a:stCxn id="117" idx="3"/>
            <a:endCxn id="103" idx="2"/>
          </p:cNvCxnSpPr>
          <p:nvPr/>
        </p:nvCxnSpPr>
        <p:spPr>
          <a:xfrm flipV="1">
            <a:off x="3047760" y="3428640"/>
            <a:ext cx="610200" cy="2469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0" name="Straight Arrow Connector 34"/>
          <p:cNvCxnSpPr>
            <a:stCxn id="117" idx="3"/>
            <a:endCxn id="102" idx="2"/>
          </p:cNvCxnSpPr>
          <p:nvPr/>
        </p:nvCxnSpPr>
        <p:spPr>
          <a:xfrm>
            <a:off x="3047760" y="3675240"/>
            <a:ext cx="610200" cy="74520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1" name="Straight Arrow Connector 36"/>
          <p:cNvCxnSpPr>
            <a:stCxn id="117" idx="3"/>
            <a:endCxn id="100" idx="2"/>
          </p:cNvCxnSpPr>
          <p:nvPr/>
        </p:nvCxnSpPr>
        <p:spPr>
          <a:xfrm>
            <a:off x="3047760" y="3674880"/>
            <a:ext cx="610200" cy="17355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2" name="Straight Arrow Connector 38"/>
          <p:cNvCxnSpPr>
            <a:stCxn id="118" idx="3"/>
            <a:endCxn id="103" idx="2"/>
          </p:cNvCxnSpPr>
          <p:nvPr/>
        </p:nvCxnSpPr>
        <p:spPr>
          <a:xfrm flipV="1">
            <a:off x="3047760" y="3428640"/>
            <a:ext cx="610200" cy="174384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3" name="Straight Arrow Connector 40"/>
          <p:cNvCxnSpPr>
            <a:stCxn id="118" idx="3"/>
            <a:endCxn id="102" idx="2"/>
          </p:cNvCxnSpPr>
          <p:nvPr/>
        </p:nvCxnSpPr>
        <p:spPr>
          <a:xfrm flipV="1">
            <a:off x="3047760" y="4419360"/>
            <a:ext cx="610200" cy="75312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4" name="Straight Arrow Connector 42"/>
          <p:cNvCxnSpPr>
            <a:stCxn id="118" idx="3"/>
            <a:endCxn id="100" idx="2"/>
          </p:cNvCxnSpPr>
          <p:nvPr/>
        </p:nvCxnSpPr>
        <p:spPr>
          <a:xfrm>
            <a:off x="3047760" y="5171760"/>
            <a:ext cx="610200" cy="2386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125" name="Left Brace 43"/>
          <p:cNvSpPr/>
          <p:nvPr/>
        </p:nvSpPr>
        <p:spPr>
          <a:xfrm>
            <a:off x="685800" y="293364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2971800"/>
              <a:gd name="textAreaBottom" fmla="*/ 296208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1"/>
                </a:cubicBezTo>
                <a:lnTo>
                  <a:pt x="10800" y="10569"/>
                </a:lnTo>
                <a:cubicBezTo>
                  <a:pt x="10800" y="10685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1"/>
                </a:cubicBezTo>
                <a:lnTo>
                  <a:pt x="10800" y="21369"/>
                </a:lnTo>
                <a:cubicBezTo>
                  <a:pt x="10800" y="2148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44"/>
          <p:cNvSpPr/>
          <p:nvPr/>
        </p:nvSpPr>
        <p:spPr>
          <a:xfrm rot="16200000">
            <a:off x="-1511280" y="389232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More: -integrated -effective-efficient-sustainable respons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Slide Number Placeholder 31"/>
          <p:cNvSpPr/>
          <p:nvPr/>
        </p:nvSpPr>
        <p:spPr>
          <a:xfrm>
            <a:off x="6705720" y="7147080"/>
            <a:ext cx="2133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99CD-98FE-4712-9C1A-319C96991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TextBox 45"/>
          <p:cNvSpPr/>
          <p:nvPr/>
        </p:nvSpPr>
        <p:spPr>
          <a:xfrm>
            <a:off x="7543800" y="4114800"/>
            <a:ext cx="1219320" cy="64260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mate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ng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TextBox 49"/>
          <p:cNvSpPr/>
          <p:nvPr/>
        </p:nvSpPr>
        <p:spPr>
          <a:xfrm>
            <a:off x="7391520" y="3060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bio-physical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TextBox 56"/>
          <p:cNvSpPr/>
          <p:nvPr/>
        </p:nvSpPr>
        <p:spPr>
          <a:xfrm>
            <a:off x="7010280" y="50292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socio-economic 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Straight Connector 60"/>
          <p:cNvSpPr/>
          <p:nvPr/>
        </p:nvSpPr>
        <p:spPr>
          <a:xfrm flipV="1">
            <a:off x="8153280" y="3789360"/>
            <a:ext cx="19080" cy="3254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Straight Connector 62"/>
          <p:cNvSpPr/>
          <p:nvPr/>
        </p:nvSpPr>
        <p:spPr>
          <a:xfrm>
            <a:off x="8153280" y="4761000"/>
            <a:ext cx="0" cy="268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33" name="Elbow Connector 19460"/>
          <p:cNvCxnSpPr>
            <a:stCxn id="129" idx="0"/>
            <a:endCxn id="108" idx="3"/>
          </p:cNvCxnSpPr>
          <p:nvPr/>
        </p:nvCxnSpPr>
        <p:spPr>
          <a:xfrm flipV="1" rot="16200000">
            <a:off x="7682760" y="2590200"/>
            <a:ext cx="407160" cy="53388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Elbow Connector 19466"/>
          <p:cNvCxnSpPr>
            <a:stCxn id="130" idx="2"/>
            <a:endCxn id="109" idx="3"/>
          </p:cNvCxnSpPr>
          <p:nvPr/>
        </p:nvCxnSpPr>
        <p:spPr>
          <a:xfrm rot="5400000">
            <a:off x="7556040" y="5676840"/>
            <a:ext cx="660600" cy="53388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229600" cy="9349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strategic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lanning levels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685800" y="2076480"/>
            <a:ext cx="378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Overall guiding policy framework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4572000" y="2076480"/>
            <a:ext cx="39592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Operationalisation and implementation of national polici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1676520" y="1523880"/>
            <a:ext cx="1828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National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5638680" y="1523880"/>
            <a:ext cx="18288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Sector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685800" y="3456000"/>
            <a:ext cx="3780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Exercise of some key function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4572000" y="354348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Verdana"/>
              </a:rPr>
              <a:t>Own initiatives, development of capacities &amp; good practic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4572000" y="299736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Verdana"/>
              </a:rPr>
              <a:t>Sector-specific legislation/regulatio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685800" y="277020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National legislation/regulatio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685800" y="414180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anagement of international relation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4572000" y="4135320"/>
            <a:ext cx="44197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Transboundary cooperation on environment and climate-relevant issu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2592360" y="510552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Wider pool of resourc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14"/>
          <p:cNvSpPr/>
          <p:nvPr/>
        </p:nvSpPr>
        <p:spPr>
          <a:xfrm>
            <a:off x="1752480" y="5940360"/>
            <a:ext cx="5639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ore widespread capacity and institution build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TextBox 15"/>
          <p:cNvSpPr/>
          <p:nvPr/>
        </p:nvSpPr>
        <p:spPr>
          <a:xfrm>
            <a:off x="2592360" y="553068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Wider ownership of response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A360-157A-4B90-9372-1C0AD1136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17"/>
          <p:cNvSpPr/>
          <p:nvPr/>
        </p:nvSpPr>
        <p:spPr>
          <a:xfrm>
            <a:off x="5987880" y="650556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ECD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lower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levels of governance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3581280" y="3284640"/>
            <a:ext cx="198144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Sub-national and local level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ular Callout 5"/>
          <p:cNvSpPr/>
          <p:nvPr/>
        </p:nvSpPr>
        <p:spPr>
          <a:xfrm>
            <a:off x="380880" y="1523880"/>
            <a:ext cx="2210040" cy="2057400"/>
          </a:xfrm>
          <a:prstGeom prst="wedgeRoundRectCallout">
            <a:avLst>
              <a:gd name="adj1" fmla="val 94958"/>
              <a:gd name="adj2" fmla="val 489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est levels for observing / understanding development, environmental and climate change 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ular Callout 6"/>
          <p:cNvSpPr/>
          <p:nvPr/>
        </p:nvSpPr>
        <p:spPr>
          <a:xfrm>
            <a:off x="4724280" y="1600200"/>
            <a:ext cx="2133720" cy="1295280"/>
          </a:xfrm>
          <a:prstGeom prst="wedgeRoundRectCallout">
            <a:avLst>
              <a:gd name="adj1" fmla="val -29912"/>
              <a:gd name="adj2" fmla="val 744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Vulnerability and adaptive capacity are context-specifi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Rounded Rectangular Callout 7"/>
          <p:cNvSpPr/>
          <p:nvPr/>
        </p:nvSpPr>
        <p:spPr>
          <a:xfrm>
            <a:off x="762120" y="4724280"/>
            <a:ext cx="2971800" cy="1752840"/>
          </a:xfrm>
          <a:prstGeom prst="wedgeRoundRectCallout">
            <a:avLst>
              <a:gd name="adj1" fmla="val 52342"/>
              <a:gd name="adj2" fmla="val -93263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st options to respond to environmental degradation and adapt to CC require local implement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Rounded Rectangular Callout 8"/>
          <p:cNvSpPr/>
          <p:nvPr/>
        </p:nvSpPr>
        <p:spPr>
          <a:xfrm>
            <a:off x="5715000" y="4724280"/>
            <a:ext cx="2057400" cy="1295640"/>
          </a:xfrm>
          <a:prstGeom prst="wedgeRoundRectCallout">
            <a:avLst>
              <a:gd name="adj1" fmla="val -67518"/>
              <a:gd name="adj2" fmla="val -106231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tential for piloting / pioneering initiativ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B35F-160A-4587-B343-BBFFDE4F2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4343400" y="64008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ECD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Key stakeholders and cross-level interacti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594D-B015-4CBD-980F-AEE5E5816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878508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Approaches to respond to environmental degradation and adapt to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Oval 3"/>
          <p:cNvSpPr/>
          <p:nvPr/>
        </p:nvSpPr>
        <p:spPr>
          <a:xfrm>
            <a:off x="3048120" y="1523880"/>
            <a:ext cx="2895480" cy="9907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level incl. sec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2971800" y="4952880"/>
            <a:ext cx="2895480" cy="12128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Verdana"/>
              </a:rPr>
              <a:t>Subnational levels (local in particular)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Down Arrow 5"/>
          <p:cNvSpPr/>
          <p:nvPr/>
        </p:nvSpPr>
        <p:spPr>
          <a:xfrm>
            <a:off x="2438280" y="2743200"/>
            <a:ext cx="990720" cy="2057400"/>
          </a:xfrm>
          <a:prstGeom prst="down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Down Arrow 6"/>
          <p:cNvSpPr/>
          <p:nvPr/>
        </p:nvSpPr>
        <p:spPr>
          <a:xfrm rot="10800000">
            <a:off x="5562360" y="2742840"/>
            <a:ext cx="990360" cy="205740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TextBox 7"/>
          <p:cNvSpPr/>
          <p:nvPr/>
        </p:nvSpPr>
        <p:spPr>
          <a:xfrm rot="5400000">
            <a:off x="2093760" y="354204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Verdana"/>
              </a:rPr>
              <a:t>Top-dow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TextBox 8"/>
          <p:cNvSpPr/>
          <p:nvPr/>
        </p:nvSpPr>
        <p:spPr>
          <a:xfrm rot="5400000">
            <a:off x="5149800" y="365148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Bottom-up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723960" y="2590920"/>
            <a:ext cx="1752480" cy="21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Model- and scenario-drive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Focused on physical impacts and ‘biophysical vulnerability’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6781680" y="2478240"/>
            <a:ext cx="198144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Stakeholder approa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Focused on prevailing socio-economic &amp; environmental conditions and on ‘social vulnerability’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Flowchart: Alternate Process 11"/>
          <p:cNvSpPr/>
          <p:nvPr/>
        </p:nvSpPr>
        <p:spPr>
          <a:xfrm>
            <a:off x="647640" y="1447920"/>
            <a:ext cx="1905120" cy="91440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National policies &amp; strate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Flowchart: Alternate Process 12"/>
          <p:cNvSpPr/>
          <p:nvPr/>
        </p:nvSpPr>
        <p:spPr>
          <a:xfrm>
            <a:off x="6819840" y="5334120"/>
            <a:ext cx="1905120" cy="119844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Community-based response, pilot proj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traight Connector 14"/>
          <p:cNvSpPr/>
          <p:nvPr/>
        </p:nvSpPr>
        <p:spPr>
          <a:xfrm>
            <a:off x="2552760" y="1905120"/>
            <a:ext cx="380880" cy="83808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traight Connector 16"/>
          <p:cNvSpPr/>
          <p:nvPr/>
        </p:nvSpPr>
        <p:spPr>
          <a:xfrm flipH="1" flipV="1">
            <a:off x="6058080" y="4800240"/>
            <a:ext cx="761760" cy="113364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54B1-9D2F-4FF0-A8C4-D35518C3D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Rounded Rectangle 15"/>
          <p:cNvSpPr/>
          <p:nvPr/>
        </p:nvSpPr>
        <p:spPr>
          <a:xfrm>
            <a:off x="3505320" y="4005360"/>
            <a:ext cx="1966680" cy="83016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daptation to climate cha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380880" y="625788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reely adapted from Dessai &amp; Hulme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Rounded Rectangle 18"/>
          <p:cNvSpPr/>
          <p:nvPr/>
        </p:nvSpPr>
        <p:spPr>
          <a:xfrm>
            <a:off x="3505320" y="2743200"/>
            <a:ext cx="1952640" cy="11048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sponse to environmental degrad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ain entry points for mainstreaming in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strategic policy and planning proces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73F6-FEF8-4251-994C-BC93A709E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Main entry points in the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national and sector policy cycl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1557360"/>
          <a:ext cx="8153280" cy="4297320"/>
        </p:xfrm>
        <a:graphic>
          <a:graphicData uri="http://schemas.openxmlformats.org/drawingml/2006/table">
            <a:tbl>
              <a:tblPr/>
              <a:tblGrid>
                <a:gridCol w="2111400"/>
                <a:gridCol w="3057480"/>
                <a:gridCol w="2984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icy cycle stag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onal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tor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88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 formul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long-term vis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policies and strategi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policies and strategi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n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year development pla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al plan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 alloc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budge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and climate-related fund(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budget envelop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s from fund(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amming &amp; implement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-level development plans and budget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programm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4"/>
          <p:cNvSpPr/>
          <p:nvPr/>
        </p:nvSpPr>
        <p:spPr>
          <a:xfrm>
            <a:off x="3581280" y="640080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lhoff &amp; Schaer (2010)  Fig. 1, p. 10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Rounded Rectangular Callout 5"/>
          <p:cNvSpPr/>
          <p:nvPr/>
        </p:nvSpPr>
        <p:spPr>
          <a:xfrm>
            <a:off x="228600" y="152280"/>
            <a:ext cx="2057400" cy="1524240"/>
          </a:xfrm>
          <a:prstGeom prst="wedgeRoundRectCallout">
            <a:avLst>
              <a:gd name="adj1" fmla="val 28819"/>
              <a:gd name="adj2" fmla="val 11949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Recognise environment-development links and climate risk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Rounded Rectangular Callout 6"/>
          <p:cNvSpPr/>
          <p:nvPr/>
        </p:nvSpPr>
        <p:spPr>
          <a:xfrm>
            <a:off x="304920" y="5334120"/>
            <a:ext cx="2666880" cy="1371600"/>
          </a:xfrm>
          <a:prstGeom prst="wedgeRoundRectCallout">
            <a:avLst>
              <a:gd name="adj1" fmla="val 10486"/>
              <a:gd name="adj2" fmla="val -164541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Include environment- and climate-related programmes/ projects (sectoral and cross-sectoral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Rounded Rectangular Callout 7"/>
          <p:cNvSpPr/>
          <p:nvPr/>
        </p:nvSpPr>
        <p:spPr>
          <a:xfrm>
            <a:off x="2438280" y="1066680"/>
            <a:ext cx="2438640" cy="1143000"/>
          </a:xfrm>
          <a:prstGeom prst="wedgeRoundRectCallout">
            <a:avLst>
              <a:gd name="adj1" fmla="val -95148"/>
              <a:gd name="adj2" fmla="val 223944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Allocate funding for environmental and climate-specific ac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Rounded Rectangular Callout 8"/>
          <p:cNvSpPr/>
          <p:nvPr/>
        </p:nvSpPr>
        <p:spPr>
          <a:xfrm>
            <a:off x="3505320" y="5715000"/>
            <a:ext cx="2666880" cy="838080"/>
          </a:xfrm>
          <a:prstGeom prst="wedgeRoundRectCallout">
            <a:avLst>
              <a:gd name="adj1" fmla="val 1578"/>
              <a:gd name="adj2" fmla="val -184523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Relocate funding to vulnerable or priority sectors/ reg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Rounded Rectangular Callout 9"/>
          <p:cNvSpPr/>
          <p:nvPr/>
        </p:nvSpPr>
        <p:spPr>
          <a:xfrm>
            <a:off x="6629400" y="5589720"/>
            <a:ext cx="2209680" cy="1295280"/>
          </a:xfrm>
          <a:prstGeom prst="wedgeRoundRectCallout">
            <a:avLst>
              <a:gd name="adj1" fmla="val -32643"/>
              <a:gd name="adj2" fmla="val -88282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Incorporate environment and climate-related activiti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Rounded Rectangular Callout 10"/>
          <p:cNvSpPr/>
          <p:nvPr/>
        </p:nvSpPr>
        <p:spPr>
          <a:xfrm>
            <a:off x="7380360" y="1600200"/>
            <a:ext cx="1763640" cy="2362320"/>
          </a:xfrm>
          <a:prstGeom prst="wedgeRoundRectCallout">
            <a:avLst>
              <a:gd name="adj1" fmla="val -41259"/>
              <a:gd name="adj2" fmla="val 10942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Include env’t and climate considera-tions in project selection criteria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C932-048B-4E2E-A576-1ACA91DA5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07T23:33:50Z</dcterms:modified>
  <cp:revision>122</cp:revision>
  <dc:subject/>
  <dc:title>Slide 1</dc:title>
</cp:coreProperties>
</file>