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C9B2-FE47-4A06-85ED-90F41FCDB7FB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A0E2-8DCB-4879-81DE-9C2053FD47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834C-8B60-4BD5-9643-949BAAE740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5CD2-A52D-4EF3-9C9F-AA782016D8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C5ED-D7FD-4F31-B13A-C07BC9C019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777F-A3A8-457F-AD73-B5078B94ED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C11D-6121-4190-9424-CE6E6DC32C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Section 6.4 of UNDP-UNEP (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5444-F83B-427D-9C2C-6B51D31612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national level, a high-level formal or informal climate change coordinating structure can support the overall response – but should catalyse it rather than act as a substitute for action by other government ag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body with a coordination mandate and decision-making power over line ministries, in particular with regard to budget allo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Office of the President or Prime Minister, Ministry of Finance, Ministry of Planning or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AA61-C070-41F4-B37F-B986FE97AF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B0A4-221A-42D4-809F-AF4E4FEF18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5979-9057-4AA0-8033-F8D7B532DE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2849-C12F-4B77-8542-A37F1BE0BD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2D41-C6B6-4DDD-9241-F43E80DB92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1226-6421-40C4-A748-D0253FB852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13E7-10F2-48A3-AE4E-783151C172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E0C6-CF78-4EF2-B393-E5343F18EE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0DF0-5720-45F8-A0E2-7CE9B9539C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P (2011: 72) A NCSA i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untry-driv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ocally adap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nsultati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rocess that aim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review global environment issues that require priority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determine how capacity development could strengthen management of thes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epare a national action plan for capacity develop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 national capacity self-assessments and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ulnerability and capacity assessment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see UNDP-UNEP (2010)  pp. 32-3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1C5F-CAAD-426C-B5C6-487575C2F6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08B3-10D9-4563-829A-9493D77138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See UNDP-UNEP (2009) page 7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2BD5-11D1-48CC-A782-DC1D653659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E9EF-D756-4EE4-8ED5-3A09423E14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inks between the environment and sectoral performance have been addressed in Module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formance of th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ector tends to be underfunded: for example, in Lesotho (2012) the Department of Environment is under the Ministry of Tourism and Environment. The whole Ministry receives about 0.16% of the budget allocated to line ministries, and only a small fraction of that is for the Department of Environment, as the Ministr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 main tasks are oriented to promotion of tour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te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under the environment sector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get implemented because of lack of funding. If other sectors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assume responsibility for their environmental dimension, there are very limited options to address th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75D4-B6AC-48D5-AA10-EFDFE0A27E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AF65-CDB7-4433-A0FD-3A0E2D1710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lal-Clayton &amp; Bass 2009: Outcomes of main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articipation and democratic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olicy and politic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lan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udge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stitutional and capacity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vestmen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ehaviour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Developmental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CA88-F887-4A98-B2BE-63257C43A7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2DCD-3757-463F-82F0-3DEA38D0B8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E9C9-88D9-49FE-87F4-B95A11ED32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C368-C43C-4075-9E57-4F3F47D5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A71B-B06B-4E61-8DFA-4226B31C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85DE-1715-4446-B359-82683A27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5BF-AF6C-4ABC-85C7-DF027FC4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1836-D5DB-4CC0-B980-81ABC243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2014-2244-49C7-8FDF-7E9236A0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E8BE-B040-4716-99F9-74EE6B59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EBFC-E830-4F12-B4A3-F3D82370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1406-1BC1-4E14-A0A7-2648868D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90D4-8B34-489D-B0D8-DCD6F53F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ED3C-8EFD-4A5A-9D5D-5F79D65C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D77B-3DDD-406E-801B-BB5697A3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C8EF-C650-4086-9F1D-92815CF6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E2AC-5FAF-4677-B411-1B53D191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22BD-A0DE-46DF-85EC-6536868F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5C10-85F3-4F38-8DAC-2ED32B04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A791-3B27-47E3-B5E8-35AEE15F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1601-3C23-4523-9DB6-41C42B5D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D2A8-CAA3-4FDA-A1D7-FCA00F8B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127B-A85F-40E4-9BCF-4146B1ED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0043-2786-49DE-A7AC-F910220D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50DA-EB44-4994-8C35-27A5F527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7133-9C7B-43A8-B58A-8AC11745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AFDD-ED2F-49EF-91A9-14A080CA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DAAB-B047-4CAA-8A4B-8F7616A84F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BEE5-D447-44FE-B0F2-5540C9DEC74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undp.org/mainstreamin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nvironmental-mainstreaming.org/key-lit.html" TargetMode="External"/><Relationship Id="rId2" Type="http://schemas.openxmlformats.org/officeDocument/2006/relationships/hyperlink" Target="http://www.undp.org/climatechange/docs/English/UNDP_Adaptation_final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2924280"/>
            <a:ext cx="8640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2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and strengthening institutions and capaciti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4723920"/>
            <a:ext cx="8532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Strengthening institutions and capaciti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281D-8C22-4A89-BF44-63C95A193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institutional requirements for effective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3419640" y="3243240"/>
            <a:ext cx="2304720" cy="67284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Effective 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Rounded Rectangular Callout 5"/>
          <p:cNvSpPr/>
          <p:nvPr/>
        </p:nvSpPr>
        <p:spPr>
          <a:xfrm>
            <a:off x="334800" y="1535040"/>
            <a:ext cx="1981440" cy="1371600"/>
          </a:xfrm>
          <a:prstGeom prst="wedgeRoundRectCallout">
            <a:avLst>
              <a:gd name="adj1" fmla="val 115361"/>
              <a:gd name="adj2" fmla="val 70152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ross-sectoral &amp; cross-level coordination, cooper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Rounded Rectangular Callout 6"/>
          <p:cNvSpPr/>
          <p:nvPr/>
        </p:nvSpPr>
        <p:spPr>
          <a:xfrm>
            <a:off x="3306600" y="1306440"/>
            <a:ext cx="1905120" cy="1067040"/>
          </a:xfrm>
          <a:prstGeom prst="wedgeRoundRectCallout">
            <a:avLst>
              <a:gd name="adj1" fmla="val 21203"/>
              <a:gd name="adj2" fmla="val 118236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werful champions at national leve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7"/>
          <p:cNvSpPr/>
          <p:nvPr/>
        </p:nvSpPr>
        <p:spPr>
          <a:xfrm>
            <a:off x="6659640" y="1916280"/>
            <a:ext cx="1981080" cy="2057400"/>
          </a:xfrm>
          <a:prstGeom prst="wedgeRoundRectCallout">
            <a:avLst>
              <a:gd name="adj1" fmla="val -98763"/>
              <a:gd name="adj2" fmla="val 18055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tegration of new thinking, new research in planning &amp; monitoring systems &amp; proces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8"/>
          <p:cNvSpPr/>
          <p:nvPr/>
        </p:nvSpPr>
        <p:spPr>
          <a:xfrm>
            <a:off x="487440" y="3821040"/>
            <a:ext cx="1981080" cy="152424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xperience sharing, dissemination of good practi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ular Callout 9"/>
          <p:cNvSpPr/>
          <p:nvPr/>
        </p:nvSpPr>
        <p:spPr>
          <a:xfrm>
            <a:off x="3002040" y="4888080"/>
            <a:ext cx="2057400" cy="1371600"/>
          </a:xfrm>
          <a:prstGeom prst="wedgeRoundRectCallout">
            <a:avLst>
              <a:gd name="adj1" fmla="val 18453"/>
              <a:gd name="adj2" fmla="val -12985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imely stakeholder participation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ular Callout 10"/>
          <p:cNvSpPr/>
          <p:nvPr/>
        </p:nvSpPr>
        <p:spPr>
          <a:xfrm>
            <a:off x="5973840" y="4811760"/>
            <a:ext cx="2057400" cy="1371600"/>
          </a:xfrm>
          <a:prstGeom prst="wedgeRoundRectCallout">
            <a:avLst>
              <a:gd name="adj1" fmla="val -85004"/>
              <a:gd name="adj2" fmla="val -120013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trengthening of capacities of stakeholders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Rectangular Callout 11"/>
          <p:cNvSpPr/>
          <p:nvPr/>
        </p:nvSpPr>
        <p:spPr>
          <a:xfrm>
            <a:off x="5334120" y="1066680"/>
            <a:ext cx="3047760" cy="914400"/>
          </a:xfrm>
          <a:prstGeom prst="wedgeRectCallout">
            <a:avLst>
              <a:gd name="adj1" fmla="val -63527"/>
              <a:gd name="adj2" fmla="val 11472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e.g. office of prime minister, ministries of finance/budget/plann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0AE4-0791-4C95-9D72-2F203789D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1052640"/>
          <a:ext cx="8750160" cy="532116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 government (incl. office of prime minister, line ministries, DRR authorities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adership, performance management framework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ies, standards &amp; regul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ocation of budget resourc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idance &amp; capacity build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arlia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everage, advocacy (especially for budgeting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National Statistics Offic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evelopment and monitoring of indicator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 governmen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ation of national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tion with local-level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ate secto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for losses &amp; opportunities, risk mgm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ibution to sustainable investments &amp; vulnerability reduction through develop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ientific &amp; academic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-oriented research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for decision mak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 promotion agen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ea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nvestments; climate-proofing of investments, bridging of development gap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 change adequately addressed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4355-AF08-4674-AB54-DBC0D664F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79280" y="6362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052640"/>
          <a:ext cx="8750160" cy="259704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 Society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use of their expertis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lp reflect local rea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ation collection, 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tchdog ro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each out to community leve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eneral public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rass-roots level knowled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tegrate voices of the poores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71" name="TextBox 4"/>
          <p:cNvSpPr/>
          <p:nvPr/>
        </p:nvSpPr>
        <p:spPr>
          <a:xfrm>
            <a:off x="179280" y="6308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5F4B-7F34-415D-B5AE-9CFF73409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f5494"/>
                </a:solidFill>
                <a:latin typeface="Verdana"/>
              </a:rPr>
              <a:t>Possible entry points for environmental mainstreaming in national development planning</a:t>
            </a:r>
            <a:endParaRPr b="1" lang="en-US" sz="2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8604360" y="6381720"/>
            <a:ext cx="5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4341-0CCA-402D-B842-5EC5D86D3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0920" y="2565360"/>
          <a:ext cx="8534160" cy="3814920"/>
        </p:xfrm>
        <a:graphic>
          <a:graphicData uri="http://schemas.openxmlformats.org/drawingml/2006/table">
            <a:tbl>
              <a:tblPr/>
              <a:tblGrid>
                <a:gridCol w="2286000"/>
                <a:gridCol w="62481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ing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try Poin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government and cross-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strategy pap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development pla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DG-based national development strategy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 allocation process or review (e.g. medium-term expenditure framework, public expenditure review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strategies, plans and policies (e.g. agriculture sector plan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ector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blic expenditure review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-national author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entralisation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ct pla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ubnational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76" name="TextBox 4"/>
          <p:cNvSpPr/>
          <p:nvPr/>
        </p:nvSpPr>
        <p:spPr>
          <a:xfrm>
            <a:off x="457200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EP-UND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rinciples for institutionalising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4419720" y="43434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AD5B-F758-46EC-BFFE-09E8730C3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2565000"/>
            <a:ext cx="853416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ve coordination to a central body with a coordination mandate and decision-making power over line ministr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climate change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ina: National Development &amp; Reform Commiss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Kenya: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environment: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ierra Leone: EPA under the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lawi: Steering Committee on Natural Resourc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F3D4-B090-4CF5-A37B-237C1C59A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2420640"/>
            <a:ext cx="8370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stablish/strengthen coordination mechanisms, with clear allocation of responsibilities and permanent arrang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climate change, Mexico: Inter-Ministerial Commission on Climate Change (CICC) with dedicated working group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uild on pre-existing intersectoral coordination mechanisms wherever possi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food security, DRR, sustainable land manage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7B26-246B-4370-9B3F-89E098690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3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707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flexi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commitment to regular policy/strategy revisions and reassessment of available knowled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mainstream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and climate change mitigation/adap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in guidelines, procedures, systems, environmental screening for SEA and EIA, etc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BAB0-A5BA-43EF-8F18-F41FE5E4A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92436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4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effective national–local coordination mechanisms, identifying the most suitable level at which to cooperate/coordinat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Rwanda: annual performance contracts between various levels of government, with clear definition of goals, indicators and activiti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trengthen institutions at the sub-national level, matching the transfer of competences with the transfer of resourc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7A4B-7AD3-43F7-962D-344B96300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492280"/>
            <a:ext cx="8534160" cy="1873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3000"/>
          </a:bodyPr>
          <a:p>
            <a:pPr marL="318960" indent="-318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What is mainstreaming,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why mainstream environment and climate change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8A4A-BA9F-437E-B173-62F54D7CE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7CF6-9A32-4BC3-A3A8-34F9906D6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7" name="Picture 4" descr="C:\Documents and Settings\Carlos Soria\My Documents\My Pictures\Alto Huallaga Tingo Maria Monzon Alto Bella julio 23, 2003\IM001873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439560" y="6396120"/>
            <a:ext cx="85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Source: Soria (2005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8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Local capaciti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Tools and actions for supporting institutional and capacity strengthe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BAE4-FF49-4D19-BF3D-52E6387BA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eps in institutional and capacity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rength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322B-E264-439E-AF95-E6B75D755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ounded Rectangle 12"/>
          <p:cNvSpPr/>
          <p:nvPr/>
        </p:nvSpPr>
        <p:spPr>
          <a:xfrm>
            <a:off x="609480" y="1684440"/>
            <a:ext cx="2519640" cy="10429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eed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Rounded Rectangle 13"/>
          <p:cNvSpPr/>
          <p:nvPr/>
        </p:nvSpPr>
        <p:spPr>
          <a:xfrm>
            <a:off x="609480" y="3962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Learning by do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Rounded Rectangle 14"/>
          <p:cNvSpPr/>
          <p:nvPr/>
        </p:nvSpPr>
        <p:spPr>
          <a:xfrm>
            <a:off x="609480" y="2819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Working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Rounded Rectangle 15"/>
          <p:cNvSpPr/>
          <p:nvPr/>
        </p:nvSpPr>
        <p:spPr>
          <a:xfrm>
            <a:off x="609480" y="5432400"/>
            <a:ext cx="2519640" cy="10447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instreaming as standard practic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Rounded Rectangle 16"/>
          <p:cNvSpPr/>
          <p:nvPr/>
        </p:nvSpPr>
        <p:spPr>
          <a:xfrm>
            <a:off x="3576600" y="1684440"/>
            <a:ext cx="2651040" cy="10429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National capacity self-assess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Rounded Rectangle 17"/>
          <p:cNvSpPr/>
          <p:nvPr/>
        </p:nvSpPr>
        <p:spPr>
          <a:xfrm>
            <a:off x="3576600" y="2819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Inst</a:t>
            </a:r>
            <a:r>
              <a:rPr b="1" lang="ja-JP" sz="1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l arrangemen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Management framework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Work pla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Rounded Rectangle 18"/>
          <p:cNvSpPr/>
          <p:nvPr/>
        </p:nvSpPr>
        <p:spPr>
          <a:xfrm>
            <a:off x="3576600" y="3962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Training, exchange visits, on-the-job learning, lesson learning/dissemin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2" name="Straight Arrow Connector 20"/>
          <p:cNvCxnSpPr>
            <a:stCxn id="209" idx="1"/>
            <a:endCxn id="205" idx="3"/>
          </p:cNvCxnSpPr>
          <p:nvPr/>
        </p:nvCxnSpPr>
        <p:spPr>
          <a:xfrm flipH="1">
            <a:off x="3128400" y="220464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3" name="Straight Arrow Connector 21"/>
          <p:cNvCxnSpPr>
            <a:stCxn id="210" idx="1"/>
            <a:endCxn id="207" idx="3"/>
          </p:cNvCxnSpPr>
          <p:nvPr/>
        </p:nvCxnSpPr>
        <p:spPr>
          <a:xfrm flipH="1">
            <a:off x="3128400" y="3341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4" name="Straight Arrow Connector 22"/>
          <p:cNvCxnSpPr>
            <a:stCxn id="211" idx="1"/>
            <a:endCxn id="206" idx="3"/>
          </p:cNvCxnSpPr>
          <p:nvPr/>
        </p:nvCxnSpPr>
        <p:spPr>
          <a:xfrm flipH="1">
            <a:off x="3128400" y="4484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5" name="Straight Arrow Connector 27"/>
          <p:cNvCxnSpPr>
            <a:stCxn id="206" idx="2"/>
            <a:endCxn id="208" idx="0"/>
          </p:cNvCxnSpPr>
          <p:nvPr/>
        </p:nvCxnSpPr>
        <p:spPr>
          <a:xfrm flipH="1">
            <a:off x="1867680" y="5006880"/>
            <a:ext cx="2520" cy="42768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16" name="Elbow Connector 31"/>
          <p:cNvCxnSpPr>
            <a:stCxn id="208" idx="1"/>
            <a:endCxn id="205" idx="1"/>
          </p:cNvCxnSpPr>
          <p:nvPr/>
        </p:nvCxnSpPr>
        <p:spPr>
          <a:xfrm rot="10800000">
            <a:off x="608760" y="2204280"/>
            <a:ext cx="2520" cy="3750480"/>
          </a:xfrm>
          <a:prstGeom prst="bentConnector3">
            <a:avLst>
              <a:gd name="adj1" fmla="val 14383333"/>
            </a:avLst>
          </a:prstGeom>
          <a:ln w="28440">
            <a:solidFill>
              <a:srgbClr val="002060"/>
            </a:solidFill>
            <a:prstDash val="dash"/>
            <a:miter/>
            <a:tailEnd len="med" type="arrow" w="med"/>
          </a:ln>
        </p:spPr>
      </p:cxnSp>
      <p:sp>
        <p:nvSpPr>
          <p:cNvPr id="217" name="Straight Connector 33"/>
          <p:cNvSpPr/>
          <p:nvPr/>
        </p:nvSpPr>
        <p:spPr>
          <a:xfrm>
            <a:off x="1870200" y="2727360"/>
            <a:ext cx="0" cy="9216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Straight Connector 35"/>
          <p:cNvSpPr/>
          <p:nvPr/>
        </p:nvSpPr>
        <p:spPr>
          <a:xfrm>
            <a:off x="1870200" y="3863880"/>
            <a:ext cx="0" cy="986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Rounded Rectangle 19"/>
          <p:cNvSpPr/>
          <p:nvPr/>
        </p:nvSpPr>
        <p:spPr>
          <a:xfrm>
            <a:off x="6588000" y="1687680"/>
            <a:ext cx="201636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Stakeholder analysi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20" name="Straight Arrow Connector 23"/>
          <p:cNvCxnSpPr>
            <a:stCxn id="219" idx="1"/>
          </p:cNvCxnSpPr>
          <p:nvPr/>
        </p:nvCxnSpPr>
        <p:spPr>
          <a:xfrm flipH="1" flipV="1">
            <a:off x="6165000" y="2204280"/>
            <a:ext cx="423000" cy="540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capacity development for whom, for what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491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apacity development (CD) should take plac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t three complementary level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abling environment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or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ystem level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(overall institutional level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organisation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ndividu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05E9-C7F3-436C-93E1-9F09C635E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Cloud Callout 4"/>
          <p:cNvSpPr/>
          <p:nvPr/>
        </p:nvSpPr>
        <p:spPr>
          <a:xfrm>
            <a:off x="3924360" y="4076640"/>
            <a:ext cx="4876920" cy="1874880"/>
          </a:xfrm>
          <a:prstGeom prst="cloudCallout">
            <a:avLst>
              <a:gd name="adj1" fmla="val -29435"/>
              <a:gd name="adj2" fmla="val -75777"/>
            </a:avLst>
          </a:prstGeom>
          <a:solidFill>
            <a:srgbClr val="0f5494"/>
          </a:solid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Start by determining: 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Capacity development for what?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’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-&gt; Define specific objec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eeds assessment: stakeholders</a:t>
            </a:r>
            <a:r>
              <a:rPr b="1" lang="ja-JP" sz="30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D needs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3708360" y="3243240"/>
            <a:ext cx="1800360" cy="9169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takeholder capacity build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Rounded Rectangular Callout 5"/>
          <p:cNvSpPr/>
          <p:nvPr/>
        </p:nvSpPr>
        <p:spPr>
          <a:xfrm>
            <a:off x="471600" y="1752480"/>
            <a:ext cx="1600200" cy="1371600"/>
          </a:xfrm>
          <a:prstGeom prst="wedgeRoundRectCallout">
            <a:avLst>
              <a:gd name="adj1" fmla="val 153768"/>
              <a:gd name="adj2" fmla="val 7561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formation systems &amp; analytical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Rounded Rectangular Callout 6"/>
          <p:cNvSpPr/>
          <p:nvPr/>
        </p:nvSpPr>
        <p:spPr>
          <a:xfrm>
            <a:off x="3290760" y="1447920"/>
            <a:ext cx="1752840" cy="990360"/>
          </a:xfrm>
          <a:prstGeom prst="wedgeRoundRectCallout">
            <a:avLst>
              <a:gd name="adj1" fmla="val 22060"/>
              <a:gd name="adj2" fmla="val 131856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lanning &amp; prioritis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Rounded Rectangular Callout 7"/>
          <p:cNvSpPr/>
          <p:nvPr/>
        </p:nvSpPr>
        <p:spPr>
          <a:xfrm>
            <a:off x="6567480" y="2209680"/>
            <a:ext cx="1981080" cy="1371600"/>
          </a:xfrm>
          <a:prstGeom prst="wedgeRoundRectCallout">
            <a:avLst>
              <a:gd name="adj1" fmla="val -101791"/>
              <a:gd name="adj2" fmla="val 3991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articipatory engagement &amp; empowerment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Rounded Rectangular Callout 8"/>
          <p:cNvSpPr/>
          <p:nvPr/>
        </p:nvSpPr>
        <p:spPr>
          <a:xfrm>
            <a:off x="395280" y="3962520"/>
            <a:ext cx="2133720" cy="106668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tical &amp; communic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Rounded Rectangular Callout 9"/>
          <p:cNvSpPr/>
          <p:nvPr/>
        </p:nvSpPr>
        <p:spPr>
          <a:xfrm>
            <a:off x="3200400" y="5105520"/>
            <a:ext cx="1905120" cy="1066680"/>
          </a:xfrm>
          <a:prstGeom prst="wedgeRoundRectCallout">
            <a:avLst>
              <a:gd name="adj1" fmla="val 19240"/>
              <a:gd name="adj2" fmla="val -13828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nitoring, evaluation &amp; learning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Rounded Rectangular Callout 10"/>
          <p:cNvSpPr/>
          <p:nvPr/>
        </p:nvSpPr>
        <p:spPr>
          <a:xfrm>
            <a:off x="6705720" y="4267080"/>
            <a:ext cx="1828800" cy="990720"/>
          </a:xfrm>
          <a:prstGeom prst="wedgeRoundRectCallout">
            <a:avLst>
              <a:gd name="adj1" fmla="val -116518"/>
              <a:gd name="adj2" fmla="val -97810"/>
              <a:gd name="adj3" fmla="val 16667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ecific technical skil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64C0-9BB0-40D6-AE58-27364FC8B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4484520" y="657684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Dalal-Clayton &amp; Bass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Cloud Callout 12"/>
          <p:cNvSpPr/>
          <p:nvPr/>
        </p:nvSpPr>
        <p:spPr>
          <a:xfrm>
            <a:off x="395280" y="5410080"/>
            <a:ext cx="2286000" cy="1067040"/>
          </a:xfrm>
          <a:prstGeom prst="cloudCallout">
            <a:avLst>
              <a:gd name="adj1" fmla="val 56912"/>
              <a:gd name="adj2" fmla="val -11040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FUNCTIONAL CAPACITIES</a:t>
            </a: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’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Cloud Callout 13"/>
          <p:cNvSpPr/>
          <p:nvPr/>
        </p:nvSpPr>
        <p:spPr>
          <a:xfrm>
            <a:off x="5219640" y="5410080"/>
            <a:ext cx="2592360" cy="1067040"/>
          </a:xfrm>
          <a:prstGeom prst="cloudCallout">
            <a:avLst>
              <a:gd name="adj1" fmla="val 11166"/>
              <a:gd name="adj2" fmla="val -91194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TECHNICAL CAPACIT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national capacity self-assessmen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2060280"/>
            <a:ext cx="89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ased on existing or ad hoc institutional assessments, consider for all relevant organisation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vel of education &amp; awareness of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rganisations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mandates &amp; functions with regard to environment- and climate-related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fluence of climate risks on capacity to func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, financial, legal/regulatory capacities &amp; information systems in relation to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lanning, decision-making, budget allocation &amp; programming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llaboration &amp; coordination structures &amp;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ssessments for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250920" y="65502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B399-C5F9-4DF8-A670-5A4C65A9C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etting up working mechanisms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for a mainstreaming initiativ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4920" y="2492280"/>
            <a:ext cx="85345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fine institutional arrangements (political and technical) (e.g. steering and technical committee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et up a management framework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dership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uman re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inancial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&amp;E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an operational work pla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C353-1464-4F45-B7E7-1D7A1B838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5003640" y="655020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Learning-by-doing: multipl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approach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95280" y="2060640"/>
            <a:ext cx="87487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rmal training on mainstreaming and on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pecific technical asp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xchange visi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n-the-job learning through national mainstreaming programmes, including: 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terdisciplinary tea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winning between organisa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 assist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emonstration proje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esson learning and dissemin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44C7-8943-48A8-9F16-B47B67EC1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395280" y="6308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92c0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is a strong case for mainstreaming environment and climate change into all development plann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are entry points for mainstreaming environment and climate change at all stages of the policy cycl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stitutional and capacity strengthening (rooted in a good diagnosis of the strengths/weaknesses of existing structures and efforts to improve governance) is a key condition for successful mainstream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eeds assessment, the setting up of effective working mechanisms and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rning by doing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can support the mainstreaming proces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ACF4-4A60-485E-95B2-DC86DCD25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5092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(2011) Practitioner</a:t>
            </a:r>
            <a:r>
              <a:rPr b="0" lang="ja-JP" sz="22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s Guide: Capacity </a:t>
            </a:r>
            <a:br>
              <a:rPr sz="2200"/>
            </a:b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Development for Environmental Sustainability. United Nations Development Programme, New York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09) Mainstreaming Poverty-Environment Linkages into Development Planning: A Handbook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– Integrating environment into development: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undp.org/mainstreaming/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148C-FAC9-495D-BDEA-3879286CC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Beyond 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nvironment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as a sector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560" y="2397240"/>
            <a:ext cx="838188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protection of natural resources is a sector in its own right, but its sustainability also depends on 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olic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erformance depends closely on the state of the environ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t does not suffice to address the environment exclusively as a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ther sector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 development paths need to take account of environmental sustainability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tends to be an underfunded secto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DBB0-8744-42AA-B410-13860C9E9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0920" y="1851120"/>
            <a:ext cx="864072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alal-Clayton B. &amp; Bass S. (2009) The challenges of environmental mainstreaming: experience of integrating environment into development institutions and decisions. International Institute for Environment and Development, London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environmental-mainstreaming.org/key-lit.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chipper E.L., Paz Cigarán M. &amp; McKenzie Hedger M. (2008) Adaptation to Climate Change: The new challenge for development in the developing world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undp.org/climatechange/docs/English/UNDP_Adaptation_final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oria, C (2005) SEA and the NGO community in Latin America. Presentation made at the SEA and IDC Conference, Halong Bay, Vietnam, 24-28 January, 2005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4D19-014C-4988-8089-E22F7DBF8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What is mainstreaming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2133720"/>
            <a:ext cx="84582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: the prevailing or dominant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urse, current, tendency or way of thinkin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ing</a:t>
            </a:r>
            <a:r>
              <a:rPr b="0" lang="en-GB" sz="2400" spc="-1" strike="noStrike">
                <a:solidFill>
                  <a:srgbClr val="00206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informed integration of a relevant value, theme or concern into the decisions of institutions that drive national, local and sectoral development policy, rules, plans, investment and acti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adapted from Dalal-Clayton &amp; Bass 2009)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Institutional strengthening and change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</a:t>
            </a:r>
            <a:r>
              <a:rPr b="0" lang="en-GB" sz="2400" spc="-1" strike="noStrike">
                <a:solidFill>
                  <a:srgbClr val="005f7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capacity building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re at the heart of any mainstreaming eff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5A90-0FFC-4D2B-A1B2-F2E29DE47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bjectives of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2205000"/>
            <a:ext cx="84582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ainstreaming is a long-term, iterativ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cess aimed a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ransforming idea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ven more importantly, transforming policies, resource allocations and practi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order to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mote desired developmental outcomes (with regard to gender, environment, climate change, governance, human rights, ...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d support integrated solutions to human proble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0D10-D0FC-4D67-89FF-03AFDFF5F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olicy framework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13156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ropean Consensus on Development (2005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xplicitly recognises links between development and environment and highlights need for a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“strengthened approach to mainstreaming of cross-cutting issue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enda for Change (2011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development is not sustainable if it damages the environment, biodiversity and natural resources and increases the exposure/vulnerability to natural disaster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 Biodiversity Strategy to 2020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alls to “biodiversity-proof” EC development cooper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 framework for mainstreaming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nvironment and climate chang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956F-A9A8-4CD8-B01A-FD6D2D086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Entry points for mainstreaming in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he policy cycl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D8E5-10A7-44EF-94A8-B398BDCDA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4" name="Picture 3" descr="_Pic3"/>
          <p:cNvPicPr/>
          <p:nvPr/>
        </p:nvPicPr>
        <p:blipFill>
          <a:blip r:embed="rId1"/>
          <a:stretch/>
        </p:blipFill>
        <p:spPr>
          <a:xfrm>
            <a:off x="1371600" y="1523880"/>
            <a:ext cx="5913360" cy="4705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3718080" y="34146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National development pla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422440" y="239076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genda sett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470560" y="3381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olicy mak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184560" y="5019840"/>
            <a:ext cx="217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mplementation &amp; monitor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Rounded Rectangular Callout 11"/>
          <p:cNvSpPr/>
          <p:nvPr/>
        </p:nvSpPr>
        <p:spPr>
          <a:xfrm>
            <a:off x="457200" y="1600200"/>
            <a:ext cx="1752480" cy="1066680"/>
          </a:xfrm>
          <a:prstGeom prst="wedgeRoundRectCallout">
            <a:avLst>
              <a:gd name="adj1" fmla="val 77625"/>
              <a:gd name="adj2" fmla="val 54203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inding the entry points &amp;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Rounded Rectangular Callout 12"/>
          <p:cNvSpPr/>
          <p:nvPr/>
        </p:nvSpPr>
        <p:spPr>
          <a:xfrm>
            <a:off x="6804000" y="2060640"/>
            <a:ext cx="1905120" cy="1143000"/>
          </a:xfrm>
          <a:prstGeom prst="wedgeRoundRectCallout">
            <a:avLst>
              <a:gd name="adj1" fmla="val -46481"/>
              <a:gd name="adj2" fmla="val 84250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instreaming into policy &amp;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Rounded Rectangular Callout 13"/>
          <p:cNvSpPr/>
          <p:nvPr/>
        </p:nvSpPr>
        <p:spPr>
          <a:xfrm>
            <a:off x="250920" y="5257800"/>
            <a:ext cx="2187360" cy="990720"/>
          </a:xfrm>
          <a:prstGeom prst="wedgeRoundRectCallout">
            <a:avLst>
              <a:gd name="adj1" fmla="val 90509"/>
              <a:gd name="adj2" fmla="val -3349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2050920" y="630864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) Figure 3.2, p. 15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ounded Rectangle 3"/>
          <p:cNvSpPr/>
          <p:nvPr/>
        </p:nvSpPr>
        <p:spPr>
          <a:xfrm>
            <a:off x="611280" y="76320"/>
            <a:ext cx="252072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inding the entry points and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Rounded Rectangle 4"/>
          <p:cNvSpPr/>
          <p:nvPr/>
        </p:nvSpPr>
        <p:spPr>
          <a:xfrm>
            <a:off x="3429000" y="76320"/>
            <a:ext cx="26668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ainstreaming into policy and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Rounded Rectangle 5"/>
          <p:cNvSpPr/>
          <p:nvPr/>
        </p:nvSpPr>
        <p:spPr>
          <a:xfrm>
            <a:off x="6400800" y="76320"/>
            <a:ext cx="25192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Rounded Rectangle 6"/>
          <p:cNvSpPr/>
          <p:nvPr/>
        </p:nvSpPr>
        <p:spPr>
          <a:xfrm>
            <a:off x="581040" y="1066680"/>
            <a:ext cx="2663640" cy="2514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Preliminary assessmen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the challenges and the scien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poverty-environment and CC–development linkag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government, institutional and political contex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Rounded Rectangle 7"/>
          <p:cNvSpPr/>
          <p:nvPr/>
        </p:nvSpPr>
        <p:spPr>
          <a:xfrm>
            <a:off x="609480" y="3657600"/>
            <a:ext cx="2667240" cy="1295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Raising awareness and building partnership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 consensus and commitment to resilient, low-carbon develop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Rounded Rectangle 8"/>
          <p:cNvSpPr/>
          <p:nvPr/>
        </p:nvSpPr>
        <p:spPr>
          <a:xfrm>
            <a:off x="612720" y="5029200"/>
            <a:ext cx="26640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eeds assess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Working mechanis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Rounded Rectangle 9"/>
          <p:cNvSpPr/>
          <p:nvPr/>
        </p:nvSpPr>
        <p:spPr>
          <a:xfrm>
            <a:off x="3429000" y="1066680"/>
            <a:ext cx="2743200" cy="27432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Collecting country-specific evidence and influencing policy process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Integrated ecosystem assessment; economic analysis…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(sub)national and sector policies, strategies, programm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uncertain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Rounded Rectangle 10"/>
          <p:cNvSpPr/>
          <p:nvPr/>
        </p:nvSpPr>
        <p:spPr>
          <a:xfrm>
            <a:off x="3429000" y="3962520"/>
            <a:ext cx="2743200" cy="9903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Developing, costing, assessing and selecting policy measures, 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Rounded Rectangle 11"/>
          <p:cNvSpPr/>
          <p:nvPr/>
        </p:nvSpPr>
        <p:spPr>
          <a:xfrm>
            <a:off x="3429000" y="5029200"/>
            <a:ext cx="27432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Learning by do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Rounded Rectangle 12"/>
          <p:cNvSpPr/>
          <p:nvPr/>
        </p:nvSpPr>
        <p:spPr>
          <a:xfrm>
            <a:off x="6396120" y="1066680"/>
            <a:ext cx="2519280" cy="12193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Budgeting and financ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the budgetary proces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Rounded Rectangle 13"/>
          <p:cNvSpPr/>
          <p:nvPr/>
        </p:nvSpPr>
        <p:spPr>
          <a:xfrm>
            <a:off x="6400800" y="2352600"/>
            <a:ext cx="2519280" cy="1533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monitoring syste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Performance assessment framework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Indicators and data collec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Rounded Rectangle 14"/>
          <p:cNvSpPr/>
          <p:nvPr/>
        </p:nvSpPr>
        <p:spPr>
          <a:xfrm>
            <a:off x="6396120" y="4011480"/>
            <a:ext cx="2519280" cy="8654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upporting policy measur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, sector and sub-national level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Rounded Rectangle 15"/>
          <p:cNvSpPr/>
          <p:nvPr/>
        </p:nvSpPr>
        <p:spPr>
          <a:xfrm>
            <a:off x="6396120" y="5029200"/>
            <a:ext cx="251928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</a:t>
            </a:r>
            <a:br>
              <a:rPr sz="1500"/>
            </a:b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as standard practi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Rounded Rectangle 16"/>
          <p:cNvSpPr/>
          <p:nvPr/>
        </p:nvSpPr>
        <p:spPr>
          <a:xfrm>
            <a:off x="1332000" y="6121440"/>
            <a:ext cx="6769080" cy="4316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Engaging stakeholders and coordinating within the development community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Flowchart: Document 17"/>
          <p:cNvSpPr/>
          <p:nvPr/>
        </p:nvSpPr>
        <p:spPr>
          <a:xfrm>
            <a:off x="76320" y="1371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Flowchart: Document 18"/>
          <p:cNvSpPr/>
          <p:nvPr/>
        </p:nvSpPr>
        <p:spPr>
          <a:xfrm>
            <a:off x="2971800" y="323064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4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Flowchart: Document 19"/>
          <p:cNvSpPr/>
          <p:nvPr/>
        </p:nvSpPr>
        <p:spPr>
          <a:xfrm>
            <a:off x="108000" y="39625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Flowchart: Document 20"/>
          <p:cNvSpPr/>
          <p:nvPr/>
        </p:nvSpPr>
        <p:spPr>
          <a:xfrm>
            <a:off x="115920" y="5334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Flowchart: Document 22"/>
          <p:cNvSpPr/>
          <p:nvPr/>
        </p:nvSpPr>
        <p:spPr>
          <a:xfrm>
            <a:off x="3124080" y="2697120"/>
            <a:ext cx="698760" cy="37152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6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Flowchart: Document 23"/>
          <p:cNvSpPr/>
          <p:nvPr/>
        </p:nvSpPr>
        <p:spPr>
          <a:xfrm>
            <a:off x="3276720" y="3916440"/>
            <a:ext cx="69840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7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Straight Connector 25"/>
          <p:cNvSpPr/>
          <p:nvPr/>
        </p:nvSpPr>
        <p:spPr>
          <a:xfrm>
            <a:off x="3276720" y="5524560"/>
            <a:ext cx="15228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traight Connector 29"/>
          <p:cNvSpPr/>
          <p:nvPr/>
        </p:nvSpPr>
        <p:spPr>
          <a:xfrm>
            <a:off x="6172200" y="5524560"/>
            <a:ext cx="22392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Flowchart: Document 32"/>
          <p:cNvSpPr/>
          <p:nvPr/>
        </p:nvSpPr>
        <p:spPr>
          <a:xfrm>
            <a:off x="6161040" y="1704960"/>
            <a:ext cx="696960" cy="3524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8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Flowchart: Document 33"/>
          <p:cNvSpPr/>
          <p:nvPr/>
        </p:nvSpPr>
        <p:spPr>
          <a:xfrm>
            <a:off x="6161040" y="246852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9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34"/>
          <p:cNvSpPr/>
          <p:nvPr/>
        </p:nvSpPr>
        <p:spPr>
          <a:xfrm>
            <a:off x="76320" y="6581880"/>
            <a:ext cx="859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Adapted from: UNDP-UNEP (2009) Figure 3.1, p. 15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Flowchart: Document 27"/>
          <p:cNvSpPr/>
          <p:nvPr/>
        </p:nvSpPr>
        <p:spPr>
          <a:xfrm>
            <a:off x="76320" y="1905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Flowchart: Document 30"/>
          <p:cNvSpPr/>
          <p:nvPr/>
        </p:nvSpPr>
        <p:spPr>
          <a:xfrm>
            <a:off x="3341520" y="5562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Flowchart: Document 31"/>
          <p:cNvSpPr/>
          <p:nvPr/>
        </p:nvSpPr>
        <p:spPr>
          <a:xfrm>
            <a:off x="6161040" y="5592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Flowchart: Document 31"/>
          <p:cNvSpPr/>
          <p:nvPr/>
        </p:nvSpPr>
        <p:spPr>
          <a:xfrm>
            <a:off x="120600" y="25909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Flowchart: Document 19"/>
          <p:cNvSpPr/>
          <p:nvPr/>
        </p:nvSpPr>
        <p:spPr>
          <a:xfrm>
            <a:off x="3200400" y="2133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10T17:46:19Z</dcterms:modified>
  <cp:revision>120</cp:revision>
  <dc:subject/>
  <dc:title>Slide 1</dc:title>
</cp:coreProperties>
</file>