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0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6640" cy="490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3880" y="738360"/>
            <a:ext cx="492120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-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052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F280A-8CB4-4A92-A3F8-BEB21A44B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-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80052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70EE6-B1EB-4ADA-AA60-B88F216E2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4A7-C438-4CF7-AB0E-A43BCAF3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A9E-A91E-493D-838A-7B6B89D1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310-84BF-495F-9C7A-C907B102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119-1CB8-4689-9A0C-88280716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EA8-CF22-492A-93A8-5EBE63F9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3E9-3208-4AE9-97C9-8830873B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7FA-7FE5-496A-B6B7-166A4499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290-6964-438E-9974-8B215959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332-7A7A-41D2-AB11-D4EB1837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B23-D625-42F6-8AEA-31E8E9E6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68C-310F-4D2F-9023-006F5E48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47B-2E25-4CDB-80C4-279F7B06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95"/>
            </a:gs>
            <a:gs pos="100000">
              <a:srgbClr val="677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13 Jun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E074-FF02-4CA1-BE74-CDFA14760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mocracy Schools in Indone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Indonesian Community for Democracy (K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cruitment of School Participant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0 per School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cruitment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by means of  radio, newspapers, flyers, banners, invitation letters to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1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Administration  (the Curriculum Vit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2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Written test (ess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3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ach School may have different strategies (for instance the School in East Java carries out an aptitude and personality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iklan sd batu-1"/>
          <p:cNvPicPr/>
          <p:nvPr/>
        </p:nvPicPr>
        <p:blipFill>
          <a:blip r:embed="rId1"/>
          <a:stretch/>
        </p:blipFill>
        <p:spPr>
          <a:xfrm>
            <a:off x="6477120" y="36576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seleksi_jeneponto-1"/>
          <p:cNvPicPr/>
          <p:nvPr/>
        </p:nvPicPr>
        <p:blipFill>
          <a:blip r:embed="rId2"/>
          <a:stretch/>
        </p:blipFill>
        <p:spPr>
          <a:xfrm>
            <a:off x="4191120" y="13716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Foto Psikotes Peserta (9)"/>
          <p:cNvPicPr/>
          <p:nvPr/>
        </p:nvPicPr>
        <p:blipFill>
          <a:blip r:embed="rId3"/>
          <a:stretch/>
        </p:blipFill>
        <p:spPr>
          <a:xfrm>
            <a:off x="6477120" y="1371600"/>
            <a:ext cx="190476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4343400" y="1447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int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162920" y="3048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ritte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6934320" y="579132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Arial"/>
              </a:rPr>
              <a:t>Selection announ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Foto Psikotes Peserta (31)"/>
          <p:cNvPicPr/>
          <p:nvPr/>
        </p:nvPicPr>
        <p:blipFill>
          <a:blip r:embed="rId4"/>
          <a:stretch/>
        </p:blipFill>
        <p:spPr>
          <a:xfrm>
            <a:off x="4419720" y="3048120"/>
            <a:ext cx="2133360" cy="1981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8"/>
          <p:cNvSpPr/>
          <p:nvPr/>
        </p:nvSpPr>
        <p:spPr>
          <a:xfrm>
            <a:off x="5181480" y="32767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ptitude and personal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riteria for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aged between 21 and 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formal education: senior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live and/or work in the regency or city where the School of Democracy is 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personal and professional commitment to the transformation of democratic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eferences from local individuals o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HE SCHOOL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AM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CLASS MEETING minimum 25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UT OF CLASS MEETING: 150 – 25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URING WEEK-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SD-Batu-4"/>
          <p:cNvPicPr/>
          <p:nvPr/>
        </p:nvPicPr>
        <p:blipFill>
          <a:blip r:embed="rId1"/>
          <a:stretch/>
        </p:blipFill>
        <p:spPr>
          <a:xfrm>
            <a:off x="5791320" y="27432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SDTangerang-7"/>
          <p:cNvPicPr/>
          <p:nvPr/>
        </p:nvPicPr>
        <p:blipFill>
          <a:blip r:embed="rId2"/>
          <a:stretch/>
        </p:blipFill>
        <p:spPr>
          <a:xfrm>
            <a:off x="4191120" y="14479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DSCN2074"/>
          <p:cNvPicPr/>
          <p:nvPr/>
        </p:nvPicPr>
        <p:blipFill>
          <a:blip r:embed="rId3"/>
          <a:stretch/>
        </p:blipFill>
        <p:spPr>
          <a:xfrm>
            <a:off x="4876920" y="449568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EAM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Explaining the participants what they are going to lea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greeing on rule of the game: code of conduct &amp; learning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Getting to know one another (participants, the Implementing Agency and the Facilit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Outbond_Mlg"/>
          <p:cNvPicPr/>
          <p:nvPr/>
        </p:nvPicPr>
        <p:blipFill>
          <a:blip r:embed="rId1"/>
          <a:stretch/>
        </p:blipFill>
        <p:spPr>
          <a:xfrm>
            <a:off x="5181480" y="3200400"/>
            <a:ext cx="256068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kontrak"/>
          <p:cNvPicPr/>
          <p:nvPr/>
        </p:nvPicPr>
        <p:blipFill>
          <a:blip r:embed="rId2"/>
          <a:stretch/>
        </p:blipFill>
        <p:spPr>
          <a:xfrm>
            <a:off x="5105520" y="1371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7620120" y="22096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arning 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543800" y="5029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am building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FERENCE MODULES (K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evelopment of Democratic Thinking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litical System and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cial M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ublic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mocratic Con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cal Legislation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mocracy and Human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usiness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ciet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ivil Society (in p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LOCAL MODULES (Implementing Ag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Journalism – Writ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Budg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Conflict Resolution based on Local Culture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Gender Main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Labor, State and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ead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eligion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LAS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62120" y="31240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Based on the modules, in class meetings use various methods, techniques and media: group discussions, role play case studies, video, flipcharts, power point presentations, film and document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DSCN2088"/>
          <p:cNvPicPr/>
          <p:nvPr/>
        </p:nvPicPr>
        <p:blipFill>
          <a:blip r:embed="rId1"/>
          <a:stretch/>
        </p:blipFill>
        <p:spPr>
          <a:xfrm>
            <a:off x="5257800" y="12193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Gabung"/>
          <p:cNvPicPr/>
          <p:nvPr/>
        </p:nvPicPr>
        <p:blipFill>
          <a:blip r:embed="rId2"/>
          <a:stretch/>
        </p:blipFill>
        <p:spPr>
          <a:xfrm>
            <a:off x="3200400" y="10666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local modules"/>
          <p:cNvPicPr/>
          <p:nvPr/>
        </p:nvPicPr>
        <p:blipFill>
          <a:blip r:embed="rId3"/>
          <a:stretch/>
        </p:blipFill>
        <p:spPr>
          <a:xfrm>
            <a:off x="1371600" y="12193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CIMG1889"/>
          <p:cNvPicPr/>
          <p:nvPr/>
        </p:nvPicPr>
        <p:blipFill>
          <a:blip r:embed="rId4"/>
          <a:stretch/>
        </p:blipFill>
        <p:spPr>
          <a:xfrm>
            <a:off x="5257800" y="2895480"/>
            <a:ext cx="2743200" cy="221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IN CLAS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IMG1224"/>
          <p:cNvPicPr/>
          <p:nvPr/>
        </p:nvPicPr>
        <p:blipFill>
          <a:blip r:embed="rId1"/>
          <a:stretch/>
        </p:blipFill>
        <p:spPr>
          <a:xfrm>
            <a:off x="2590920" y="13716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SL380374"/>
          <p:cNvPicPr/>
          <p:nvPr/>
        </p:nvPicPr>
        <p:blipFill>
          <a:blip r:embed="rId2"/>
          <a:stretch/>
        </p:blipFill>
        <p:spPr>
          <a:xfrm>
            <a:off x="5334120" y="13716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IMG1992"/>
          <p:cNvPicPr/>
          <p:nvPr/>
        </p:nvPicPr>
        <p:blipFill>
          <a:blip r:embed="rId3"/>
          <a:stretch/>
        </p:blipFill>
        <p:spPr>
          <a:xfrm>
            <a:off x="1066680" y="137160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1219320" y="3809880"/>
            <a:ext cx="670536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Resource person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may be invited to give the participants more in-depth understanding of certain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esource persons come from KID, local universities, government institutions, NGOs, media and other relevant (local) organiz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ut of class activities aim at giving the participants an opportunity to practice what they have learned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facilitators assist the participants, starting from the preparation, development of Terms of Reference and fund raising when necess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Implementing Agency assists with administration, communicating with resource persons (if required) and providing equi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oaching-01"/>
          <p:cNvPicPr/>
          <p:nvPr/>
        </p:nvPicPr>
        <p:blipFill>
          <a:blip r:embed="rId1"/>
          <a:stretch/>
        </p:blipFill>
        <p:spPr>
          <a:xfrm>
            <a:off x="4952880" y="4495680"/>
            <a:ext cx="3200400" cy="1752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438280" y="5029200"/>
            <a:ext cx="2514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he facilitators and the participants get together in one of the participant’s house discussing the coming radio talk 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talkshow-RRI-Batu-1"/>
          <p:cNvPicPr/>
          <p:nvPr/>
        </p:nvPicPr>
        <p:blipFill>
          <a:blip r:embed="rId1"/>
          <a:stretch/>
        </p:blipFill>
        <p:spPr>
          <a:xfrm>
            <a:off x="533520" y="1295280"/>
            <a:ext cx="2743200" cy="1524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talkshow-TV-Batu-1"/>
          <p:cNvPicPr/>
          <p:nvPr/>
        </p:nvPicPr>
        <p:blipFill>
          <a:blip r:embed="rId2"/>
          <a:stretch/>
        </p:blipFill>
        <p:spPr>
          <a:xfrm>
            <a:off x="3505320" y="129528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685800" y="4495680"/>
            <a:ext cx="28195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adio Talk Show with the participants as show mas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ometimes resource persons are invited to jo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hows are broadcast l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udience interacts by calling in and sending text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429000" y="3200400"/>
            <a:ext cx="2514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V Talk Sh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similar set-up as radio show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dialog-dg-pemda-jeneponto"/>
          <p:cNvPicPr/>
          <p:nvPr/>
        </p:nvPicPr>
        <p:blipFill>
          <a:blip r:embed="rId3"/>
          <a:stretch/>
        </p:blipFill>
        <p:spPr>
          <a:xfrm>
            <a:off x="6019920" y="121932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6324480" y="3200400"/>
            <a:ext cx="2210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Meeting the local/district government where the participants of the School discuss the governance system, including public services, local problems and possib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CIMG1071"/>
          <p:cNvPicPr/>
          <p:nvPr/>
        </p:nvPicPr>
        <p:blipFill>
          <a:blip r:embed="rId4"/>
          <a:stretch/>
        </p:blipFill>
        <p:spPr>
          <a:xfrm>
            <a:off x="533520" y="2971800"/>
            <a:ext cx="259056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DSCN2079"/>
          <p:cNvPicPr/>
          <p:nvPr/>
        </p:nvPicPr>
        <p:blipFill>
          <a:blip r:embed="rId1"/>
          <a:stretch/>
        </p:blipFill>
        <p:spPr>
          <a:xfrm>
            <a:off x="914400" y="1143000"/>
            <a:ext cx="259092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3962520" y="1295280"/>
            <a:ext cx="38862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Arial"/>
              </a:rPr>
              <a:t>Community Mee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Arial"/>
              </a:rPr>
              <a:t>The participants meet local leaders and discuss with them local values, with special emphasis on traditional ways in dealing with confli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DSCN0450"/>
          <p:cNvPicPr/>
          <p:nvPr/>
        </p:nvPicPr>
        <p:blipFill>
          <a:blip r:embed="rId2"/>
          <a:stretch/>
        </p:blipFill>
        <p:spPr>
          <a:xfrm>
            <a:off x="609480" y="27432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2"/>
          <p:cNvSpPr/>
          <p:nvPr/>
        </p:nvSpPr>
        <p:spPr>
          <a:xfrm>
            <a:off x="3581280" y="2819520"/>
            <a:ext cx="4800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ield assign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e participants stay in a village and gather data related to local democracy practices as part of the assignment in social analysi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tangerang09 008"/>
          <p:cNvPicPr/>
          <p:nvPr/>
        </p:nvPicPr>
        <p:blipFill>
          <a:blip r:embed="rId3"/>
          <a:stretch/>
        </p:blipFill>
        <p:spPr>
          <a:xfrm>
            <a:off x="533520" y="4343400"/>
            <a:ext cx="1752480" cy="1600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648320" y="4648320"/>
            <a:ext cx="41148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ublic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Meetings between the participants, local bureaucrats, NGOs, the business community and political parties to discuss current issues such as religion and democracy, multiculturalism, election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5" descr="CIMG1022"/>
          <p:cNvPicPr/>
          <p:nvPr/>
        </p:nvPicPr>
        <p:blipFill>
          <a:blip r:embed="rId4"/>
          <a:stretch/>
        </p:blipFill>
        <p:spPr>
          <a:xfrm>
            <a:off x="2286000" y="43434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VISION of 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Three basic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emocracy is understood a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universal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values that are worth defending, regardless of who we are and where we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emocracy is understood a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contextual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realization of these universal values, in accordance with local cultural values and historical particularities where it is 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Participation is the very backbone of democracy. In order for political participation to be substantial, it should meet two prerequisites: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The quantity of participation and the quality of discourse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EVALUATION - Grad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Evaluatio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ttendance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icipation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ignment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in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certificate is given to participants completing all th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ujian-lbt"/>
          <p:cNvPicPr/>
          <p:nvPr/>
        </p:nvPicPr>
        <p:blipFill>
          <a:blip r:embed="rId1"/>
          <a:stretch/>
        </p:blipFill>
        <p:spPr>
          <a:xfrm>
            <a:off x="3505320" y="4114800"/>
            <a:ext cx="4565520" cy="1801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3341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0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2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ONITORING AND EVALUATION of Democrac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ctivity-Based Evaluation –monthl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articipant Progress (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portfolio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) – mid year evaluation/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id year and fin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gular field visits by K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DSCN1420"/>
          <p:cNvPicPr/>
          <p:nvPr/>
        </p:nvPicPr>
        <p:blipFill>
          <a:blip r:embed="rId1"/>
          <a:stretch/>
        </p:blipFill>
        <p:spPr>
          <a:xfrm>
            <a:off x="685800" y="4114800"/>
            <a:ext cx="327672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962520" y="5410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file of the School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DSCN2087"/>
          <p:cNvPicPr/>
          <p:nvPr/>
        </p:nvPicPr>
        <p:blipFill>
          <a:blip r:embed="rId2"/>
          <a:stretch/>
        </p:blipFill>
        <p:spPr>
          <a:xfrm>
            <a:off x="6324480" y="411480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68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5" dur="768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7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9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ing the capacity of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ing Agency and Facilit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hroughout the year, KID endeavors to guard and enhance the quality of the Sch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raining for Implementing Agencies (Financial Management, Strategic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raining of Facilitators with regard to modules and facilitat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artners Meeting to share experiences and best practices, and review the progress of the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SCN2377"/>
          <p:cNvPicPr/>
          <p:nvPr/>
        </p:nvPicPr>
        <p:blipFill>
          <a:blip r:embed="rId1"/>
          <a:stretch/>
        </p:blipFill>
        <p:spPr>
          <a:xfrm>
            <a:off x="762120" y="403848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TOT-12"/>
          <p:cNvPicPr/>
          <p:nvPr/>
        </p:nvPicPr>
        <p:blipFill>
          <a:blip r:embed="rId2"/>
          <a:stretch/>
        </p:blipFill>
        <p:spPr>
          <a:xfrm>
            <a:off x="6172200" y="38098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838080" y="5410080"/>
            <a:ext cx="266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eting of Implementing Agencies to share experiences and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191120" y="570240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</a:rPr>
              <a:t>Training of Trainers where facilitators share experiences and enhance their capacity as the facilitators of Democrac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sharing-TOT-2"/>
          <p:cNvPicPr/>
          <p:nvPr/>
        </p:nvPicPr>
        <p:blipFill>
          <a:blip r:embed="rId3"/>
          <a:stretch/>
        </p:blipFill>
        <p:spPr>
          <a:xfrm>
            <a:off x="3657600" y="38098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5"/>
          <p:cNvSpPr/>
          <p:nvPr/>
        </p:nvSpPr>
        <p:spPr>
          <a:xfrm>
            <a:off x="609480" y="304920"/>
            <a:ext cx="15242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paration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1337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533520" y="1066680"/>
            <a:ext cx="19047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– selection of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2895480" y="3049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 between Implementing Agency (IA) and K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04812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457200" y="23623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reparation by Implementing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533520" y="3276720"/>
            <a:ext cx="2286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of Facilitators and 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on School Curriculum a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3809880" y="23623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3809880" y="3809880"/>
            <a:ext cx="221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mplementation of </a:t>
            </a: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he School of Democ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038480" y="5105520"/>
            <a:ext cx="17528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Out of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7"/>
          <p:cNvSpPr/>
          <p:nvPr/>
        </p:nvSpPr>
        <p:spPr>
          <a:xfrm flipH="1">
            <a:off x="2209320" y="1066680"/>
            <a:ext cx="838440" cy="129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8"/>
          <p:cNvSpPr/>
          <p:nvPr/>
        </p:nvSpPr>
        <p:spPr>
          <a:xfrm>
            <a:off x="48006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9"/>
          <p:cNvSpPr/>
          <p:nvPr/>
        </p:nvSpPr>
        <p:spPr>
          <a:xfrm>
            <a:off x="5562720" y="228600"/>
            <a:ext cx="2286000" cy="110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pacity Building for Implementing Agency and 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onitoring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0"/>
          <p:cNvSpPr/>
          <p:nvPr/>
        </p:nvSpPr>
        <p:spPr>
          <a:xfrm>
            <a:off x="3809880" y="2362320"/>
            <a:ext cx="175284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Program Sta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Students/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2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5"/>
          <p:cNvSpPr/>
          <p:nvPr/>
        </p:nvSpPr>
        <p:spPr>
          <a:xfrm>
            <a:off x="6477120" y="541008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6"/>
          <p:cNvSpPr/>
          <p:nvPr/>
        </p:nvSpPr>
        <p:spPr>
          <a:xfrm>
            <a:off x="4724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7"/>
          <p:cNvSpPr/>
          <p:nvPr/>
        </p:nvSpPr>
        <p:spPr>
          <a:xfrm>
            <a:off x="6858000" y="13716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9"/>
          <p:cNvSpPr/>
          <p:nvPr/>
        </p:nvSpPr>
        <p:spPr>
          <a:xfrm>
            <a:off x="2057400" y="5334120"/>
            <a:ext cx="1523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0"/>
          <p:cNvSpPr/>
          <p:nvPr/>
        </p:nvSpPr>
        <p:spPr>
          <a:xfrm flipH="1">
            <a:off x="35812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1"/>
          <p:cNvSpPr/>
          <p:nvPr/>
        </p:nvSpPr>
        <p:spPr>
          <a:xfrm flipV="1">
            <a:off x="3200400" y="3276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2"/>
          <p:cNvSpPr/>
          <p:nvPr/>
        </p:nvSpPr>
        <p:spPr>
          <a:xfrm>
            <a:off x="3200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4"/>
          <p:cNvSpPr/>
          <p:nvPr/>
        </p:nvSpPr>
        <p:spPr>
          <a:xfrm flipH="1">
            <a:off x="5790960" y="1371600"/>
            <a:ext cx="106668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5"/>
          <p:cNvSpPr/>
          <p:nvPr/>
        </p:nvSpPr>
        <p:spPr>
          <a:xfrm>
            <a:off x="57913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6629400" y="3124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8"/>
          <p:cNvSpPr/>
          <p:nvPr/>
        </p:nvSpPr>
        <p:spPr>
          <a:xfrm flipH="1">
            <a:off x="55623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6934320" y="1371600"/>
            <a:ext cx="1371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-Evaluation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mni of the Democracy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2006-2012, 1450 alumni, in 8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 15-20% became members of various political parties (in one of the regions 50%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en 80 alumni ran for office in parliamentary elections in April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ecame legislators in district parli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ecame legislator in a provincial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became village heads (ongoing elections for the exec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 became member of Election Committee or Election Monitoring Body (district and provincial lev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arliamentary elections of 2014, 127 alumni have registered to run for office (5 provincial and 2 national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umni of the Democracy Schools: Community Committ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ight regions, alumni are now active as a group in so-called Community Committees (C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K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should not act as ordinary NGOs in Indonesia (anti-politics), but be mediators in their respective communities; CCs should be ‘agents of chan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are to bridge the gap between civil society and political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are to address local problems by involving all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0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foto timBatu"/>
          <p:cNvPicPr/>
          <p:nvPr/>
        </p:nvPicPr>
        <p:blipFill>
          <a:blip r:embed="rId1"/>
          <a:stretch/>
        </p:blipFill>
        <p:spPr>
          <a:xfrm>
            <a:off x="762120" y="13716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tim-puspa"/>
          <p:cNvPicPr/>
          <p:nvPr/>
        </p:nvPicPr>
        <p:blipFill>
          <a:blip r:embed="rId2"/>
          <a:stretch/>
        </p:blipFill>
        <p:spPr>
          <a:xfrm>
            <a:off x="609480" y="35812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tangerang09 013"/>
          <p:cNvPicPr/>
          <p:nvPr/>
        </p:nvPicPr>
        <p:blipFill>
          <a:blip r:embed="rId3"/>
          <a:stretch/>
        </p:blipFill>
        <p:spPr>
          <a:xfrm>
            <a:off x="5715000" y="3581280"/>
            <a:ext cx="2666880" cy="167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oto Tim Lapar"/>
          <p:cNvPicPr/>
          <p:nvPr/>
        </p:nvPicPr>
        <p:blipFill>
          <a:blip r:embed="rId4"/>
          <a:stretch/>
        </p:blipFill>
        <p:spPr>
          <a:xfrm>
            <a:off x="5638680" y="1371600"/>
            <a:ext cx="281952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DSCN0078"/>
          <p:cNvPicPr/>
          <p:nvPr/>
        </p:nvPicPr>
        <p:blipFill>
          <a:blip r:embed="rId5"/>
          <a:stretch/>
        </p:blipFill>
        <p:spPr>
          <a:xfrm>
            <a:off x="3276720" y="2743200"/>
            <a:ext cx="2590560" cy="2057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1"/>
          <p:cNvSpPr/>
          <p:nvPr/>
        </p:nvSpPr>
        <p:spPr>
          <a:xfrm>
            <a:off x="2286000" y="5638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Teams of the Democracy Sch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0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MISSION of KI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o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facilitate citizens to be committed to a democratic system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as a means to meet their political aspirations and, through their political participation, further a safe, peaceful, just, prosperous and plural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o build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democracy as a bridge between people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, politicians, political institutions, civil society and the business community, to make use of opportunities to monitor every public decision-making process that has a direct or indirect impact on people’s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09480" y="304920"/>
            <a:ext cx="15242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paration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21337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33520" y="1066680"/>
            <a:ext cx="19047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– selection of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2895480" y="3049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 between Implementing Agency (IA) and K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04812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457200" y="23623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reparation by Implementing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533520" y="3276720"/>
            <a:ext cx="2286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of Facilitators and 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on School Curriculum a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3809880" y="23623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3809880" y="3809880"/>
            <a:ext cx="221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mplementation of </a:t>
            </a: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he Democrac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4038480" y="5105520"/>
            <a:ext cx="17528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Out of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7"/>
          <p:cNvSpPr/>
          <p:nvPr/>
        </p:nvSpPr>
        <p:spPr>
          <a:xfrm flipH="1">
            <a:off x="2209320" y="1066680"/>
            <a:ext cx="838440" cy="129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48006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9"/>
          <p:cNvSpPr/>
          <p:nvPr/>
        </p:nvSpPr>
        <p:spPr>
          <a:xfrm>
            <a:off x="5562720" y="228600"/>
            <a:ext cx="2286000" cy="110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pacity Building for Implementing Agency and 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onitoring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0"/>
          <p:cNvSpPr/>
          <p:nvPr/>
        </p:nvSpPr>
        <p:spPr>
          <a:xfrm>
            <a:off x="3809880" y="2362320"/>
            <a:ext cx="175284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Program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Students/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2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6477120" y="541008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6"/>
          <p:cNvSpPr/>
          <p:nvPr/>
        </p:nvSpPr>
        <p:spPr>
          <a:xfrm>
            <a:off x="4724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7"/>
          <p:cNvSpPr/>
          <p:nvPr/>
        </p:nvSpPr>
        <p:spPr>
          <a:xfrm>
            <a:off x="6858000" y="13716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9"/>
          <p:cNvSpPr/>
          <p:nvPr/>
        </p:nvSpPr>
        <p:spPr>
          <a:xfrm>
            <a:off x="2057400" y="5334120"/>
            <a:ext cx="1523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0"/>
          <p:cNvSpPr/>
          <p:nvPr/>
        </p:nvSpPr>
        <p:spPr>
          <a:xfrm flipH="1">
            <a:off x="35812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1"/>
          <p:cNvSpPr/>
          <p:nvPr/>
        </p:nvSpPr>
        <p:spPr>
          <a:xfrm flipV="1">
            <a:off x="3200400" y="3276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2"/>
          <p:cNvSpPr/>
          <p:nvPr/>
        </p:nvSpPr>
        <p:spPr>
          <a:xfrm>
            <a:off x="3200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4"/>
          <p:cNvSpPr/>
          <p:nvPr/>
        </p:nvSpPr>
        <p:spPr>
          <a:xfrm flipH="1">
            <a:off x="5790960" y="1371600"/>
            <a:ext cx="106668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5"/>
          <p:cNvSpPr/>
          <p:nvPr/>
        </p:nvSpPr>
        <p:spPr>
          <a:xfrm>
            <a:off x="57913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V="1">
            <a:off x="6629400" y="3124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55623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6934320" y="1371600"/>
            <a:ext cx="1371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-Evaluation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The Schools are requir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Generate a pool of young, strategically capable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democratically active and committed individu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t up and develop Community Committees (alumni groups) that will be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gents of change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n the transformation of democracy at the local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acilitate a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dynamic network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mong the local ‘4 pillars of democracy’ (civil society, political society, bureaucracy, business comm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articipants are requir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Be capable of </a:t>
            </a:r>
            <a:r>
              <a:rPr b="0" lang="id-ID" sz="1800" spc="-1" strike="noStrike" u="sng">
                <a:solidFill>
                  <a:srgbClr val="3333ff"/>
                </a:solidFill>
                <a:uFillTx/>
                <a:latin typeface="Arial"/>
              </a:rPr>
              <a:t>interaction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among the </a:t>
            </a:r>
            <a:r>
              <a:rPr b="0" lang="nl-NL" sz="1800" spc="-1" strike="noStrike">
                <a:solidFill>
                  <a:srgbClr val="3333ff"/>
                </a:solidFill>
                <a:latin typeface="Arial"/>
              </a:rPr>
              <a:t>‘4 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pillars of democracy</a:t>
            </a:r>
            <a:r>
              <a:rPr b="0" lang="nl-NL" sz="1800" spc="-1" strike="noStrike">
                <a:solidFill>
                  <a:srgbClr val="3333ff"/>
                </a:solidFill>
                <a:latin typeface="Arial"/>
              </a:rPr>
              <a:t>’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in the local political landsc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Demonstrate democratic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knowledge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value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skil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rticulate issues of democracy</a:t>
            </a:r>
            <a:r>
              <a:rPr b="0" lang="id-ID" sz="18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in the local or national political landscape: a. write and publish 5 articles in the local print media, or b.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rganize talk shows in the local radio/TV stations, or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c.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rganize events of public participation, or d. organize hearings in the local parliament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sential Elements of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he Democrac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Implementing Agency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: to ensure all the activities are running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Facilitators: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to assist the Implementing Agency in developing suitable curriculum and selecting the School participants; and to assist the participants in their learning process (in and out class activities) </a:t>
            </a:r>
            <a:r>
              <a:rPr b="0" lang="en-US" sz="2400" spc="-1" strike="noStrike">
                <a:solidFill>
                  <a:srgbClr val="cc00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 time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Participant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: from ‘the 4 pillars of democracy’ (Civil Society, Bureaucracy, Political Parties and Busines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upporting tool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(modules, class room, equipments, resource per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SOCIAL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efore the School is implemented the Implementing Agency needs to meet the local authorities and leaders to introduce the program and get their con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required the KID will assist the IA to get the authorities’ appro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0020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etemubupatijeneponto"/>
          <p:cNvPicPr/>
          <p:nvPr/>
        </p:nvPicPr>
        <p:blipFill>
          <a:blip r:embed="rId1"/>
          <a:stretch/>
        </p:blipFill>
        <p:spPr>
          <a:xfrm>
            <a:off x="457200" y="37339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DSCN2069"/>
          <p:cNvPicPr/>
          <p:nvPr/>
        </p:nvPicPr>
        <p:blipFill>
          <a:blip r:embed="rId2"/>
          <a:stretch/>
        </p:blipFill>
        <p:spPr>
          <a:xfrm>
            <a:off x="4343400" y="3733920"/>
            <a:ext cx="1981080" cy="1447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3"/>
          <p:cNvSpPr/>
          <p:nvPr/>
        </p:nvSpPr>
        <p:spPr>
          <a:xfrm>
            <a:off x="1066680" y="54100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eting the District Head of Jenep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4419720" y="52578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eeting the indigenous and village lea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sosialisasi-jnp"/>
          <p:cNvPicPr/>
          <p:nvPr/>
        </p:nvPicPr>
        <p:blipFill>
          <a:blip r:embed="rId3"/>
          <a:stretch/>
        </p:blipFill>
        <p:spPr>
          <a:xfrm>
            <a:off x="6324480" y="3733920"/>
            <a:ext cx="1828800" cy="1447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6"/>
          <p:cNvSpPr/>
          <p:nvPr/>
        </p:nvSpPr>
        <p:spPr>
          <a:xfrm>
            <a:off x="6553080" y="53341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minar on the School of Democ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bertemu_bupati_jeneponto"/>
          <p:cNvPicPr/>
          <p:nvPr/>
        </p:nvPicPr>
        <p:blipFill>
          <a:blip r:embed="rId4"/>
          <a:stretch/>
        </p:blipFill>
        <p:spPr>
          <a:xfrm>
            <a:off x="2209680" y="373392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nagement Preparation of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 Implement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cruitment of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School needs full-time facilitators to assist the participants during thei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Criteria for facilit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basic knowledge of democracy, politics and 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read all the modules developed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the experience in facilitating training at least 5 years consecu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Believe in democracy and plur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Tolerance and respect with regard to different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Always trying to find non-violen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Skilled in negotiation and conflic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the ability to communicate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nagement Preparation of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 Implement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orkshop on School Curriculu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develop a locally based curriculum (involving IA, facilitators and representatives of K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ining the facilitators by KI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from the Schools’ objectives to the strategies and the necess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cruitment of the School Participan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through local media (radio, TV and newspap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workshop-kurikulum-jnp"/>
          <p:cNvPicPr/>
          <p:nvPr/>
        </p:nvPicPr>
        <p:blipFill>
          <a:blip r:embed="rId1"/>
          <a:stretch/>
        </p:blipFill>
        <p:spPr>
          <a:xfrm>
            <a:off x="5486400" y="19810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5867280" y="4114800"/>
            <a:ext cx="2438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orkshop for facilitators and implementing agency to discuss the curriculum and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1:18:48Z</dcterms:created>
  <dc:creator>Program</dc:creator>
  <dc:description/>
  <dc:language>en-US</dc:language>
  <cp:lastModifiedBy>BONCOMPAGNI Angiolo (DEVCO)</cp:lastModifiedBy>
  <dcterms:modified xsi:type="dcterms:W3CDTF">2013-06-20T07:08:02Z</dcterms:modified>
  <cp:revision>194</cp:revision>
  <dc:subject/>
  <dc:title>The Curriculum of Democracy School - Indonesia</dc:title>
</cp:coreProperties>
</file>