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380052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14"/>
          </p:nvPr>
        </p:nvSpPr>
        <p:spPr>
          <a:xfrm>
            <a:off x="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15"/>
          </p:nvPr>
        </p:nvSpPr>
        <p:spPr>
          <a:xfrm>
            <a:off x="380052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CDDC-2BA8-4A01-95B4-8F28F3FAAB0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29F4-14A0-4426-B906-1C4CD4CC057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B71A-611B-473D-9AFF-399389C4BDC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3B5B-457B-41BB-AD98-8F8B10BB365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2B2A-1FB5-40DC-B8EB-7748E6867CC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CB7E-D2AA-47AD-92D9-E20C4FFA15F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A52E-F51A-4E17-A9B3-6C8F1F1DB06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36F4-FAF4-427A-9230-FECE47A1652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B58-32BA-4C12-9164-F66D353C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E65-F7D5-4631-9DE0-9284096B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7C7-0CFE-4177-A56E-7D9D6746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FC1-C3E5-45C5-85D4-4BBA5A2E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6CD6-B723-41E9-9EB7-9EA23975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9FFA-1C1A-40E1-B589-C752AE1A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1C04-A8B2-4D3E-A6C7-6475E588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245E-1D6D-4623-B634-947A06B4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72F3-9961-495E-9BF9-6DE80FC9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9DC7-6EA2-4029-B70D-314E6C27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5BAA-CEAC-4424-876F-80C3B2CB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5AA-81C4-43AC-B8B8-0DF613EA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1377-AE94-4E8D-AB63-3100FE2C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EAC9-37BC-43D0-9AF3-99470CC1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460B-E664-4425-9747-C8358C88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4D79-D465-4CB8-9F28-BDC3E533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BC32-6839-482B-BBDE-68E36108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E0B4-EC0B-482D-A2CA-8C93542E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47D5-B1E4-4895-83CE-00525F5D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2403-327C-437C-BF45-70CBAAD4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1FD6-49F7-4CCB-8227-0EE838F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5845-20F8-4471-A3F6-483F953C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2A9-F974-403E-BE5E-4CF59A73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6A7B-87B5-443F-BB1C-F8E80E87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6798-9E63-43F9-8A3C-2DF0123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08DE-62E4-4A0C-A3BA-9F8F36BB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8C11A-685F-4937-B372-F9862435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81FF-E4AB-4191-9087-DFC705AF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5163-A360-4BA1-A07F-B9B4A2FC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03B0D-7206-48AD-A1F3-FD62BA32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411-73B6-4C2E-BC0F-71A5363B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A71-AC61-46B8-9D6D-20D077F2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751-B217-4919-8BE2-961D77F2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268-956A-46EE-AACA-BBB66998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D5EBE-ADF9-4A5B-A79A-6F0996CA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D88D8-2AD1-42FE-8D08-8D7B23F0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554F5-E4F8-451E-BCA6-2FF080CD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BF429-94C6-45E1-9AD8-0A1A6735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A5B24-8FA3-46ED-B3A3-1C0416D5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8E0F9-253C-4F76-AC4D-5290B3E7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8FAA4-9D7C-43BC-8DFA-2A919719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B87-DBA9-4A40-8CCF-0E0933D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528E-0CA6-49A9-B699-4520B69D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40943-6DE6-45A0-A3DC-3FE7710D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F19D-270A-493C-BAFE-D614D3F6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6832-1B01-4D15-B558-1A062354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6E37-02C1-418C-B269-E4FE22A0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756-B724-444C-8997-9F11A59A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7440" y="6424200"/>
            <a:ext cx="57121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0A2B-B812-4400-97CA-A770E31D568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96640" y="6424200"/>
            <a:ext cx="57229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B51E-2BB8-47BE-93C7-C5B8F014FCC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6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BB92-BD97-4468-8BC8-42DE921789C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2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NIMD_logo_RGB"/>
          <p:cNvPicPr/>
          <p:nvPr/>
        </p:nvPicPr>
        <p:blipFill>
          <a:blip r:embed="rId2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NIMD_org_url_rgb"/>
          <p:cNvPicPr/>
          <p:nvPr/>
        </p:nvPicPr>
        <p:blipFill>
          <a:blip r:embed="rId3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2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2361-DF5C-4154-9363-12D154A90C1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cemi-tunis.org/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171760" y="5991120"/>
            <a:ext cx="373068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860d"/>
                </a:solidFill>
                <a:latin typeface="Arial"/>
              </a:rPr>
              <a:t>NIMD | From parties for parties</a:t>
            </a:r>
            <a:endParaRPr b="1" lang="en-US" sz="20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440" y="5008320"/>
            <a:ext cx="7916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Jerome Schel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684360" y="3398760"/>
            <a:ext cx="77230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60d"/>
                </a:solidFill>
                <a:latin typeface="Arial"/>
              </a:rPr>
              <a:t>NIMD’s approach to Democracy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Design 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36080" y="1012320"/>
            <a:ext cx="90075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design consideration for Don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litical programming and education require flexibility and long term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/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T-trap (or cascade roll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 for Transfer, not for Topic: plan as ‘reverse pyrami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ing partner identification (e.g. wider frame of ac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eutral facilitator (crisis mitigation) -&gt; Diplomatic -&gt; political mover 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te -&gt; activ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hort term impact measurement or causalities as indicators for PM&amp;E or Intervention Log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420840" y="1160640"/>
            <a:ext cx="8611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-political civil society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 politicians / party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ents of change” or “changing the agents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R / activism)         (Politics / Diploma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420840" y="1160640"/>
            <a:ext cx="86119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p-down or Bottom-up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rickle-down or Mass-b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National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achieve system change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Community level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seek direct impact on citizens’ daily liv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(in terms of efficiency, not principl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247760" y="1030320"/>
            <a:ext cx="78962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Year-long monthly weekend school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imed at increasing skills and knowledge on democratic practises (values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un by Tunisian ngo CEMI (EU funded INSPIRED-partner) with financial and strategic support of international partners NIMD &amp; DEMO Finland (EPD-members) and BSoP (CoE-School), and with funding from CoE (…E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a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240000" y="3621240"/>
            <a:ext cx="3286080" cy="3236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0" y="3621240"/>
            <a:ext cx="3240000" cy="1035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3"/>
          <a:stretch/>
        </p:blipFill>
        <p:spPr>
          <a:xfrm>
            <a:off x="49320" y="4656240"/>
            <a:ext cx="3095640" cy="879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4"/>
          <a:stretch/>
        </p:blipFill>
        <p:spPr>
          <a:xfrm>
            <a:off x="6697800" y="5535720"/>
            <a:ext cx="2276280" cy="1322280"/>
          </a:xfrm>
          <a:prstGeom prst="rect">
            <a:avLst/>
          </a:prstGeom>
          <a:ln w="0">
            <a:noFill/>
          </a:ln>
        </p:spPr>
      </p:pic>
      <p:pic>
        <p:nvPicPr>
          <p:cNvPr id="336" name="Image 2" descr="CEM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26080" y="3619440"/>
            <a:ext cx="2617920" cy="939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"/>
          <p:cNvPicPr/>
          <p:nvPr/>
        </p:nvPicPr>
        <p:blipFill>
          <a:blip r:embed="rId7"/>
          <a:stretch/>
        </p:blipFill>
        <p:spPr>
          <a:xfrm>
            <a:off x="217440" y="5686560"/>
            <a:ext cx="2803680" cy="1171440"/>
          </a:xfrm>
          <a:prstGeom prst="rect">
            <a:avLst/>
          </a:prstGeom>
          <a:ln w="0">
            <a:noFill/>
          </a:ln>
        </p:spPr>
      </p:pic>
      <p:pic>
        <p:nvPicPr>
          <p:cNvPr id="338" name="Image 4" descr="C:\Users\USER\Divers dossiers\Bulgarian logo.jpg"/>
          <p:cNvPicPr/>
          <p:nvPr/>
        </p:nvPicPr>
        <p:blipFill>
          <a:blip r:embed="rId8"/>
          <a:stretch/>
        </p:blipFill>
        <p:spPr>
          <a:xfrm>
            <a:off x="6697800" y="4656240"/>
            <a:ext cx="2276280" cy="10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 (TSoP)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727280" y="1030320"/>
            <a:ext cx="728028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gramme developed just after the “Arab Spring” in 2011, schools 2 classes started in 2012, 3 now 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fer to party leadership to send their ‘promising’ youth members. School makes final selection based on crite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Recently established multiparty system. Politicians lack democratic experien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Grooming new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Enforcing youth voice within all political partie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group graduated in July 2012, of which 20 ANC-members + other hig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 larger demand than plac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oP is now political and diplomatic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e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Result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320840" y="420696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860d"/>
                </a:solidFill>
                <a:latin typeface="Arial"/>
              </a:rPr>
              <a:t>On NIMD: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36640" y="1117440"/>
            <a:ext cx="705168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MD was founded in The Netherlands in 2000 b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n all Political Parties in Parlia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 = Supporting democracy by strengthening political parties by working directly with political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ia Interparty Dialogue, custom bilateral party support, peer-to-peer exchanges, policy process support, democracy 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301680" y="1117440"/>
            <a:ext cx="1163520" cy="1500480"/>
            <a:chOff x="301680" y="1117440"/>
            <a:chExt cx="1163520" cy="1500480"/>
          </a:xfrm>
        </p:grpSpPr>
        <p:sp>
          <p:nvSpPr>
            <p:cNvPr id="301" name="AutoShape 5"/>
            <p:cNvSpPr/>
            <p:nvPr/>
          </p:nvSpPr>
          <p:spPr>
            <a:xfrm>
              <a:off x="301680" y="1117440"/>
              <a:ext cx="116136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2" name="Picture 6" descr=""/>
            <p:cNvPicPr/>
            <p:nvPr/>
          </p:nvPicPr>
          <p:blipFill>
            <a:blip r:embed="rId1"/>
            <a:stretch/>
          </p:blipFill>
          <p:spPr>
            <a:xfrm>
              <a:off x="301680" y="1117440"/>
              <a:ext cx="1163520" cy="15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Box 8"/>
          <p:cNvSpPr/>
          <p:nvPr/>
        </p:nvSpPr>
        <p:spPr>
          <a:xfrm>
            <a:off x="360360" y="4146480"/>
            <a:ext cx="402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rrently working in 25 countr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 in Africa;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 in Latin America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Europ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As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 in North Africa &amp; Middle 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matic regional/global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4765680" y="3727440"/>
            <a:ext cx="402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nci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rti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clus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exibility &amp; context specifi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-term commi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IMD &amp; partners in Democracy Education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420840" y="1160640"/>
            <a:ext cx="86119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strument in wider democracy strengthening strategy to enhance democratic cul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IMD providing framework and experience: ‘Democracy Schools’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ners help to design curriculum and adapt to local contex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 in 7 country programme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communi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Mozambique, Egypt, Georgia, Indonesia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political par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Tunisia, Guatemala, Malawi, Egypt (pilo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3880" y="367920"/>
            <a:ext cx="73756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erent audience, different approac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37"/>
          <p:cNvSpPr/>
          <p:nvPr/>
        </p:nvSpPr>
        <p:spPr>
          <a:xfrm>
            <a:off x="484200" y="2932200"/>
            <a:ext cx="408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Civi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orm civil society at lar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local political activists, grassroots campaigners, social entrepren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key principles of political public eng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practical knowledge for political engagement and technics for political particip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kills and confidence builder for wide political engagement and 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eft Arrow 1"/>
          <p:cNvSpPr/>
          <p:nvPr/>
        </p:nvSpPr>
        <p:spPr>
          <a:xfrm>
            <a:off x="696960" y="1465200"/>
            <a:ext cx="2190600" cy="11667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Citizens &amp; community lea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556080" y="1754280"/>
            <a:ext cx="2031840" cy="590400"/>
          </a:xfrm>
          <a:prstGeom prst="rect">
            <a:avLst/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Democracy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ight Arrow 3"/>
          <p:cNvSpPr/>
          <p:nvPr/>
        </p:nvSpPr>
        <p:spPr>
          <a:xfrm>
            <a:off x="6226200" y="1508040"/>
            <a:ext cx="2133720" cy="11239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olitic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5"/>
          <p:cNvSpPr/>
          <p:nvPr/>
        </p:nvSpPr>
        <p:spPr>
          <a:xfrm>
            <a:off x="4572000" y="2928960"/>
            <a:ext cx="415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Politica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rom key polit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established political figures &amp; national civil society lead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dresses key issues of national policy develop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erience of participants becomes key learning re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ust builder that can lead to opportunities to bring together opposing political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, Skills, Values; theory (applied during) &amp; practice (in and outside class, parallel to and aft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‘Political Studies’, but a ‘Political MB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ach depends on audience/target group and country context; political, geograp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development of curricu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erm School/Education more sustainable then ‘a’ training; deeper knowledge &amp; experience +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-party interperson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ement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um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ey in sustaining the process. Community of alumn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an objective in it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par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 stakehol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atforms for saf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y exchange /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party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s implicit think tanks (Georgia local counc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 &amp; 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trategy, political manoeuvre space &amp;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on consid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ofile criteria &amp;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ance &amp; Commitment, tricks for eng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e, during, -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ntor/managers &amp; Teachers/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ifferent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local were possible, external whe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uest) sp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o’s interest? -&gt; not too many foreign politicians pl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2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ction or Isol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requency: period of the w/m/y -&gt; homework -&gt; loc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ety in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 supply &amp;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active &amp; instru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y &amp;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to peer focus: adult learning styles and method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05560">
              <a:lnSpc>
                <a:spcPct val="120000"/>
              </a:lnSpc>
              <a:spcBef>
                <a:spcPts val="700"/>
              </a:spcBef>
              <a:buClr>
                <a:srgbClr val="ff8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WE WANT GROUP WO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3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85760" y="1050480"/>
            <a:ext cx="89582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visits &amp;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ere is the value, what are the 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o democratic skills exist? or only democracy values &amp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knowledge next to political skills bound by demo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rders?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e conscious of over moralizing, 90% of activities withi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stern democracies is political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ich political skills might we not want to teach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21:03Z</dcterms:created>
  <dc:creator>nimd</dc:creator>
  <dc:description/>
  <dc:language>en-US</dc:language>
  <cp:lastModifiedBy>Visitor-G4</cp:lastModifiedBy>
  <dcterms:modified xsi:type="dcterms:W3CDTF">2013-06-20T12:15:40Z</dcterms:modified>
  <cp:revision>95</cp:revision>
  <dc:subject/>
  <dc:title>Dia 1</dc:title>
</cp:coreProperties>
</file>