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6710400" cy="983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066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3"/>
          </p:nvPr>
        </p:nvSpPr>
        <p:spPr>
          <a:xfrm>
            <a:off x="3800520" y="-360"/>
            <a:ext cx="29066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Img"/>
          </p:nvPr>
        </p:nvSpPr>
        <p:spPr>
          <a:xfrm>
            <a:off x="896400" y="738000"/>
            <a:ext cx="4916520" cy="368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60d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14"/>
          </p:nvPr>
        </p:nvSpPr>
        <p:spPr>
          <a:xfrm>
            <a:off x="0" y="9342000"/>
            <a:ext cx="29066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 type="sldNum" idx="15"/>
          </p:nvPr>
        </p:nvSpPr>
        <p:spPr>
          <a:xfrm>
            <a:off x="3800520" y="9342000"/>
            <a:ext cx="29066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4BDE-F34B-4DA2-8560-FECEF545362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00520" y="9342360"/>
            <a:ext cx="2906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6CC4-6D7D-47B8-BCDF-65BA948CF56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00520" y="9342360"/>
            <a:ext cx="2906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87BF-4D8A-4213-8F69-18536CC2697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00520" y="9342360"/>
            <a:ext cx="2906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BE22-76CC-4D0E-97B8-B2C8652E0D6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00520" y="9342360"/>
            <a:ext cx="2906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620A-ED3C-4DC8-B5B2-CD8C9165ADA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00520" y="9342360"/>
            <a:ext cx="2906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0A1A-8C81-4EF8-9113-76B2662F5F7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00520" y="9342360"/>
            <a:ext cx="2906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26CB-DA8D-4B26-B7C2-225E33A4D64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00520" y="9342360"/>
            <a:ext cx="2906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5E7F-360C-40AB-85CD-C6EAB0D753F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5EB5-DA31-42C7-B9E7-6752F6D4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0E61-CC13-43E4-A232-C4BAF43C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94C0-9CA2-4434-87ED-1305747E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528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780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312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528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780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0F57-F457-4490-A199-AEB13EDD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500F-6DF0-4502-B623-B28BF750E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BC12-391D-4DF6-9224-565570AF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C8C7-E371-4110-9312-03DC2A65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B499-2966-4DED-A4E5-F5F814DA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8947-6F47-4592-A7D7-D09F6AAF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3120" y="312480"/>
            <a:ext cx="827424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E652-F006-4FDC-93DD-0C714664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D80B-7BBD-4D4B-A027-FCCD9041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126D-98B1-4B9F-85D1-1525E386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D307-ED9F-43D8-8AF5-F9E6F05A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0B5E-BDEE-4B50-B9C0-B0CF1610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E6D0-F080-4816-9FCE-D8A925F7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72DF-C8FB-4AFA-941C-133BF84D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528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6780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312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528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6780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FA8B-3C7C-441F-BCB1-B45596A9E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AEBDC-461B-46EF-B00F-D6172494A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39360-C825-4E2B-ACF2-970EBA8F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E2FA2-7D20-4249-A516-807BCB3E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E31A6-85A7-4E93-B25D-7B9221E2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17346-26D3-4A1D-8FD7-D0343670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8A42-A9B1-47B9-A227-D1323979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3120" y="312480"/>
            <a:ext cx="827424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7B1AB-FDB2-42AA-8937-B7AFC070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EF14A-1C5F-48B2-A330-57EA57AF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AA7F3-DDCC-4F35-AC3D-4ABCFD81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5BE56-7926-428E-B201-207E301F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225E1-95A1-4ECB-88C8-E46CC189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E4327-22DA-47E6-B7DF-99F8AA54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8528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6780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312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8528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6780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6BD23-0D07-453F-BCE2-A2C5BD93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2D03-0EFB-4028-8FB3-307F12CA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03120" y="312480"/>
            <a:ext cx="827424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8528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6780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0312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8528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6780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FC30-A1B4-4434-8009-287B42DD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3120" y="312480"/>
            <a:ext cx="827424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3120" y="312480"/>
            <a:ext cx="827424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E394-7C37-4387-AC7F-2696E40B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8528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6780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312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18528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6780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3120" y="312480"/>
            <a:ext cx="827424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71D8-C23E-468A-BE13-BCE5EF40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528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6780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312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528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6780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15C59-2CB7-4A88-86E9-9ABCD525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C641B-C4C6-42C1-B784-20E9A1A5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AD331-A45D-46A8-AE47-89084CD8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DC38C-1D47-4CB2-8750-886A9460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1BE12-9C53-432A-9671-459BD4ED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303120" y="312480"/>
            <a:ext cx="827424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7DB67-C549-41D2-9DAC-D38390DC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55049-D239-4515-82F5-FD8E8CE8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9AA8-9770-4A06-824C-642AE1E7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46A28-5E99-42DF-A797-85F183CA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C25C0-BED6-416E-A348-BDE713CB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BC621-3BBC-498F-8CE3-425EAB08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F8245-D021-49C6-A191-79D478006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18528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6780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0312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18528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6780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F315E-0C8D-4FF0-93D7-1B537806C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DAE2-9DB3-4290-B173-71102685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60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027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7440" y="6424200"/>
            <a:ext cx="5712120" cy="2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6978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CDA5-681B-4445-9525-01BA879EFA8A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1000" indent="-2491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888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6676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6676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6676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>
            <a:off x="8566200" y="419040"/>
            <a:ext cx="288720" cy="630360"/>
          </a:xfrm>
          <a:custGeom>
            <a:avLst/>
            <a:gdLst/>
            <a:ahLst/>
            <a:rect l="l" t="t" r="r" b="b"/>
            <a:pathLst>
              <a:path w="1188" h="2592">
                <a:moveTo>
                  <a:pt x="258" y="2592"/>
                </a:moveTo>
                <a:cubicBezTo>
                  <a:pt x="252" y="2592"/>
                  <a:pt x="0" y="1812"/>
                  <a:pt x="234" y="1110"/>
                </a:cubicBezTo>
                <a:cubicBezTo>
                  <a:pt x="451" y="464"/>
                  <a:pt x="936" y="0"/>
                  <a:pt x="942" y="24"/>
                </a:cubicBezTo>
                <a:cubicBezTo>
                  <a:pt x="936" y="0"/>
                  <a:pt x="1188" y="606"/>
                  <a:pt x="990" y="1392"/>
                </a:cubicBezTo>
                <a:cubicBezTo>
                  <a:pt x="821" y="2094"/>
                  <a:pt x="246" y="2586"/>
                  <a:pt x="258" y="2592"/>
                </a:cubicBezTo>
                <a:close/>
              </a:path>
            </a:pathLst>
          </a:custGeom>
          <a:solidFill>
            <a:srgbClr val="ff86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60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027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296640" y="6424200"/>
            <a:ext cx="5722920" cy="2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978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2FAA-E888-46CA-A579-9605E929754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6"/>
          <p:cNvSpPr/>
          <p:nvPr/>
        </p:nvSpPr>
        <p:spPr>
          <a:xfrm>
            <a:off x="8566200" y="419040"/>
            <a:ext cx="288720" cy="630360"/>
          </a:xfrm>
          <a:custGeom>
            <a:avLst/>
            <a:gdLst/>
            <a:ahLst/>
            <a:rect l="l" t="t" r="r" b="b"/>
            <a:pathLst>
              <a:path w="1188" h="2592">
                <a:moveTo>
                  <a:pt x="258" y="2592"/>
                </a:moveTo>
                <a:cubicBezTo>
                  <a:pt x="252" y="2592"/>
                  <a:pt x="0" y="1812"/>
                  <a:pt x="234" y="1110"/>
                </a:cubicBezTo>
                <a:cubicBezTo>
                  <a:pt x="451" y="464"/>
                  <a:pt x="936" y="0"/>
                  <a:pt x="942" y="24"/>
                </a:cubicBezTo>
                <a:cubicBezTo>
                  <a:pt x="936" y="0"/>
                  <a:pt x="1188" y="606"/>
                  <a:pt x="990" y="1392"/>
                </a:cubicBezTo>
                <a:cubicBezTo>
                  <a:pt x="821" y="2094"/>
                  <a:pt x="246" y="2586"/>
                  <a:pt x="258" y="2592"/>
                </a:cubicBezTo>
                <a:close/>
              </a:path>
            </a:pathLst>
          </a:custGeom>
          <a:solidFill>
            <a:srgbClr val="ff86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6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027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298080" y="6424200"/>
            <a:ext cx="5721480" cy="2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6978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E8CC-E84E-4745-BF09-15DA65D1A2C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5"/>
          <p:cNvSpPr/>
          <p:nvPr/>
        </p:nvSpPr>
        <p:spPr>
          <a:xfrm>
            <a:off x="8566200" y="419040"/>
            <a:ext cx="288720" cy="630360"/>
          </a:xfrm>
          <a:custGeom>
            <a:avLst/>
            <a:gdLst/>
            <a:ahLst/>
            <a:rect l="l" t="t" r="r" b="b"/>
            <a:pathLst>
              <a:path w="1188" h="2592">
                <a:moveTo>
                  <a:pt x="258" y="2592"/>
                </a:moveTo>
                <a:cubicBezTo>
                  <a:pt x="252" y="2592"/>
                  <a:pt x="0" y="1812"/>
                  <a:pt x="234" y="1110"/>
                </a:cubicBezTo>
                <a:cubicBezTo>
                  <a:pt x="451" y="464"/>
                  <a:pt x="936" y="0"/>
                  <a:pt x="942" y="24"/>
                </a:cubicBezTo>
                <a:cubicBezTo>
                  <a:pt x="936" y="0"/>
                  <a:pt x="1188" y="606"/>
                  <a:pt x="990" y="1392"/>
                </a:cubicBezTo>
                <a:cubicBezTo>
                  <a:pt x="821" y="2094"/>
                  <a:pt x="246" y="2586"/>
                  <a:pt x="258" y="25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8" descr="NIMD_org_url_rgb"/>
          <p:cNvPicPr/>
          <p:nvPr/>
        </p:nvPicPr>
        <p:blipFill>
          <a:blip r:embed="rId2"/>
          <a:stretch/>
        </p:blipFill>
        <p:spPr>
          <a:xfrm>
            <a:off x="682560" y="6392880"/>
            <a:ext cx="1784520" cy="264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2" descr="NIMD_logo_RGB"/>
          <p:cNvPicPr/>
          <p:nvPr/>
        </p:nvPicPr>
        <p:blipFill>
          <a:blip r:embed="rId3"/>
          <a:stretch/>
        </p:blipFill>
        <p:spPr>
          <a:xfrm>
            <a:off x="695160" y="1214280"/>
            <a:ext cx="7821720" cy="13352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60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1000" indent="-2491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888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6676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6676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6676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7" descr="NIMD_logo_RGB"/>
          <p:cNvPicPr/>
          <p:nvPr/>
        </p:nvPicPr>
        <p:blipFill>
          <a:blip r:embed="rId2"/>
          <a:stretch/>
        </p:blipFill>
        <p:spPr>
          <a:xfrm>
            <a:off x="695160" y="1214280"/>
            <a:ext cx="7821720" cy="1335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2" descr="NIMD_org_url_rgb"/>
          <p:cNvPicPr/>
          <p:nvPr/>
        </p:nvPicPr>
        <p:blipFill>
          <a:blip r:embed="rId3"/>
          <a:stretch/>
        </p:blipFill>
        <p:spPr>
          <a:xfrm>
            <a:off x="682560" y="6392880"/>
            <a:ext cx="1784520" cy="2649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60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2" descr="NIMD_org_url_rgb"/>
          <p:cNvPicPr/>
          <p:nvPr/>
        </p:nvPicPr>
        <p:blipFill>
          <a:blip r:embed="rId2"/>
          <a:stretch/>
        </p:blipFill>
        <p:spPr>
          <a:xfrm>
            <a:off x="682560" y="6392880"/>
            <a:ext cx="1784520" cy="264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6" descr="NIMD_logo_RGB"/>
          <p:cNvPicPr/>
          <p:nvPr/>
        </p:nvPicPr>
        <p:blipFill>
          <a:blip r:embed="rId3"/>
          <a:stretch/>
        </p:blipFill>
        <p:spPr>
          <a:xfrm>
            <a:off x="695160" y="1214280"/>
            <a:ext cx="7821720" cy="13352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6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reeform 15"/>
          <p:cNvSpPr/>
          <p:nvPr/>
        </p:nvSpPr>
        <p:spPr>
          <a:xfrm>
            <a:off x="8566200" y="419040"/>
            <a:ext cx="288720" cy="630360"/>
          </a:xfrm>
          <a:custGeom>
            <a:avLst/>
            <a:gdLst/>
            <a:ahLst/>
            <a:rect l="l" t="t" r="r" b="b"/>
            <a:pathLst>
              <a:path w="1188" h="2592">
                <a:moveTo>
                  <a:pt x="258" y="2592"/>
                </a:moveTo>
                <a:cubicBezTo>
                  <a:pt x="252" y="2592"/>
                  <a:pt x="0" y="1812"/>
                  <a:pt x="234" y="1110"/>
                </a:cubicBezTo>
                <a:cubicBezTo>
                  <a:pt x="451" y="464"/>
                  <a:pt x="936" y="0"/>
                  <a:pt x="942" y="24"/>
                </a:cubicBezTo>
                <a:cubicBezTo>
                  <a:pt x="936" y="0"/>
                  <a:pt x="1188" y="606"/>
                  <a:pt x="990" y="1392"/>
                </a:cubicBezTo>
                <a:cubicBezTo>
                  <a:pt x="821" y="2094"/>
                  <a:pt x="246" y="2586"/>
                  <a:pt x="258" y="25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0"/>
          </p:nvPr>
        </p:nvSpPr>
        <p:spPr>
          <a:xfrm>
            <a:off x="3027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1"/>
          </p:nvPr>
        </p:nvSpPr>
        <p:spPr>
          <a:xfrm>
            <a:off x="298080" y="6424200"/>
            <a:ext cx="5721480" cy="2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2"/>
          </p:nvPr>
        </p:nvSpPr>
        <p:spPr>
          <a:xfrm>
            <a:off x="66978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4928-7DC0-4721-B0D0-0BEDEB4D539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hyperlink" Target="http://www.cemi-tunis.org/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171760" y="5991120"/>
            <a:ext cx="373068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860d"/>
                </a:solidFill>
                <a:latin typeface="Arial"/>
              </a:rPr>
              <a:t>NIMD | From parties for parties</a:t>
            </a:r>
            <a:endParaRPr b="1" lang="en-US" sz="20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685440" y="5008320"/>
            <a:ext cx="7916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Jerome Schel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ogramme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1"/>
          <p:cNvSpPr/>
          <p:nvPr/>
        </p:nvSpPr>
        <p:spPr>
          <a:xfrm>
            <a:off x="684360" y="3398760"/>
            <a:ext cx="772308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860d"/>
                </a:solidFill>
                <a:latin typeface="Arial"/>
              </a:rPr>
              <a:t>NIMD’s approach to Democracy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60d"/>
                </a:solidFill>
                <a:latin typeface="Arial"/>
              </a:rPr>
              <a:t>Design </a:t>
            </a:r>
            <a:endParaRPr b="1" lang="en-US" sz="36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36080" y="1012320"/>
            <a:ext cx="900756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8040" indent="-248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amme design consideration for Don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Political programming and education require flexibility and long term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vestment/ 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oT-trap (or cascade roll o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T for Transfer, not for Topic: plan as ‘reverse pyramid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ing partner identification (e.g. wider frame of activi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Neutral facilitator (crisis mitigation) -&gt; Diplomatic -&gt; political mover -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ocate -&gt; activi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short term impact measurement or causalities as indicators for PM&amp;E or Intervention Log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3120" y="312840"/>
            <a:ext cx="82742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Objective &amp; context: discussion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Box 1"/>
          <p:cNvSpPr/>
          <p:nvPr/>
        </p:nvSpPr>
        <p:spPr>
          <a:xfrm>
            <a:off x="420840" y="1160640"/>
            <a:ext cx="861192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-political civil society particip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t politicians / party agent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ents of change” or “changing the agents”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HR / activism)         (Politics / Diplomac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3120" y="312840"/>
            <a:ext cx="82742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Objective &amp; context: discussion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Box 1"/>
          <p:cNvSpPr/>
          <p:nvPr/>
        </p:nvSpPr>
        <p:spPr>
          <a:xfrm>
            <a:off x="420840" y="1160640"/>
            <a:ext cx="861192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p-down or Bottom-up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Trickle-down or Mass-ba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National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to achieve system change 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Community levels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to seek direct impact on citizens’ daily liv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(in terms of efficiency, not principle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860d"/>
                </a:solidFill>
                <a:latin typeface="Arial"/>
              </a:rPr>
              <a:t>Tunisian School of Politics</a:t>
            </a:r>
            <a:endParaRPr b="1" lang="en-US" sz="28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1247760" y="1030320"/>
            <a:ext cx="789624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7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Year-long monthly weekend school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imed at increasing skills and knowledge on democratic practises (values)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Run by Tunisian ngo CEMI (EU funded INSPIRED-partner) with financial and strategic support of international partners NIMD &amp; DEMO Finland (EPD-members) and BSoP (CoE-School), and with funding from CoE (…EU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341280" y="1030320"/>
            <a:ext cx="1255680" cy="55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860d"/>
                </a:solidFill>
                <a:latin typeface="Arial"/>
              </a:rPr>
              <a:t>What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3240000" y="3621240"/>
            <a:ext cx="3286080" cy="32367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2"/>
          <a:stretch/>
        </p:blipFill>
        <p:spPr>
          <a:xfrm>
            <a:off x="0" y="3621240"/>
            <a:ext cx="3240000" cy="10350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"/>
          <p:cNvPicPr/>
          <p:nvPr/>
        </p:nvPicPr>
        <p:blipFill>
          <a:blip r:embed="rId3"/>
          <a:stretch/>
        </p:blipFill>
        <p:spPr>
          <a:xfrm>
            <a:off x="49320" y="4656240"/>
            <a:ext cx="3095640" cy="8794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"/>
          <p:cNvPicPr/>
          <p:nvPr/>
        </p:nvPicPr>
        <p:blipFill>
          <a:blip r:embed="rId4"/>
          <a:stretch/>
        </p:blipFill>
        <p:spPr>
          <a:xfrm>
            <a:off x="6697800" y="5535720"/>
            <a:ext cx="2276280" cy="1322280"/>
          </a:xfrm>
          <a:prstGeom prst="rect">
            <a:avLst/>
          </a:prstGeom>
          <a:ln w="0">
            <a:noFill/>
          </a:ln>
        </p:spPr>
      </p:pic>
      <p:pic>
        <p:nvPicPr>
          <p:cNvPr id="336" name="Image 2" descr="CEM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26080" y="3619440"/>
            <a:ext cx="2617920" cy="9399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1" descr=""/>
          <p:cNvPicPr/>
          <p:nvPr/>
        </p:nvPicPr>
        <p:blipFill>
          <a:blip r:embed="rId7"/>
          <a:stretch/>
        </p:blipFill>
        <p:spPr>
          <a:xfrm>
            <a:off x="217440" y="5686560"/>
            <a:ext cx="2803680" cy="1171440"/>
          </a:xfrm>
          <a:prstGeom prst="rect">
            <a:avLst/>
          </a:prstGeom>
          <a:ln w="0">
            <a:noFill/>
          </a:ln>
        </p:spPr>
      </p:pic>
      <p:pic>
        <p:nvPicPr>
          <p:cNvPr id="338" name="Image 4" descr="C:\Users\USER\Divers dossiers\Bulgarian logo.jpg"/>
          <p:cNvPicPr/>
          <p:nvPr/>
        </p:nvPicPr>
        <p:blipFill>
          <a:blip r:embed="rId8"/>
          <a:stretch/>
        </p:blipFill>
        <p:spPr>
          <a:xfrm>
            <a:off x="6697800" y="4656240"/>
            <a:ext cx="2276280" cy="103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860d"/>
                </a:solidFill>
                <a:latin typeface="Arial"/>
              </a:rPr>
              <a:t>Tunisian School of Politics (TSoP)</a:t>
            </a:r>
            <a:endParaRPr b="1" lang="en-US" sz="28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1727280" y="1030320"/>
            <a:ext cx="7280280" cy="51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7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gramme developed just after the “Arab Spring” in 2011, schools 2 classes started in 2012, 3 now 201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7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7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ffer to party leadership to send their ‘promising’ youth members. School makes final selection based on criter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42720">
              <a:lnSpc>
                <a:spcPct val="120000"/>
              </a:lnSpc>
              <a:buClr>
                <a:srgbClr val="ff860d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427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Recently established multiparty system. Politicians lack democratic experienc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427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Grooming new lea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427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Enforcing youth voice within all political partie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42720">
              <a:lnSpc>
                <a:spcPct val="120000"/>
              </a:lnSpc>
              <a:buClr>
                <a:srgbClr val="ff860d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rst group graduated in July 2012, of which 20 ANC-members + other hig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42720">
              <a:lnSpc>
                <a:spcPct val="120000"/>
              </a:lnSpc>
              <a:buClr>
                <a:srgbClr val="ff860d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r larger demand than places avail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42720">
              <a:lnSpc>
                <a:spcPct val="120000"/>
              </a:lnSpc>
              <a:buClr>
                <a:srgbClr val="ff860d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SoP is now political and diplomatic play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341280" y="1030320"/>
            <a:ext cx="1255680" cy="55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860d"/>
                </a:solidFill>
                <a:latin typeface="Arial"/>
              </a:rPr>
              <a:t>Whe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860d"/>
                </a:solidFill>
                <a:latin typeface="Arial"/>
              </a:rPr>
              <a:t>Who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860d"/>
                </a:solidFill>
                <a:latin typeface="Arial"/>
              </a:rPr>
              <a:t>Why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860d"/>
                </a:solidFill>
                <a:latin typeface="Arial"/>
              </a:rPr>
              <a:t>Result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Box 1"/>
          <p:cNvSpPr/>
          <p:nvPr/>
        </p:nvSpPr>
        <p:spPr>
          <a:xfrm>
            <a:off x="1320840" y="4206960"/>
            <a:ext cx="63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3120" y="312840"/>
            <a:ext cx="82742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860d"/>
                </a:solidFill>
                <a:latin typeface="Arial"/>
              </a:rPr>
              <a:t>On NIMD:</a:t>
            </a:r>
            <a:endParaRPr b="1" lang="en-US" sz="44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36640" y="1117440"/>
            <a:ext cx="7051680" cy="17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marL="209880" indent="-20988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IMD was founded in The Netherlands in 2000 b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n all Political Parties in Parlia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9880" indent="-20988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im = Supporting democracy by strengthening political parties by working directly with political par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9880" indent="-20988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ia Interparty Dialogue, custom bilateral party support, peer-to-peer exchanges, policy process support, democracy sch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9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Group 4"/>
          <p:cNvGrpSpPr/>
          <p:nvPr/>
        </p:nvGrpSpPr>
        <p:grpSpPr>
          <a:xfrm>
            <a:off x="301680" y="1117440"/>
            <a:ext cx="1163520" cy="1500480"/>
            <a:chOff x="301680" y="1117440"/>
            <a:chExt cx="1163520" cy="1500480"/>
          </a:xfrm>
        </p:grpSpPr>
        <p:sp>
          <p:nvSpPr>
            <p:cNvPr id="301" name="AutoShape 5"/>
            <p:cNvSpPr/>
            <p:nvPr/>
          </p:nvSpPr>
          <p:spPr>
            <a:xfrm>
              <a:off x="301680" y="1117440"/>
              <a:ext cx="1161360" cy="14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2" name="Picture 6" descr=""/>
            <p:cNvPicPr/>
            <p:nvPr/>
          </p:nvPicPr>
          <p:blipFill>
            <a:blip r:embed="rId1"/>
            <a:stretch/>
          </p:blipFill>
          <p:spPr>
            <a:xfrm>
              <a:off x="301680" y="1117440"/>
              <a:ext cx="1163520" cy="150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TextBox 8"/>
          <p:cNvSpPr/>
          <p:nvPr/>
        </p:nvSpPr>
        <p:spPr>
          <a:xfrm>
            <a:off x="360360" y="4146480"/>
            <a:ext cx="402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rrently working in 25 countri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1 in Africa;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6 in Latin America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 in Europ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 in Asi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4 in North Africa &amp; Middle E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matic regional/global pro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Box 7"/>
          <p:cNvSpPr/>
          <p:nvPr/>
        </p:nvSpPr>
        <p:spPr>
          <a:xfrm>
            <a:off x="4765680" y="3727440"/>
            <a:ext cx="402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ncip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mparti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clusive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qu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wner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tner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exibility &amp; context specifi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ng-term commit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3120" y="312840"/>
            <a:ext cx="82742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NIMD &amp; partners in Democracy Education: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Box 1"/>
          <p:cNvSpPr/>
          <p:nvPr/>
        </p:nvSpPr>
        <p:spPr>
          <a:xfrm>
            <a:off x="420840" y="1160640"/>
            <a:ext cx="861192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emocracy Education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strument in wider democracy strengthening strategy to enhance democratic cultur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How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NIMD providing framework and experience: ‘Democracy Schools’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artners help to design curriculum and adapt to local contex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Where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emocracy education in 7 country programmes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With community focus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: Burundi, Mozambique, Egypt, Georgia, Indonesia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With political party focus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: Burundi, Tunisia, Guatemala, Malawi, Egypt (pilot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3880" y="367920"/>
            <a:ext cx="73756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ifferent audience, different approach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Box 37"/>
          <p:cNvSpPr/>
          <p:nvPr/>
        </p:nvSpPr>
        <p:spPr>
          <a:xfrm>
            <a:off x="484200" y="2932200"/>
            <a:ext cx="408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istinctive for Civil Educ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ipants form civil society at larg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orks with local political activists, grassroots campaigners, social entreprene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roduces key principles of political public eng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roduces practical knowledge for political engagement and technics for political particip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kills and confidence builder for wide political engagement and monito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eft Arrow 1"/>
          <p:cNvSpPr/>
          <p:nvPr/>
        </p:nvSpPr>
        <p:spPr>
          <a:xfrm>
            <a:off x="696960" y="1465200"/>
            <a:ext cx="2190600" cy="116676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ff860d"/>
          </a:solidFill>
          <a:ln w="25560">
            <a:solidFill>
              <a:srgbClr val="bc6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Citizens &amp; community lead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556080" y="1754280"/>
            <a:ext cx="2031840" cy="590400"/>
          </a:xfrm>
          <a:prstGeom prst="rect">
            <a:avLst/>
          </a:prstGeom>
          <a:solidFill>
            <a:srgbClr val="ff860d"/>
          </a:solidFill>
          <a:ln w="25560">
            <a:solidFill>
              <a:srgbClr val="bc6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Democracy Edu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ight Arrow 3"/>
          <p:cNvSpPr/>
          <p:nvPr/>
        </p:nvSpPr>
        <p:spPr>
          <a:xfrm>
            <a:off x="6226200" y="1508040"/>
            <a:ext cx="2133720" cy="112392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ff860d"/>
          </a:solidFill>
          <a:ln w="25560">
            <a:solidFill>
              <a:srgbClr val="bc6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Politici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Box 15"/>
          <p:cNvSpPr/>
          <p:nvPr/>
        </p:nvSpPr>
        <p:spPr>
          <a:xfrm>
            <a:off x="4572000" y="2928960"/>
            <a:ext cx="4151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istinctive for Political Educ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ipants from key politic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orks with established political figures &amp; national civil society leade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ddresses key issues of national policy develop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erience of participants becomes key learning re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rust builder that can lead to opportunities to bring together opposing political l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60d"/>
                </a:solidFill>
                <a:latin typeface="Arial"/>
              </a:rPr>
              <a:t>Characteristics of NIMD’s approach to democracy education</a:t>
            </a:r>
            <a:endParaRPr b="1" lang="en-US" sz="36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3120" y="1814400"/>
            <a:ext cx="88408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nowledge, Skills, Values; theory (applied during) &amp; practice (in and outside class, parallel to and after Scho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‘Political Studies’, but a ‘Political MB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roach depends on audience/target group and country context; political, geograph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l development of curricul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60d"/>
                </a:solidFill>
                <a:latin typeface="Arial"/>
              </a:rPr>
              <a:t>Characteristics of NIMD’s approach to democracy education</a:t>
            </a:r>
            <a:endParaRPr b="1" lang="en-US" sz="36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3120" y="1814400"/>
            <a:ext cx="88408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term School/Education more sustainable then ‘a’ training; deeper knowledge &amp; experience +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ross-party interpersonal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olvement of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umn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key in sustaining the process. Community of alumni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= an objective in itsel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s ar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ultipar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ulti stakehold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atforms for saf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ro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arty exchange /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erparty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s as implicit think tanks (Georgia local counci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60d"/>
                </a:solidFill>
                <a:latin typeface="Arial"/>
              </a:rPr>
              <a:t>Elements</a:t>
            </a:r>
            <a:endParaRPr b="1" lang="en-US" sz="36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3120" y="1050480"/>
            <a:ext cx="8840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50920" indent="-2509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ive &amp; contex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trategy, political manoeuvre space &amp;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ion consider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profile criteria &amp;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endance &amp; Commitment, tricks for engag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pre, during, -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ntor/managers &amp; Teachers/tr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different ro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local were possible, external whe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uest) spe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who’s interest? -&gt; not too many foreign politicians pl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60d"/>
                </a:solidFill>
                <a:latin typeface="Arial"/>
              </a:rPr>
              <a:t>Elements (2)</a:t>
            </a:r>
            <a:endParaRPr b="1" lang="en-US" sz="36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03120" y="1050480"/>
            <a:ext cx="8840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45520" indent="-2455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Action or Isola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Frequency: period of the w/m/y -&gt; homework -&gt; locat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rning methodolog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riety in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lance supply &amp;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active &amp; instruc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ory &amp;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er to peer focus: adult learning styles and methodolog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05560">
              <a:lnSpc>
                <a:spcPct val="120000"/>
              </a:lnSpc>
              <a:spcBef>
                <a:spcPts val="700"/>
              </a:spcBef>
              <a:buClr>
                <a:srgbClr val="ff86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WE WANT GROUP WOR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60d"/>
                </a:solidFill>
                <a:latin typeface="Arial"/>
              </a:rPr>
              <a:t>Elements (3)</a:t>
            </a:r>
            <a:endParaRPr b="1" lang="en-US" sz="36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85760" y="1050480"/>
            <a:ext cx="895824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change visits &amp; Tr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where is the value, what are the 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Do democratic skills exist? or only democracy values &amp;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knowledge next to political skills bound by democr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rders?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be conscious of over moralizing, 90% of activities withi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stern democracies is political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Which political skills might we not want to teach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4:21:03Z</dcterms:created>
  <dc:creator>nimd</dc:creator>
  <dc:description/>
  <dc:language>en-US</dc:language>
  <cp:lastModifiedBy>Visitor-G4</cp:lastModifiedBy>
  <dcterms:modified xsi:type="dcterms:W3CDTF">2013-06-20T12:15:40Z</dcterms:modified>
  <cp:revision>95</cp:revision>
  <dc:subject/>
  <dc:title>Dia 1</dc:title>
</cp:coreProperties>
</file>