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3596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05200" y="93596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08711C5-46DD-4590-8CC0-8A68A9C8C4DC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988A957-2A34-4078-82CD-0C462B73E4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468360" y="318960"/>
            <a:ext cx="5854680" cy="4391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31E578F-9A07-4B72-8420-CE9E240816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49200" y="247680"/>
            <a:ext cx="5950080" cy="44625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1929086-BEEE-45B0-8935-AD09FEF9F0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49200" y="247680"/>
            <a:ext cx="5950080" cy="44625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F318416-3136-40D9-9DB5-2988430FB1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49200" y="247680"/>
            <a:ext cx="5950080" cy="44625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countries that go further and faster with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cratic reforms will be able to count on gre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from the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AAD-8126-46D6-BFD8-C7409179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CDF-3401-428F-B5AD-963425C6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BF2E-FE3F-4770-9D70-222C0827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D7E-2A25-4119-A7FD-33CCADF5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9FDE-306A-4DAD-82E1-4E4576FF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83FE-8801-431D-AC52-B39F668D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713A-14E7-46E6-B71A-2C10F8C3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ADF6-0AC2-445F-8818-59AB82B5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E971-EBD8-446F-895D-0C271B7F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FD63-6BCD-46B4-BBD6-6B30E02B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28DF-8FAF-4365-89A2-7C32F42F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0C6-B288-4A6F-97DC-98450CBC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B0E6-0522-4E4E-AA31-75692FE0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EEB3-FEB2-49B1-A173-00278A1D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98ED-238C-49B5-8119-A580DE42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CBC7-B3B7-41D8-BE14-64863EBD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4A44-E6EE-4839-886E-E1DFDF9E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142B-A381-43C0-BF3C-299EE657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CB6-D123-4AA5-BB96-A939D2EC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7A5B-923F-47CE-9796-2AAAE90F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A83-CE0D-4A3E-AD2F-B16F9C66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4BD-09F2-43C9-B80F-79F5AAA3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D2A9-A176-4C15-AF91-F7534F4B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8E43-C935-4327-BB5F-4D217FEB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7ED0-F05D-4723-9EE3-185C0F10FD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B16E-2B59-4AC2-929A-D11D426D4D2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9640" y="1988640"/>
            <a:ext cx="53276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n-GB" sz="2900" spc="-1" strike="noStrike">
                <a:solidFill>
                  <a:srgbClr val="ffd624"/>
                </a:solidFill>
                <a:latin typeface="Verdana"/>
              </a:rPr>
              <a:t>CIVIC EDUCATION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i="1" lang="en-GB" sz="2900" spc="-1" strike="noStrike">
                <a:solidFill>
                  <a:srgbClr val="ffd624"/>
                </a:solidFill>
                <a:latin typeface="Verdana"/>
              </a:rPr>
              <a:t>"</a:t>
            </a:r>
            <a:r>
              <a:rPr b="1" i="1" lang="en-GB" sz="2000" spc="-1" strike="noStrike">
                <a:solidFill>
                  <a:srgbClr val="ffd624"/>
                </a:solidFill>
                <a:latin typeface="Verdana"/>
              </a:rPr>
              <a:t>the skill we need to live well </a:t>
            </a:r>
            <a:br>
              <a:rPr sz="2000"/>
            </a:br>
            <a:r>
              <a:rPr b="1" i="1" lang="en-GB" sz="2000" spc="-1" strike="noStrike">
                <a:solidFill>
                  <a:srgbClr val="ffd624"/>
                </a:solidFill>
                <a:latin typeface="Verdana"/>
              </a:rPr>
              <a:t>in a family and community"</a:t>
            </a:r>
            <a:br>
              <a:rPr sz="2000"/>
            </a:br>
            <a:br>
              <a:rPr sz="22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7640" y="4868640"/>
            <a:ext cx="889164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 </a:t>
            </a:r>
            <a:br>
              <a:rPr sz="2800"/>
            </a:b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giolo Boncompagni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DEVCO – B1</a:t>
            </a: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3. Approach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rough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policy dialogue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, the EU encourages States to engage in CE and Voter Education activities, as well as to introduce CE in the national curricula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e EU also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supports local actors and domestically owned processes of democratisation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hat complement political dialogue and institutional capacity building, mostly through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EU’s geographical instrument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e EU works with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CSOs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o promote greater participation of people in decision-making at all levels, including an equal participation of men and women and different identity group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e EU invests in democracy education through the EIDHR funded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gional Master’s programmes in Human Rights and Democratisation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(network of 81 universities around the world with an average of 250 students trained every year)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Verdana"/>
              </a:rPr>
              <a:t>EIDHR Case stud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57592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ase study (a): DR Congo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1. Consolidation de la démocratie et de la gouvernance participatives au sein des entités locales de la ville de Kinshasa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EUR 65.000, Consolidaiton of weak communiti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Target: </a:t>
            </a: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1000 qualified people </a:t>
            </a: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(elected and officers) of which 30% women, 40% young,  30% adul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Beneficiaries: </a:t>
            </a: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1800 qualified voters</a:t>
            </a: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 of which 500 men, 600 women, 700 young people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2. Education à la culture électorale et à la citoyenneté responsable dans les villes et territoires de la Province du Kasai Orient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01/2011 – 03/2012, EUR 10.000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Awareness raising of Local NGOs, HRDs, press: </a:t>
            </a: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360 trainers + 60 journalis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Workshops, 4000 booklets and 20000 flyers, media campaign, monthly “Facilitateur”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Lesson learned: effectiveness of the “approche de proximité”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ase study (b): Indonesia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92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1. Enhancing Representation Function of DPRD Members through Civic Education for Youth Political Party Cadres and Building Relation between DPRD Members and their Constituen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EUR 100.000, 15 months,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7 political parties </a:t>
            </a: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in 42 distric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Improving public participation and representation capacity of local MPs through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a. Sustainable institutional education (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“basic” CE</a:t>
            </a: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) 60 “under-40” MPs, 30% women for a new project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b. Effective constituency outreach (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“advanced” CE</a:t>
            </a: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) 40 “under-40” MPs, 30% women to follow-up a previous one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good lobby needed, useful to support 2014 elect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2. Minimizing the apathy of Marginal Elderly and the Disabled through Civic Education and Electoral Dissemination for 2014 Elect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EUR 300.000, Information and education on electoral processes and voter educa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Recruitment and capacity building of volunteers through door to door visits, community based art performance, religious performance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ase study (c): Serbia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92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1.E-learning school of Democracy and HRs for future decision maker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Partners for Democratic Change Serbia, EUR 50.000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Development of a website: 3 months online course for a pilot group of 100 student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Topics: </a:t>
            </a: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HRs in general and in Serbia; Rule of Law and Fair trial; Good Governance and Anti Corruption; International instruments; Anti Discrimination; Ecosoc; LGBT, women and children; Conflict prevention and resolution; Transitional justice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Risks: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. low interest: adequate selection proces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b. lack of IT knowledge: user friendly software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2. Regional Academy for Democracy. Shaping the European future of the Balkan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7 Countries, 150 political leaders involved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. creation of a regional network of CSOs - b. Education of young leaders - c. Improving  of political awarenes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12 capacity-building seminars (4 x 3 years) on Justice and Security Cooperation, Human and Minority Rights, Building Democratic Institution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57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230480" y="3573360"/>
            <a:ext cx="6675120" cy="151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1673280" y="1989000"/>
            <a:ext cx="5724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020600"/>
            <a:ext cx="9144000" cy="507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3200" spc="-1" strike="noStrike">
                <a:solidFill>
                  <a:srgbClr val="000092"/>
                </a:solidFill>
                <a:latin typeface="Verdana"/>
              </a:rPr>
              <a:t>1. What is CE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48632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3166920" y="2637000"/>
            <a:ext cx="324828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02060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2"/>
                </a:solidFill>
                <a:latin typeface="Verdana"/>
              </a:rPr>
              <a:t>1. What is CE  (a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48632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479520" y="2492280"/>
            <a:ext cx="821988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olicies and Action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which aim to empowe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itizen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in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xercise/defend thei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emocratic rights and     responsibilitie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 socie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value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iversi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lay an active par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 democratic life with a view to the promotion/protection of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emocracy and the Rule of Law.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02060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2"/>
                </a:solidFill>
                <a:latin typeface="Verdana"/>
              </a:rPr>
              <a:t>1. What is CE  (b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448632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17520" y="1628640"/>
            <a:ext cx="86421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Lifelong learning process 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that concerns all ages, all parts of society at all levels, including preschool, primary, secondary and higher education, in all forms, in a public or private, formal, informal or non-formal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It also includes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vocational training, the training of trainers, teachers and State officials, continuing education, popular education, public information and awareness activities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 and makes use of media and new technolo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Essential element to the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HR to Education, particularly of young people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Cross-cutting issue of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MDG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Close interrelations and mutually supportive with the broader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Human Rights Education (HRE)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, whose specific focus is on universal human rights and fundamental freedoms.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Verdana"/>
              </a:rPr>
              <a:t>2. What is CE (c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892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ivil and political right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in democratic life of a Country; in particular, the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empowering freedom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– freedom of expression, association and assembly – which underpin democracy and enable effective advocacy for all rights (including social, economic and cultural) and allow citizens to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laim those right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b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responsibilitie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 (such as moral, social, economic) deriving from the status of belonging to a society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c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development of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pluralist political processe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d respect for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social diversity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namely of people belonging to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minority group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(ethnics, religious, linguistic, sexual) and comprehension of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different viewpoint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d perspectives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d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free and active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participation of all citizens to the working of public institution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such as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ational parliaments, local assemblies and political partie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with a special focus on the role of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elected representative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to hold the state accountable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e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the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full electoral cycle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including voter education as a part of electoral assistance, and the knowledge of the electoral system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f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onstitution and fundamental law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including their impact on traditional practices and traditional law, and the delivery of the good PA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g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independent and well-functioning justice system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d the principles of criminal law and proceedings, access to justice, impunity and anti-corruption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333399"/>
                </a:solidFill>
                <a:latin typeface="Verdana"/>
              </a:rPr>
              <a:t>2. Who is involved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422360" y="2924280"/>
            <a:ext cx="62960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2. Who is involved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-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States have the primary responsibility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to promote CE: the varying local political context must be taken into account (e.g.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consolidated or transitional democracy, post-conflict situation, authoritarian government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)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- Adequate strategic policies and actions must involve all relevant stakeholders, including the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private sector, CSOs, HRDs and other International Organisations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lready engaged in this the field (OECD, UNESCO, OSCE, CoE, etc.). Their concrete role depends on the local circumstances and on the specific attitude of the govern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Verdana"/>
              </a:rPr>
              <a:t>3. Approach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76720" y="2205000"/>
            <a:ext cx="57592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3. Approach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CE is a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top-down (policies) and a bottom-up process (activities),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 a combination of teaching and learning, through “experience” or doing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CE involves a broad range of practices and activities: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education, training, dissemination, information, awareness-raising, but also direct participation in local political processes and elections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For the EU is a tool to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encourage in partner countries a culture of democratisation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Strategic support to policy-makers includes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forming, implementing, reviewing and sustaining policies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 aiming to establish sustainable forms of democracy in society and contributing, in this way, to prevent violence, racism, extremism, discrimination and making a major social cohesion and justic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ONCOMPAGNI Angiolo (DEVCO)</cp:lastModifiedBy>
  <cp:lastPrinted>2013-06-19T16:14:16Z</cp:lastPrinted>
  <dcterms:modified xsi:type="dcterms:W3CDTF">2013-06-20T07:06:58Z</dcterms:modified>
  <cp:revision>221</cp:revision>
  <dc:subject/>
  <dc:title>Slide 1</dc:title>
</cp:coreProperties>
</file>