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05200" y="-36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896760" y="739800"/>
            <a:ext cx="4927680" cy="369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35964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05200" y="935964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69117311-B3C1-475B-813A-32DDE2613FD4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05200" y="93600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B6507CAA-38CF-4FC4-BAE6-5CCCE26671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468360" y="318960"/>
            <a:ext cx="5854680" cy="43912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95320" y="4683240"/>
            <a:ext cx="492768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05200" y="93600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53C645ED-CAB8-4F36-8023-836C4333A8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349200" y="247680"/>
            <a:ext cx="5950080" cy="44625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895320" y="4683240"/>
            <a:ext cx="49276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05200" y="93600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18BF5CC9-3EDF-4911-B398-97F695A34F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349200" y="247680"/>
            <a:ext cx="5950080" cy="44625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95320" y="4683240"/>
            <a:ext cx="49276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05200" y="93600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F42883B6-72D8-4F4C-8D80-9EFC1399DA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349200" y="247680"/>
            <a:ext cx="5950080" cy="44625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895320" y="4683240"/>
            <a:ext cx="49276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9676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countries that go further and faster with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mocratic reforms will be able to count on greater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 from the 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8227-999B-446F-B078-741953FEC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DA9B-ED3C-48E0-A69B-477B78A7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2761-4A53-4322-A385-36D09DD24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64D5-F88A-4E54-8BAD-9C90196A6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F48F-48B4-47AA-9580-BD17B686F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1795-6355-411C-9536-5A4923FB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E7D5-D3E1-458D-A50C-B6E7F0F3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D04F-D791-47CF-A9DB-B31BFDBD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7D02-E271-43AC-B711-716F2694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A408-82B7-4E23-BDDB-B819F234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0C68-B8AE-4894-B5CC-18C165C7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A03F-6EA2-4F20-AF4E-838969DC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AE36-B2F8-4F94-BE87-8AF57EA5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E318-0CA1-4095-9070-A4CDD944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1E70-846F-442A-86C6-A454C13A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5FDB-0D7A-4018-96C1-01078D381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0B14-EE51-4CCD-9497-681E9D2D0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395F-5B56-496B-8768-7E0C5125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E859-56BE-4E37-B933-B140A80F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9B74-4752-46F1-BBED-AD786D86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A574-165A-48F2-A8A2-38A8D2CC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164B-4DFF-46B6-BC00-116CBA36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C2E1-3129-4FF6-83B2-0C791653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C4E4-EE24-47BE-8359-DF7E465D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3C35-B84B-4280-9736-1F8B457AEBC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9116-D1E3-47A9-9124-DF82E3C7F5A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39640" y="1988640"/>
            <a:ext cx="532764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1" lang="en-GB" sz="2900" spc="-1" strike="noStrike">
                <a:solidFill>
                  <a:srgbClr val="ffd624"/>
                </a:solidFill>
                <a:latin typeface="Verdana"/>
              </a:rPr>
              <a:t>CIVIC EDUCATION</a:t>
            </a: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i="1" lang="en-GB" sz="2900" spc="-1" strike="noStrike">
                <a:solidFill>
                  <a:srgbClr val="ffd624"/>
                </a:solidFill>
                <a:latin typeface="Verdana"/>
              </a:rPr>
              <a:t>"</a:t>
            </a:r>
            <a:r>
              <a:rPr b="1" i="1" lang="en-GB" sz="2000" spc="-1" strike="noStrike">
                <a:solidFill>
                  <a:srgbClr val="ffd624"/>
                </a:solidFill>
                <a:latin typeface="Verdana"/>
              </a:rPr>
              <a:t>the skill we need to live well </a:t>
            </a:r>
            <a:br>
              <a:rPr sz="2000"/>
            </a:br>
            <a:r>
              <a:rPr b="1" i="1" lang="en-GB" sz="2000" spc="-1" strike="noStrike">
                <a:solidFill>
                  <a:srgbClr val="ffd624"/>
                </a:solidFill>
                <a:latin typeface="Verdana"/>
              </a:rPr>
              <a:t>in a family and community"</a:t>
            </a:r>
            <a:br>
              <a:rPr sz="2000"/>
            </a:br>
            <a:br>
              <a:rPr sz="2200"/>
            </a:b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7640" y="4868640"/>
            <a:ext cx="889164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en-US" sz="2800" spc="-1" strike="noStrike">
                <a:solidFill>
                  <a:srgbClr val="0000cc"/>
                </a:solidFill>
                <a:latin typeface="Verdana"/>
              </a:rPr>
              <a:t> </a:t>
            </a:r>
            <a:br>
              <a:rPr sz="2800"/>
            </a:b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giolo Boncompagni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G DEVCO – B1</a:t>
            </a: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European Commission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3. Approach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- Through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policy dialogue</a:t>
            </a: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, the EU encourages States to engage in CE and Voter Education activities, as well as to introduce CE in the national curricula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- The EU also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supports local actors and domestically owned processes of democratisation </a:t>
            </a: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that complement political dialogue and institutional capacity building, mostly through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EU’s geographical instrument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- The EU works with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CSOs </a:t>
            </a: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to promote greater participation of people in decision-making at all levels, including an equal participation of men and women and different identity groups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- The EU invests in democracy education through the EIDHR funded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Regional Master’s programmes in Human Rights and Democratisation </a:t>
            </a: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(network of 81 universities around the world with an average of 250 students trained every year).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Verdana"/>
              </a:rPr>
              <a:t>EIDHR Case studie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3203640" y="2421000"/>
            <a:ext cx="575928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Case study (a): DR Congo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99"/>
                </a:solidFill>
                <a:latin typeface="Verdana"/>
              </a:rPr>
              <a:t>1. Consolidation de la démocratie et de la gouvernance participatives au sein des entités locales de la ville de Kinshasa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99"/>
                </a:solidFill>
                <a:latin typeface="Verdana"/>
              </a:rPr>
              <a:t>- EUR 65.000, Consolidaiton of weak communitie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99"/>
                </a:solidFill>
                <a:latin typeface="Verdana"/>
              </a:rPr>
              <a:t>- Target: </a:t>
            </a:r>
            <a:r>
              <a:rPr b="1" lang="pt-PT" sz="1600" spc="-1" strike="noStrike">
                <a:solidFill>
                  <a:srgbClr val="000099"/>
                </a:solidFill>
                <a:latin typeface="Verdana"/>
              </a:rPr>
              <a:t>1000 qualified people </a:t>
            </a:r>
            <a:r>
              <a:rPr b="0" lang="pt-PT" sz="1600" spc="-1" strike="noStrike">
                <a:solidFill>
                  <a:srgbClr val="000099"/>
                </a:solidFill>
                <a:latin typeface="Verdana"/>
              </a:rPr>
              <a:t>(elected and officers) of which 30% women, 40% young,  30% adult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99"/>
                </a:solidFill>
                <a:latin typeface="Verdana"/>
              </a:rPr>
              <a:t>- Beneficiaries: </a:t>
            </a:r>
            <a:r>
              <a:rPr b="1" lang="pt-PT" sz="1600" spc="-1" strike="noStrike">
                <a:solidFill>
                  <a:srgbClr val="000099"/>
                </a:solidFill>
                <a:latin typeface="Verdana"/>
              </a:rPr>
              <a:t>1800 qualified voters</a:t>
            </a:r>
            <a:r>
              <a:rPr b="0" lang="pt-PT" sz="1600" spc="-1" strike="noStrike">
                <a:solidFill>
                  <a:srgbClr val="000099"/>
                </a:solidFill>
                <a:latin typeface="Verdana"/>
              </a:rPr>
              <a:t> of which 500 men, 600 women, 700 young people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99"/>
                </a:solidFill>
                <a:latin typeface="Verdana"/>
              </a:rPr>
              <a:t>2. Education à la culture électorale et à la citoyenneté responsable dans les villes et territoires de la Province du Kasai Orienta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99"/>
                </a:solidFill>
                <a:latin typeface="Verdana"/>
              </a:rPr>
              <a:t>- 01/2011 – 03/2012, EUR 10.000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99"/>
                </a:solidFill>
                <a:latin typeface="Verdana"/>
              </a:rPr>
              <a:t>- Awareness raising of Local NGOs, HRDs, press: </a:t>
            </a:r>
            <a:r>
              <a:rPr b="1" lang="pt-PT" sz="1600" spc="-1" strike="noStrike">
                <a:solidFill>
                  <a:srgbClr val="000099"/>
                </a:solidFill>
                <a:latin typeface="Verdana"/>
              </a:rPr>
              <a:t>360 trainers + 60 journalist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99"/>
                </a:solidFill>
                <a:latin typeface="Verdana"/>
              </a:rPr>
              <a:t>- Workshops, 4000 booklets and 20000 flyers, media campaign, monthly “Facilitateur”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99"/>
                </a:solidFill>
                <a:latin typeface="Verdana"/>
              </a:rPr>
              <a:t>- Lesson learned: effectiveness of the “approche de proximité”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Case study (b): Indonesia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000" y="1773000"/>
            <a:ext cx="8928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Verdana"/>
              </a:rPr>
              <a:t>1. Enhancing Representation Function of DPRD Members through Civic Education for Youth Political Party Cadres and Building Relation between DPRD Members and their Constituent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- EUR 100.000, 15 months, </a:t>
            </a:r>
            <a:r>
              <a:rPr b="1" lang="en-GB" sz="1600" spc="-1" strike="noStrike">
                <a:solidFill>
                  <a:srgbClr val="000099"/>
                </a:solidFill>
                <a:latin typeface="Verdana"/>
              </a:rPr>
              <a:t>7 political parties </a:t>
            </a: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in 42 district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- Improving public participation and representation capacity of local MPs through: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a. Sustainable institutional education ( </a:t>
            </a:r>
            <a:r>
              <a:rPr b="1" lang="en-GB" sz="1600" spc="-1" strike="noStrike">
                <a:solidFill>
                  <a:srgbClr val="000099"/>
                </a:solidFill>
                <a:latin typeface="Verdana"/>
              </a:rPr>
              <a:t>“basic” CE</a:t>
            </a: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) 60 “under-40” MPs, 30% women for a new project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b. Effective constituency outreach (</a:t>
            </a:r>
            <a:r>
              <a:rPr b="1" lang="en-GB" sz="1600" spc="-1" strike="noStrike">
                <a:solidFill>
                  <a:srgbClr val="000099"/>
                </a:solidFill>
                <a:latin typeface="Verdana"/>
              </a:rPr>
              <a:t>“advanced” CE</a:t>
            </a: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) 40 “under-40” MPs, 30% women to follow-up a previous one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- good lobby needed, useful to support 2014 election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Verdana"/>
              </a:rPr>
              <a:t>2. Minimizing the apathy of Marginal Elderly and the Disabled through Civic Education and Electoral Dissemination for 2014 Election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- EUR 300.000, Information and education on electoral processes and voter education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- Recruitment and capacity building of volunteers through door to door visits, community based art performance, religious performance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Case study (c): Serbia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1773000"/>
            <a:ext cx="8928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Verdana"/>
              </a:rPr>
              <a:t>1.E-learning school of Democracy and HRs for future decision maker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- Partners for Democratic Change Serbia, EUR 50.000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- Development of a website: 3 months online course for a pilot group of 100 student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en-GB" sz="1400" spc="-1" strike="noStrike">
                <a:solidFill>
                  <a:srgbClr val="000099"/>
                </a:solidFill>
                <a:latin typeface="Verdana"/>
              </a:rPr>
              <a:t>Topics: </a:t>
            </a: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HRs in general and in Serbia; Rule of Law and Fair trial; Good Governance and Anti Corruption; International instruments; Anti Discrimination; Ecosoc; LGBT, women and children; Conflict prevention and resolution; Transitional justice.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- Risks: 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. low interest: adequate selection proces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b. lack of IT knowledge: user friendly software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Verdana"/>
              </a:rPr>
              <a:t>2. Regional Academy for Democracy. Shaping the European future of the Balkan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en-GB" sz="1400" spc="-1" strike="noStrike">
                <a:solidFill>
                  <a:srgbClr val="000099"/>
                </a:solidFill>
                <a:latin typeface="Verdana"/>
              </a:rPr>
              <a:t>7 Countries, 150 political leaders involved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. creation of a regional network of CSOs - b. Education of young leaders - c. Improving  of political awarenes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- 12 capacity-building seminars (4 x 3 years) on Justice and Security Cooperation, Human and Minority Rights, Building Democratic Institution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57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1230480" y="3573360"/>
            <a:ext cx="6675120" cy="1511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2"/>
          <a:stretch/>
        </p:blipFill>
        <p:spPr>
          <a:xfrm>
            <a:off x="1673280" y="1989000"/>
            <a:ext cx="572436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2"/>
          <p:cNvSpPr/>
          <p:nvPr/>
        </p:nvSpPr>
        <p:spPr>
          <a:xfrm>
            <a:off x="42847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020600"/>
            <a:ext cx="9144000" cy="507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3200" spc="-1" strike="noStrike">
                <a:solidFill>
                  <a:srgbClr val="000092"/>
                </a:solidFill>
                <a:latin typeface="Verdana"/>
              </a:rPr>
              <a:t>1. What is CE</a:t>
            </a:r>
            <a:br>
              <a:rPr sz="32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448632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3166920" y="2637000"/>
            <a:ext cx="3248280" cy="243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/>
          <p:cNvSpPr/>
          <p:nvPr/>
        </p:nvSpPr>
        <p:spPr>
          <a:xfrm>
            <a:off x="42847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020600"/>
            <a:ext cx="91440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2"/>
                </a:solidFill>
                <a:latin typeface="Verdana"/>
              </a:rPr>
              <a:t>1. What is CE  (a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448632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Rectangle 1"/>
          <p:cNvSpPr/>
          <p:nvPr/>
        </p:nvSpPr>
        <p:spPr>
          <a:xfrm>
            <a:off x="479520" y="2492280"/>
            <a:ext cx="8219880" cy="29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Policies and Actions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which aim to empower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itizens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in: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xercise/defend their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democratic rights and     responsibilities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 society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value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diversity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play an active part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 democratic life with a view to the promotion/protection of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Democracy and the Rule of Law.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42847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1020600"/>
            <a:ext cx="91440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2"/>
                </a:solidFill>
                <a:latin typeface="Verdana"/>
              </a:rPr>
              <a:t>1. What is CE  (b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448632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317520" y="1628640"/>
            <a:ext cx="86421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f5494"/>
                </a:solidFill>
                <a:latin typeface="Verdana"/>
              </a:rPr>
              <a:t>Lifelong learning process </a:t>
            </a: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that concerns all ages, all parts of society at all levels, including preschool, primary, secondary and higher education, in all forms, in a public or private, formal, informal or non-formal sett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It also includes </a:t>
            </a:r>
            <a:r>
              <a:rPr b="1" i="1" lang="en-GB" sz="1600" spc="-1" strike="noStrike">
                <a:solidFill>
                  <a:srgbClr val="0f5494"/>
                </a:solidFill>
                <a:latin typeface="Verdana"/>
              </a:rPr>
              <a:t>vocational training, the training of trainers, teachers and State officials, continuing education, popular education, public information and awareness activities</a:t>
            </a: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 and makes use of media and new technologi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Essential element to the </a:t>
            </a:r>
            <a:r>
              <a:rPr b="1" i="1" lang="en-GB" sz="1600" spc="-1" strike="noStrike">
                <a:solidFill>
                  <a:srgbClr val="0f5494"/>
                </a:solidFill>
                <a:latin typeface="Verdana"/>
              </a:rPr>
              <a:t>HR to Education, particularly of young people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Cross-cutting issue of </a:t>
            </a:r>
            <a:r>
              <a:rPr b="1" i="1" lang="en-GB" sz="1600" spc="-1" strike="noStrike">
                <a:solidFill>
                  <a:srgbClr val="0f5494"/>
                </a:solidFill>
                <a:latin typeface="Verdana"/>
              </a:rPr>
              <a:t>MDG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Close interrelations and mutually supportive with the broader </a:t>
            </a:r>
            <a:r>
              <a:rPr b="1" i="1" lang="en-GB" sz="1600" spc="-1" strike="noStrike">
                <a:solidFill>
                  <a:srgbClr val="0f5494"/>
                </a:solidFill>
                <a:latin typeface="Verdana"/>
              </a:rPr>
              <a:t>Human Rights Education (HRE)</a:t>
            </a: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, whose specific focus is on universal human rights and fundamental freedoms.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333399"/>
                </a:solidFill>
                <a:latin typeface="Verdana"/>
              </a:rPr>
              <a:t>2. What is CE (c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8000" y="1844640"/>
            <a:ext cx="8928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a.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civil and political rights 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in democratic life of a Country; in particular, the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empowering freedoms 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– freedom of expression, association and assembly – which underpin democracy and enable effective advocacy for all rights (including social, economic and cultural) and allow citizens to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claim those rights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.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b.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responsibilities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 (such as moral, social, economic) deriving from the status of belonging to a society.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c.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development of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pluralist political processes 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and respect for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social diversity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, namely of people belonging to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minority groups 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(ethnics, religious, linguistic, sexual) and comprehension of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different viewpoints 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and perspectives.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d.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free and active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participation of all citizens to the working of public institutions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, such as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national parliaments, local assemblies and political parties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, with a special focus on the role of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elected representatives 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to hold the state accountable.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e.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the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full electoral cycle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, including voter education as a part of electoral assistance, and the knowledge of the electoral system.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f.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constitution and fundamental laws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, including their impact on traditional practices and traditional law, and the delivery of the good PA.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g.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an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independent and well-functioning justice system 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and the principles of criminal law and proceedings, access to justice, impunity and anti-corruption.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333399"/>
                </a:solidFill>
                <a:latin typeface="Verdana"/>
              </a:rPr>
              <a:t>2. Who is involved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Verdana"/>
              </a:rPr>
              <a:t>	</a:t>
            </a:r>
            <a:endParaRPr b="0" i="1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Verdana"/>
              </a:rPr>
              <a:t>	</a:t>
            </a:r>
            <a:endParaRPr b="0" i="1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422360" y="2924280"/>
            <a:ext cx="629604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2. Who is involved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3640" y="198864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- </a:t>
            </a:r>
            <a:r>
              <a:rPr b="1" lang="en-GB" sz="2000" spc="-1" strike="noStrike">
                <a:solidFill>
                  <a:srgbClr val="333399"/>
                </a:solidFill>
                <a:latin typeface="Verdana"/>
              </a:rPr>
              <a:t>States have the primary responsibility 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to promote CE: the varying local political context must be taken into account (e.g. </a:t>
            </a:r>
            <a:r>
              <a:rPr b="1" lang="en-GB" sz="2000" spc="-1" strike="noStrike">
                <a:solidFill>
                  <a:srgbClr val="333399"/>
                </a:solidFill>
                <a:latin typeface="Verdana"/>
              </a:rPr>
              <a:t>consolidated or transitional democracy, post-conflict situation, authoritarian government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).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- Adequate strategic policies and actions must involve all relevant stakeholders, including the </a:t>
            </a:r>
            <a:r>
              <a:rPr b="1" lang="en-GB" sz="2000" spc="-1" strike="noStrike">
                <a:solidFill>
                  <a:srgbClr val="333399"/>
                </a:solidFill>
                <a:latin typeface="Verdana"/>
              </a:rPr>
              <a:t>private sector, CSOs, HRDs and other International Organisations 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already engaged in this the field (OECD, UNESCO, OSCE, CoE, etc.). Their concrete role depends on the local circumstances and on the specific attitude of the government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Verdana"/>
              </a:rPr>
              <a:t>3. Approache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7138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3276720" y="2205000"/>
            <a:ext cx="575928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3. Approach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7138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- CE is a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top-down (policies) and a bottom-up process (activities),</a:t>
            </a: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 a combination of teaching and learning, through “experience” or doing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- CE involves a broad range of practices and activities: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education, training, dissemination, information, awareness-raising, but also direct participation in local political processes and elections</a:t>
            </a: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- For the EU is a tool to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encourage in partner countries a culture of democratisation.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- Strategic support to policy-makers includes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forming, implementing, reviewing and sustaining policies</a:t>
            </a: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 aiming to establish sustainable forms of democracy in society and contributing, in this way, to prevent violence, racism, extremism, discrimination and making a major social cohesion and justice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BONCOMPAGNI Angiolo (DEVCO)</cp:lastModifiedBy>
  <cp:lastPrinted>2013-06-19T16:14:16Z</cp:lastPrinted>
  <dcterms:modified xsi:type="dcterms:W3CDTF">2013-06-20T07:06:58Z</dcterms:modified>
  <cp:revision>221</cp:revision>
  <dc:subject/>
  <dc:title>Slide 1</dc:title>
</cp:coreProperties>
</file>