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05200" y="93596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8BE3EF7-82E2-4B30-9B06-E8066B44500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AB53605-43B6-4D86-AEBB-3E78FDB7F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68360" y="318960"/>
            <a:ext cx="5854680" cy="4391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EAE1362-67A8-4240-9BD1-837F88F2E3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0F0D4AF-0C77-47F1-B017-B1D232647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31D80F2-89AB-4D80-8523-8AE1C5BF0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countries that go further and faster wit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cratic reforms will be able to count on 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from the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3CD-0C31-4A3A-B4DF-C8E991EA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CB0-B41A-49E4-9836-1144C46C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61B-A203-4E3A-8639-63323065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8DB-7DBD-4DB8-8482-2370AE10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8965-179A-4AE4-8FEA-10F2F98C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E876-3B55-492C-B78A-C974DD3D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E75D-830F-406D-A27B-C598630A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1361-C338-4525-8584-1BB6630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FCAE-FFE8-4625-B531-E39C34A7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926C-9374-4600-BEBC-D617DF2E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6E27-F68C-4814-8B36-92F33D38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5B7-FA29-4147-90B0-9D2A5442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9118-54F3-4134-AA17-31EE65F8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B523-BBE7-40AA-82C9-B6EAC39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CA42-8AFF-4D78-A4B1-CCDDF5E3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8284-F1AE-45AC-AAF2-ED25F5A5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6084-953E-4895-8551-1DA1423D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587-1C8A-4D9C-B927-D4647E1E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C1C-4199-4B2E-BA72-399886C9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616-91B4-4468-9386-E4C5AC4D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5B8-3ADC-48C7-B1CF-45A926FD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D17-4C9A-4174-A990-14D55FC0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219-C8C0-4A64-A6D0-487F165F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D1D-6065-465F-80FE-3A5BC27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12B0-6E57-4938-8AFD-50A633E2DC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9DB3-63F5-4060-B3F4-AB57C72B43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ffd624"/>
                </a:solidFill>
                <a:latin typeface="Verdana"/>
              </a:rPr>
              <a:t>CIVIC EDUCATION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en-GB" sz="2900" spc="-1" strike="noStrike">
                <a:solidFill>
                  <a:srgbClr val="ffd624"/>
                </a:solidFill>
                <a:latin typeface="Verdana"/>
              </a:rPr>
              <a:t>"</a:t>
            </a: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the skill we need to live well </a:t>
            </a:r>
            <a:br>
              <a:rPr sz="2000"/>
            </a:b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in a family and community"</a:t>
            </a:r>
            <a:br>
              <a:rPr sz="2000"/>
            </a:br>
            <a:br>
              <a:rPr sz="22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640" y="4868640"/>
            <a:ext cx="88916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2800"/>
            </a:b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iolo Boncompagni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DEVCO – B1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policy dialogue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, the EU encourages States to engage in CE and Voter Education activities, as well as to introduce CE in the national curricula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als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supports local actors and domestically owned processes of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at complement political dialogue and institutional capacity building, mostly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U’s geographical instrument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works wit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CSOs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o promote greater participation of people in decision-making at all levels, including an equal participation of men and women and different identity group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invests in democracy education through the EIDHR funded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gional Master’s programmes in Human Rights and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(network of 81 universities around the world with an average of 250 students trained every year)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EIDHR Case stud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7592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a): DR Cong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. Consolidation de la démocratie et de la gouvernance participatives au sein des entités locales de la ville de Kinshas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EUR 65.000, Consolidaiton of weak communit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Target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000 qualified people 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(elected and officers) of which 30% women, 40% young,  30% adul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Beneficiarie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800 qualified voters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 of which 500 men, 600 women, 700 young peopl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2. Education à la culture électorale et à la citoyenneté responsable dans les villes et territoires de la Province du Kasai Orient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01/2011 – 03/2012, EUR 10.000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Awareness raising of Local NGOs, HRDs, pres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360 trainers + 60 journalis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Workshops, 4000 booklets and 20000 flyers, media campaign, monthly “Facilitateur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Lesson learned: effectiveness of the “approche de proximité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b): Indones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1. Enhancing Representation Function of DPRD Members through Civic Education for Youth Political Party Cadres and Building Relation between DPRD Members and their Constituen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100.000, 15 months,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7 political parties 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in 42 distric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Improving public participation and representation capacity of local MPs through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a. Sustainable institutional education (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basic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60 “under-40” MPs, 30% women for a new projec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b. Effective constituency outreach (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advanced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40 “under-40” MPs, 30% women to follow-up a previous on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good lobby needed, useful to support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2. Minimizing the apathy of Marginal Elderly and the Disabled through Civic Education and Electoral Dissemination for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300.000, Information and education on electoral processes and voter educ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Recruitment and capacity building of volunteers through door to door visits, community based art performance, religious performance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c): Serb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1.E-learning school of Democracy and HRs for future decision maker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Partners for Democratic Change Serbia, EUR 50.000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Development of a website: 3 months online course for a pilot group of 100 student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Topics: </a:t>
            </a: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HRs in general and in Serbia; Rule of Law and Fair trial; Good Governance and Anti Corruption; International instruments; Anti Discrimination; Ecosoc; LGBT, women and children; Conflict prevention and resolution; Transitional justic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Risks: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low interest: adequate selection proc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b. lack of IT knowledge: user friendly software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2. Regional Academy for Democracy. Shaping the European future of the Balka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7 Countries, 150 political leaders involved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creation of a regional network of CSOs - b. Education of young leaders - c. Improving  of political awaren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12 capacity-building seminars (4 x 3 years) on Justice and Security Cooperation, Human and Minority Rights, Building Democratic Institutio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57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230480" y="3573360"/>
            <a:ext cx="667512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673280" y="1989000"/>
            <a:ext cx="5724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000092"/>
                </a:solidFill>
                <a:latin typeface="Verdana"/>
              </a:rPr>
              <a:t>1. What is C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166920" y="2637000"/>
            <a:ext cx="32482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a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479520" y="2492280"/>
            <a:ext cx="821988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olicies and Action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hich aim to empowe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itizen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in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ercise/defend thei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tic rights and     responsibiliti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socie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valu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vers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lay an active par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democratic life with a view to the promotion/protection of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cy and the Rule of Law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b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17520" y="1628640"/>
            <a:ext cx="8642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Lifelong learning process 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hat concerns all ages, all parts of society at all levels, including preschool, primary, secondary and higher education, in all forms, in a public or private, formal, informal or non-formal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t also includes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vocational training, the training of trainers, teachers and State officials, continuing education, popular education, public information and awareness activities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 and makes use of media and new technolo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Essential element to the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R to Education, particularly of young people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ross-cutting issue of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MDG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lose interrelations and mutually supportive with the broader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uman Rights Education (HRE)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, whose specific focus is on universal human rights and fundamental freedoms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2. What is CE (c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9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ivil and political righ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in democratic life of a Country; in particular, 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mpowering freedom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– freedom of expression, association and assembly – which underpin democracy and enable effective advocacy for all rights (including social, economic and cultural) and allow citizens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laim those right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b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sponsibili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 (such as moral, social, economic) deriving from the status of belonging to a society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c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evelopment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luralist political process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respect for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social diversity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namely of people belonging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minority group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(ethnics, religious, linguistic, sexual) and comprehension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ifferent viewpoin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perspectives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ree and activ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articipation of all citizens to the working of public institution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such as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ational parliaments, local assemblies and political par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with a special focus on the role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lected representativ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o hold the state accountabl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e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full electoral cycle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voter education as a part of electoral assistance, and the knowledge of the electoral system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onstitution and fundamental law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their impact on traditional practices and traditional law, and the delivery of the good PA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g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ndependent and well-functioning justice system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the principles of criminal law and proceedings, access to justice, impunity and anti-corruption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422360" y="2924280"/>
            <a:ext cx="6296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States have the primary responsibilit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o promote CE: the varying local political context must be taken into account (e.g.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consolidated or transitional democracy, post-conflict situation, authoritarian government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Adequate strategic policies and actions must involve all relevant stakeholders, including the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vate sector, CSOs, HRDs and other International Organisations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lready engaged in this the field (OECD, UNESCO, OSCE, CoE, etc.). Their concrete role depends on the local circumstances and on the specific attitude of the govern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57592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s a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top-down (policies) and a bottom-up process (activities),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 combination of teaching and learning, through “experience” or doing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nvolves a broad range of practices and activities: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ducation, training, dissemination, information, awareness-raising, but also direct participation in local political processes and election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For the EU is a tool t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ncourage in partner countries a culture of democratisation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Strategic support to policy-makers includes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forming, implementing, reviewing and sustaining policie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iming to establish sustainable forms of democracy in society and contributing, in this way, to prevent violence, racism, extremism, discrimination and making a major social cohesion and justic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ONCOMPAGNI Angiolo (DEVCO)</cp:lastModifiedBy>
  <cp:lastPrinted>2013-06-19T16:14:16Z</cp:lastPrinted>
  <dcterms:modified xsi:type="dcterms:W3CDTF">2013-06-20T07:06:58Z</dcterms:modified>
  <cp:revision>221</cp:revision>
  <dc:subject/>
  <dc:title>Slide 1</dc:title>
</cp:coreProperties>
</file>