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2AA7-0CC8-4C07-97B3-F06DDFD3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EB5-5346-4413-9E27-0A2DBC14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587-A3EC-41E3-9924-1C609605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96A7-01EF-451C-8949-CD4837A6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2A61-98B9-43C8-B2DE-98373A51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1D81-508D-4654-AE40-03CBCAA6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80E8-16EB-4D2B-AF97-AC484082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8DD0-6C82-4F59-9739-2A9B79D9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A1A3-5708-439E-87C4-CF8EDEC2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179E-6595-40A2-982A-DCA2EF56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4D56-47B9-40F2-8AA5-7949272D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3DF-D3F3-4D33-A05E-1B61710E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3F7A-7553-430D-A781-84911DE9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62B4-E93F-4E4C-9EBB-3BF12955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3CFC-8B6B-4B2A-89C7-6E06EA78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0270-4245-4094-B19F-D7B30FC1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B365-C4C2-47C6-AB8E-966FA413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CDA-77C3-4661-ABED-7F5031E5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284-4CDA-4350-B5F5-A24A9042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A489-2829-48E8-96DC-AD288A45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2D5-F826-4E65-A2C2-26D15340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08D-D7C8-471C-AD19-DD3CD2BB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CED0-9298-4710-AFF2-31F2685A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9A0-BD67-4AF5-9D84-EB8D2DED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48B5-9482-476A-BE05-2A61F571FA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436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0" y="1349280"/>
            <a:ext cx="9144000" cy="55087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749760" y="378000"/>
            <a:ext cx="1942920" cy="1349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4162320" y="6642000"/>
            <a:ext cx="8398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B461-E2B8-4E8A-9E68-BEF45A948A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062C-6266-46A8-BB70-40DC971BC1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ons of previous media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ccurate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y con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values not always us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focus on journalist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 seen as “difficult” and “bureaucrati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5D77-2A3D-40DC-BF53-E167C8C6AD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and accoun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of communication between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dog over pow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ng information asymmetry -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actor in its own right – partisan, prejudiced, lacking in cred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1CB9-2045-4B8C-A89D-E89FDEC30B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ine media – what does it chang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al - peer to peer communication and content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hour news cycle, rapid interaction, changing models of news development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interactivity versus hierarchic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7111-33F9-4154-A431-D890AFFD72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economy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s an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haping the behaviour of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tential for change, incentives fo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easurement of behaviour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8700-B514-4C81-8385-71241E8BF9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A Matrix for 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structures, institutions, actors 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 and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y of content and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ing PEA to 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upon political 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local context (including econom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ies for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groups whose behaviour has to be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areas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media capa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3616-9071-4816-9D5C-4AE0183512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 &amp; E challenge –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payer revo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e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ist hostility to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structures are complex and multi-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data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eaucrat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C52F-72FA-49EB-BDBE-6AB61C472A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&amp; E – what are looking f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do we w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overnment (the powerful) to be responsive and accou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are we looking f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nges in behaviour by governing and gove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y involve institutions structures, organis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questions – how is this programme going to make power more responsive and how will I know if behaviour has chang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65C4-988A-4ADF-B769-CCF6798267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raining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Political economy matrix PEA to help prepare baselin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separate modules – parliamentary support, electoral assistance, media/communications programmes with illustrative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s are interlin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EB2B-A079-4780-83AC-F3171DBF16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andrew Puddephatt</cp:lastModifiedBy>
  <dcterms:modified xsi:type="dcterms:W3CDTF">2013-06-20T09:07:23Z</dcterms:modified>
  <cp:revision>1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