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0083-8664-420A-ABDD-2A8F0CE7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CB3-A59A-4D9F-B213-52D64CC5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FF4-790B-4255-96E1-CBD4933B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162-68EF-43A3-A738-BF4B3965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1F2F-E288-4D1D-955B-27D998E1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1D2C-3A55-4831-8629-4BEF66CD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87A6-CD61-4A30-A9BE-65EC17C3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3E1-3495-4702-9CE5-C0FD9E1B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12C-E866-45E7-91B3-E3557DAB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C49B-5AF3-44AF-ADB6-5E379CD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2C33-11C2-4D97-94C6-707F26CE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34E-2490-443F-89F2-F10B352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5431-7A3B-44F3-A952-B6CE7E5D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5A72-A5FB-4661-A8F8-7BB551BA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ACE0-2B34-4CD4-B77C-8897E023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E5A4-1E02-475C-B2EF-26DCD9D1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499-6E4D-4657-A57C-F12BFEC4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8ADD-3734-4452-AEDD-E4F4A829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F31-1F02-4D71-9C49-DB5572B2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659-F93C-45AE-AE26-8B0080D6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346-0370-4260-8012-2E6B952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136-B56E-42C2-87EB-6EF1890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886-0774-4D35-BD77-5DE6F994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735-C59C-476F-AB46-D14101E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DCAF-01CF-4DC7-B9C9-F6D94ACDCC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EBF0-3B8E-41C7-AA49-9B8629C62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351D-B720-44FA-97FA-0978E23ADB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of previous medi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u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values not alway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journalis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een as “difficult” and “bureaucrat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200-F5DE-4DFF-A855-673816F3E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of communication betwee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over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information asymmetry -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ctor in its own right – partisan, prejudiced, lacking in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2B97-9CE3-4F7E-B3FC-EFFDAEE328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media – what does it chan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- peer to peer communication and conte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news cycle, rapid interaction, changing models of news development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interactivity versus hierarch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18CB-F17F-49F5-8E13-5D927550BB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econom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haping the behaviour of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tential for change, incentives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asurement of behaviou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8F7-6EFB-4182-886A-0694222B00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 Matrix for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tructures, institutions, actor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content and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ing PEA to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political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local context (including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roups whose behaviour ha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reas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media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816D-6693-44FC-9044-04AEAFE141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&amp; E challenge –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rev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hostility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tructures are complex and multi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2D25-B359-4E63-9630-9106BD9C21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&amp; E – what are looking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vernment (the powerful) to be responsive and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we looking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behaviour by governing and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involve institutions structures, organis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– how is this programme going to make power more responsive and how will I know if behaviour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DB0-646F-4B4E-8CEE-5FFFFB5725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ining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olitical economy matrix PEA to help prepare base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parate modules – parliamentary support, electoral assistance, media/communications programmes with illustrativ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are inter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1B1F-1EFE-4BA8-90AB-8CA4ACBC7D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drew Puddephatt</cp:lastModifiedBy>
  <dcterms:modified xsi:type="dcterms:W3CDTF">2013-06-20T09:07:23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