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183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771B-95CD-4C70-B0BD-A9A54EB80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A544-20C7-4357-B1B0-7E87BAE85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AC29-B97B-4CDE-80E4-3D1013A4E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AEF0-06BA-444A-9AC0-B0448F066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38C70-A01A-4CD5-91D7-4AA5B1352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4F208-EC4E-4EBE-A3FA-86652CE7C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74470-4847-4A75-8C9E-94A332A63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669EA-E35C-4162-8643-A26E3DBAE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4D20C-86B0-4298-9C3C-D04B3FAF2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A170C-D922-4694-99D2-1AE79E94D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73DBE-4432-4E9E-97F9-0EA6F3C0C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32BB-D240-4337-BB0C-402200A1C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127FF-FC50-4F66-94C2-92B86FA8C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A5A89-ED3E-4C98-9DB2-DD0D38DEB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7ABF0-7C2F-4231-BE29-3C787114F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82B81-D661-451F-9482-0A0B8F17E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3D070-8950-4ABD-8899-972D32071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8EA8-ED62-4D5E-A669-0BD4B2D1C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3D6F-A07E-4427-9B1C-2B9E3A708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96A0-DF1E-4D6A-91DE-FCB69B63D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907D-7F12-4EA6-8B03-3EBD45EB2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679C-EFA7-4E9A-8D56-E6ADBD76B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783A-4E78-4525-A039-118FB7139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6604-9E2F-4963-A177-AF7E86B16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2CE45-C9AD-42E6-9FCE-B51283D1515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8892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5" descr="LOGO CE-EN-NEG-quadri.ai"/>
          <p:cNvPicPr/>
          <p:nvPr/>
        </p:nvPicPr>
        <p:blipFill>
          <a:blip r:embed="rId2"/>
          <a:stretch/>
        </p:blipFill>
        <p:spPr>
          <a:xfrm>
            <a:off x="3924360" y="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7" name="Rectangle 6"/>
          <p:cNvSpPr/>
          <p:nvPr/>
        </p:nvSpPr>
        <p:spPr>
          <a:xfrm>
            <a:off x="4262400" y="6659640"/>
            <a:ext cx="5968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0" y="1349280"/>
            <a:ext cx="9144000" cy="550872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749760" y="378000"/>
            <a:ext cx="1942920" cy="134928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2"/>
          <p:cNvSpPr/>
          <p:nvPr/>
        </p:nvSpPr>
        <p:spPr>
          <a:xfrm>
            <a:off x="4162320" y="6642000"/>
            <a:ext cx="8398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0FE1A-C40B-44D0-AA64-CD166404E33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E5EC6-AE7A-4BC0-8D76-5DE391ED30B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ssons of previous media sup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accurate da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tegory conf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ropean values not always use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focus on journalist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 seen as “difficult” and “bureaucratic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7A2EE-999E-43A8-9037-9602EF2A9FF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dia and account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nel of communication between citiz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chdog over power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cting information asymmetry - transpa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al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 actor in its own right – partisan, prejudiced, lacking in cred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0E1DA-AE02-43DA-AF4C-1E7FCE1A627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line media – what does it chang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al - peer to peer communication and content cre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4 hour news cycle, rapid interaction, changing models of news development and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rizontal interactivity versus hierarchical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6F08E-0116-4846-B6B5-32B9528B90A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litical economy 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ctures and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it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haping the behaviour of 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Potential for change, incentives for ad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Measurement of behaviour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BC689-6201-4C95-BF84-3CA25BAE0D0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A Matrix for med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structures, institutions, actors acr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w and reg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ra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ersity of content and opi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lying PEA to med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upon political P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ing local context (including econom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portunities for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 groups whose behaviour has to be chan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areas of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media capac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B31FE-8483-4B8B-A1D8-F3AC52A2D71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 &amp; E challenge – the contex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xpayer revo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ste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ulist hostility to Eur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 structures are complex and multi-n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or data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eaucratic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35C2F-C9BF-43B1-A213-212546EE566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&amp; E – what are looking f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hat do we wa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Government (the powerful) to be responsive and accoun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hat are we looking f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hanges in behaviour by governing and gover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ay involve institutions structures, organisa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 questions – how is this programme going to make power more responsive and how will I know if behaviour has chang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CBAD6-59B0-4F6B-A79A-05D9B01704D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training modu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Political economy matrix PEA to help prepare baseline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e separate modules – parliamentary support, electoral assistance, media/communications programmes with illustrative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as are interlin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E9338-F70F-407E-8186-CA97B8B65C8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andrew Puddephatt</cp:lastModifiedBy>
  <dcterms:modified xsi:type="dcterms:W3CDTF">2013-06-20T09:07:23Z</dcterms:modified>
  <cp:revision>12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