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A64-71BC-4019-9DAD-3238B55E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0C4-9B04-454D-8741-3A39033F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5ED-71AC-4BA4-8F25-DDF0FA73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EAB-8D49-4549-B238-8F7B0455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8291-4CF1-4A89-A039-79B62E18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53E0-1BAE-447A-9D30-7B242CFD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8AFB-9A3D-470F-AE64-67DBECF4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5203-7EE7-4850-80BD-C2CD4A8D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A775-C068-4EF4-858C-A87C5C86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3CEF-A243-4268-BE8A-81F08900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4989-752A-44AA-BC19-CF56CC7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DF0-CEC4-4383-87ED-0C6DB01F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CAB5-4B4B-4CDC-8852-33EE540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4115-E513-4C7E-9BFF-C73E083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5AFE-441A-48F7-973C-D1892C51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3A8-BA1A-4F6D-B6FE-6AD8ADF1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B615-30FF-4A05-A1FE-87BE900A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8C9-3A36-4F5E-B1BC-99F87016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E7F-8B6E-4025-9943-8CB50BE3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F79-7E0B-43EA-AD85-91BFB4DB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246-50B4-4901-87DC-D06FC575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5BB-FD6B-4F9D-BED7-663059FF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309-8722-4ABE-86D2-CA44B820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7EF-33E5-407A-80A9-557133B7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3CF-0438-4AF2-A63D-1B294369B2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44DA-2807-4779-BE18-AD7D6B7E4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fr-BE" sz="2800" spc="-1" strike="noStrike">
                <a:solidFill>
                  <a:srgbClr val="ffffff"/>
                </a:solidFill>
                <a:latin typeface="Arial"/>
              </a:rPr>
              <a:t>Domestic Accountability 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40575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elia Wil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a Dah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CO – 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rizontal accountability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0B50-C998-44F8-9BF5-DB842155E3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42960" y="1917720"/>
            <a:ext cx="77151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liament at the centre of 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F09D-58A4-4D49-AA5F-C3D9F104ED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guys-sleeping-in-parliament"/>
          <p:cNvPicPr/>
          <p:nvPr/>
        </p:nvPicPr>
        <p:blipFill>
          <a:blip r:embed="rId1"/>
          <a:stretch/>
        </p:blipFill>
        <p:spPr>
          <a:xfrm>
            <a:off x="1571760" y="2428920"/>
            <a:ext cx="5786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porting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5ABD-5517-4908-8D6E-0E2E913712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SunEditorialCartoon"/>
          <p:cNvPicPr/>
          <p:nvPr/>
        </p:nvPicPr>
        <p:blipFill>
          <a:blip r:embed="rId1"/>
          <a:stretch/>
        </p:blipFill>
        <p:spPr>
          <a:xfrm>
            <a:off x="3000240" y="2071800"/>
            <a:ext cx="3125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.. investiga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A915-4E37-4443-AC62-43206EC1F9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audit_cartoon"/>
          <p:cNvPicPr/>
          <p:nvPr/>
        </p:nvPicPr>
        <p:blipFill>
          <a:blip r:embed="rId1"/>
          <a:stretch/>
        </p:blipFill>
        <p:spPr>
          <a:xfrm>
            <a:off x="857160" y="2071800"/>
            <a:ext cx="73580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tchdog CSOs -  vital oversight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E76C-EE01-4CF9-8CB0-A2CA3B2C5F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watchdog"/>
          <p:cNvPicPr/>
          <p:nvPr/>
        </p:nvPicPr>
        <p:blipFill>
          <a:blip r:embed="rId1"/>
          <a:stretch/>
        </p:blipFill>
        <p:spPr>
          <a:xfrm>
            <a:off x="2171880" y="2476440"/>
            <a:ext cx="4560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ommendations – questions -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6AB5-FF9F-49E3-B366-334352E8E2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http://www.focuspointeglobal.com/Portals/136660/images/encouraging-focus-group-discussion-resized-600.jpg"/>
          <p:cNvPicPr/>
          <p:nvPr/>
        </p:nvPicPr>
        <p:blipFill>
          <a:blip r:embed="rId1"/>
          <a:stretch/>
        </p:blipFill>
        <p:spPr>
          <a:xfrm>
            <a:off x="2714760" y="2286000"/>
            <a:ext cx="35719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1CEC-78D8-4F7F-BED4-F412670EE7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2457360"/>
          <a:ext cx="8064720" cy="3600720"/>
        </p:xfrm>
        <a:graphic>
          <a:graphicData uri="http://schemas.openxmlformats.org/drawingml/2006/table">
            <a:tbl>
              <a:tblPr/>
              <a:tblGrid>
                <a:gridCol w="765360"/>
                <a:gridCol w="1754280"/>
                <a:gridCol w="936360"/>
                <a:gridCol w="3095640"/>
                <a:gridCol w="712800"/>
                <a:gridCol w="800280"/>
              </a:tblGrid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(supp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discri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(dema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9"/>
          <p:cNvSpPr/>
          <p:nvPr/>
        </p:nvSpPr>
        <p:spPr>
          <a:xfrm>
            <a:off x="3132000" y="3041640"/>
            <a:ext cx="682920" cy="2444760"/>
          </a:xfrm>
          <a:prstGeom prst="downArrow">
            <a:avLst>
              <a:gd name="adj1" fmla="val 50000"/>
              <a:gd name="adj2" fmla="val 47466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7164360" y="2889360"/>
            <a:ext cx="576360" cy="2663640"/>
          </a:xfrm>
          <a:prstGeom prst="upArrow">
            <a:avLst>
              <a:gd name="adj1" fmla="val 50000"/>
              <a:gd name="adj2" fmla="val 4970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114640" y="314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3" descr=""/>
          <p:cNvPicPr/>
          <p:nvPr/>
        </p:nvPicPr>
        <p:blipFill>
          <a:blip r:embed="rId1"/>
          <a:stretch/>
        </p:blipFill>
        <p:spPr>
          <a:xfrm>
            <a:off x="622440" y="2901960"/>
            <a:ext cx="809640" cy="27241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4" descr=""/>
          <p:cNvPicPr/>
          <p:nvPr/>
        </p:nvPicPr>
        <p:blipFill>
          <a:blip r:embed="rId2"/>
          <a:stretch/>
        </p:blipFill>
        <p:spPr>
          <a:xfrm>
            <a:off x="7729560" y="2792520"/>
            <a:ext cx="811080" cy="2882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034160" y="28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191120" y="341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A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5099040" y="35449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5931360" y="3900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4091040" y="40989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4142880" y="5194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5450400" y="5194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4200120" y="48243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5348520" y="44528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6"/>
          <p:cNvSpPr/>
          <p:nvPr/>
        </p:nvSpPr>
        <p:spPr>
          <a:xfrm>
            <a:off x="5398920" y="31892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al cou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6" descr=""/>
          <p:cNvPicPr/>
          <p:nvPr/>
        </p:nvPicPr>
        <p:blipFill>
          <a:blip r:embed="rId1"/>
          <a:stretch/>
        </p:blipFill>
        <p:spPr>
          <a:xfrm>
            <a:off x="457200" y="2389320"/>
            <a:ext cx="8229600" cy="373032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7619-BE6E-4EF7-88BC-80B4D4512E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particip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5" descr=""/>
          <p:cNvPicPr/>
          <p:nvPr/>
        </p:nvPicPr>
        <p:blipFill>
          <a:blip r:embed="rId1"/>
          <a:stretch/>
        </p:blipFill>
        <p:spPr>
          <a:xfrm>
            <a:off x="1523880" y="249084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460D-74C6-4089-A8FF-FF5CFBD95A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917640" y="2349360"/>
            <a:ext cx="7183440" cy="364680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BE0F-69D6-45E3-BD6D-79AE63C1A7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dia landscape, new (old) challeng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1332000" y="1901880"/>
            <a:ext cx="6119640" cy="43495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06E3-8BA6-4AEE-B21E-BF32AA30DD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ublic sp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23F1-AB72-4577-BF40-5C800C41D4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ld challenges new opport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tent Placeholder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16232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AED6-0C37-44CB-B983-F09ED99ECF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versight – an essential ingredien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AF04-1C6E-47C6-AC4E-06EFEAE660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budget-cartoon-e1361166496254"/>
          <p:cNvPicPr/>
          <p:nvPr/>
        </p:nvPicPr>
        <p:blipFill>
          <a:blip r:embed="rId1"/>
          <a:stretch/>
        </p:blipFill>
        <p:spPr>
          <a:xfrm>
            <a:off x="1785960" y="1928880"/>
            <a:ext cx="4714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URA George (DEVCO)</cp:lastModifiedBy>
  <cp:lastPrinted>2013-06-18T09:10:56Z</cp:lastPrinted>
  <dcterms:modified xsi:type="dcterms:W3CDTF">2013-06-19T13:26:46Z</dcterms:modified>
  <cp:revision>134</cp:revision>
  <dc:subject/>
  <dc:title>Slide 1</dc:title>
</cp:coreProperties>
</file>