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72A-53DC-4C54-B6B1-CF62C1B8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C4F-0E13-4077-AD7C-F396526F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2CC-38CD-4325-817E-61192DAF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487-3B0D-46E4-B542-BC72A895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3BF5-E0A5-40C1-B1FB-61F2ECD1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B55C-40CE-416E-BB75-57FD34D4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F49E-3F57-4528-8ECB-30D622ED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1198-7844-40F8-9458-B235980B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E66F-500D-463B-B615-450B4A01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08C6-819E-4729-B58D-61C0D68B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BE2A-1A4E-4EA3-9316-A3A03348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5A1-96C1-4FB4-B55C-57E6E24D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80B3-EA87-4B22-8789-DE954066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DBA7-005A-470C-816D-47E4A0B2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385F-1155-4CF3-AB5F-FE896C42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B2CC-F944-4BA6-A71E-4A06A0ED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73A6-64EF-4780-91EC-5797730C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4404-31A5-4127-B14D-666D6807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F63-078E-4F06-A0B2-48100E4B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2D1-9C44-4528-AC3A-F962EF46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07F-5A2C-40CA-819B-76176DB9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E13-86CB-4219-A436-945431EC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A26-8A6D-45EE-934F-9DAB2444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59F-1599-4012-BC65-EA9FAF1D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4DCC-F6B9-43DC-A046-DFA1B07025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436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1349280"/>
            <a:ext cx="9144000" cy="55087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749760" y="378000"/>
            <a:ext cx="1942920" cy="134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162320" y="6642000"/>
            <a:ext cx="8398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67BB-A5C3-46D6-9403-D80C6D14DF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9640" y="1988640"/>
            <a:ext cx="5327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fr-BE" sz="2800" spc="-1" strike="noStrike">
                <a:solidFill>
                  <a:srgbClr val="ffffff"/>
                </a:solidFill>
                <a:latin typeface="Arial"/>
              </a:rPr>
              <a:t>Domestic Accountability 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40575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elia Wil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a Dahl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CO – 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rizontal accountability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374C-A910-4EAB-B728-C085B64744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42960" y="1917720"/>
            <a:ext cx="771516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liament at the centre of 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3D9A-F2C6-47BA-B675-821570D314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guys-sleeping-in-parliament"/>
          <p:cNvPicPr/>
          <p:nvPr/>
        </p:nvPicPr>
        <p:blipFill>
          <a:blip r:embed="rId1"/>
          <a:stretch/>
        </p:blipFill>
        <p:spPr>
          <a:xfrm>
            <a:off x="1571760" y="2428920"/>
            <a:ext cx="5786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porting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FB81-6FCF-4F9D-A82A-2A927455F5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SunEditorialCartoon"/>
          <p:cNvPicPr/>
          <p:nvPr/>
        </p:nvPicPr>
        <p:blipFill>
          <a:blip r:embed="rId1"/>
          <a:stretch/>
        </p:blipFill>
        <p:spPr>
          <a:xfrm>
            <a:off x="3000240" y="2071800"/>
            <a:ext cx="3125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... investigat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1FF5-FABA-4922-AC59-8C1FA82B2D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audit_cartoon"/>
          <p:cNvPicPr/>
          <p:nvPr/>
        </p:nvPicPr>
        <p:blipFill>
          <a:blip r:embed="rId1"/>
          <a:stretch/>
        </p:blipFill>
        <p:spPr>
          <a:xfrm>
            <a:off x="857160" y="2071800"/>
            <a:ext cx="735804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atchdog CSOs -  vital oversight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DA36-355A-40B0-AB3F-C12B220C22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watchdog"/>
          <p:cNvPicPr/>
          <p:nvPr/>
        </p:nvPicPr>
        <p:blipFill>
          <a:blip r:embed="rId1"/>
          <a:stretch/>
        </p:blipFill>
        <p:spPr>
          <a:xfrm>
            <a:off x="2171880" y="2476440"/>
            <a:ext cx="45608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ommendations – questions -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D49A-3945-4ED9-AD96-973850A394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http://www.focuspointeglobal.com/Portals/136660/images/encouraging-focus-group-discussion-resized-600.jpg"/>
          <p:cNvPicPr/>
          <p:nvPr/>
        </p:nvPicPr>
        <p:blipFill>
          <a:blip r:embed="rId1"/>
          <a:stretch/>
        </p:blipFill>
        <p:spPr>
          <a:xfrm>
            <a:off x="2714760" y="2286000"/>
            <a:ext cx="35719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8595-C65D-4FD0-8D95-B20B2E4E26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estic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9640" y="2457360"/>
          <a:ext cx="8064720" cy="3600720"/>
        </p:xfrm>
        <a:graphic>
          <a:graphicData uri="http://schemas.openxmlformats.org/drawingml/2006/table">
            <a:tbl>
              <a:tblPr/>
              <a:tblGrid>
                <a:gridCol w="765360"/>
                <a:gridCol w="1754280"/>
                <a:gridCol w="936360"/>
                <a:gridCol w="3095640"/>
                <a:gridCol w="712800"/>
                <a:gridCol w="800280"/>
              </a:tblGrid>
              <a:tr h="351000"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(supp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2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discri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(dema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AutoShape 9"/>
          <p:cNvSpPr/>
          <p:nvPr/>
        </p:nvSpPr>
        <p:spPr>
          <a:xfrm>
            <a:off x="3132000" y="3041640"/>
            <a:ext cx="682920" cy="2444760"/>
          </a:xfrm>
          <a:prstGeom prst="downArrow">
            <a:avLst>
              <a:gd name="adj1" fmla="val 50000"/>
              <a:gd name="adj2" fmla="val 47466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7164360" y="2889360"/>
            <a:ext cx="576360" cy="2663640"/>
          </a:xfrm>
          <a:prstGeom prst="upArrow">
            <a:avLst>
              <a:gd name="adj1" fmla="val 50000"/>
              <a:gd name="adj2" fmla="val 49702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2114640" y="314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13" descr=""/>
          <p:cNvPicPr/>
          <p:nvPr/>
        </p:nvPicPr>
        <p:blipFill>
          <a:blip r:embed="rId1"/>
          <a:stretch/>
        </p:blipFill>
        <p:spPr>
          <a:xfrm>
            <a:off x="622440" y="2901960"/>
            <a:ext cx="809640" cy="272412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14" descr=""/>
          <p:cNvPicPr/>
          <p:nvPr/>
        </p:nvPicPr>
        <p:blipFill>
          <a:blip r:embed="rId2"/>
          <a:stretch/>
        </p:blipFill>
        <p:spPr>
          <a:xfrm>
            <a:off x="7729560" y="2792520"/>
            <a:ext cx="811080" cy="2882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6"/>
          <p:cNvSpPr/>
          <p:nvPr/>
        </p:nvSpPr>
        <p:spPr>
          <a:xfrm>
            <a:off x="4034160" y="28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xecu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4191120" y="341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.A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5099040" y="35449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0"/>
          <p:cNvSpPr/>
          <p:nvPr/>
        </p:nvSpPr>
        <p:spPr>
          <a:xfrm>
            <a:off x="5931360" y="3900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dic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1"/>
          <p:cNvSpPr/>
          <p:nvPr/>
        </p:nvSpPr>
        <p:spPr>
          <a:xfrm>
            <a:off x="4091040" y="40989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2"/>
          <p:cNvSpPr/>
          <p:nvPr/>
        </p:nvSpPr>
        <p:spPr>
          <a:xfrm>
            <a:off x="4142880" y="5194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3"/>
          <p:cNvSpPr/>
          <p:nvPr/>
        </p:nvSpPr>
        <p:spPr>
          <a:xfrm>
            <a:off x="5450400" y="51944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4200120" y="48243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5348520" y="445284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6"/>
          <p:cNvSpPr/>
          <p:nvPr/>
        </p:nvSpPr>
        <p:spPr>
          <a:xfrm>
            <a:off x="5398920" y="31892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cal counc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omestic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6" descr=""/>
          <p:cNvPicPr/>
          <p:nvPr/>
        </p:nvPicPr>
        <p:blipFill>
          <a:blip r:embed="rId1"/>
          <a:stretch/>
        </p:blipFill>
        <p:spPr>
          <a:xfrm>
            <a:off x="457200" y="2389320"/>
            <a:ext cx="8229600" cy="373032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01AD-51FE-45ED-A6A1-C31AFCF3ED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particip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Content Placeholder 5" descr=""/>
          <p:cNvPicPr/>
          <p:nvPr/>
        </p:nvPicPr>
        <p:blipFill>
          <a:blip r:embed="rId1"/>
          <a:stretch/>
        </p:blipFill>
        <p:spPr>
          <a:xfrm>
            <a:off x="1523880" y="249084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953E-7BE7-4494-B40D-B33693C9B3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5" descr=""/>
          <p:cNvPicPr/>
          <p:nvPr/>
        </p:nvPicPr>
        <p:blipFill>
          <a:blip r:embed="rId1"/>
          <a:stretch/>
        </p:blipFill>
        <p:spPr>
          <a:xfrm>
            <a:off x="917640" y="2349360"/>
            <a:ext cx="7183440" cy="3646800"/>
          </a:xfrm>
          <a:prstGeom prst="rect">
            <a:avLst/>
          </a:prstGeom>
          <a:ln w="0">
            <a:noFill/>
          </a:ln>
        </p:spPr>
      </p:pic>
      <p:sp>
        <p:nvSpPr>
          <p:cNvPr id="12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E40C-577B-4065-BF23-D88FD92A21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media landscape, new (old) challeng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Content Placeholder 5" descr=""/>
          <p:cNvPicPr/>
          <p:nvPr/>
        </p:nvPicPr>
        <p:blipFill>
          <a:blip r:embed="rId1"/>
          <a:stretch/>
        </p:blipFill>
        <p:spPr>
          <a:xfrm>
            <a:off x="1332000" y="1901880"/>
            <a:ext cx="6119640" cy="434952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DCBE-C9B8-4F5E-879A-2B86E2C56E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ublic sp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ontent Placeholder 5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E721-F568-4198-A5D1-60F9FBB8E1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ld challenges new opportun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Content Placeholder 5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162320"/>
          </a:xfrm>
          <a:prstGeom prst="rect">
            <a:avLst/>
          </a:prstGeom>
          <a:ln w="0">
            <a:noFill/>
          </a:ln>
        </p:spPr>
      </p:pic>
      <p:sp>
        <p:nvSpPr>
          <p:cNvPr id="13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7276-5824-496B-A543-0D3C78A59D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versight – an essential ingredient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0283-28B5-4E03-B112-E69E03B0E3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budget-cartoon-e1361166496254"/>
          <p:cNvPicPr/>
          <p:nvPr/>
        </p:nvPicPr>
        <p:blipFill>
          <a:blip r:embed="rId1"/>
          <a:stretch/>
        </p:blipFill>
        <p:spPr>
          <a:xfrm>
            <a:off x="1785960" y="1928880"/>
            <a:ext cx="47149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DURA George (DEVCO)</cp:lastModifiedBy>
  <cp:lastPrinted>2013-06-18T09:10:56Z</cp:lastPrinted>
  <dcterms:modified xsi:type="dcterms:W3CDTF">2013-06-19T13:26:46Z</dcterms:modified>
  <cp:revision>134</cp:revision>
  <dc:subject/>
  <dc:title>Slide 1</dc:title>
</cp:coreProperties>
</file>