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604-B5D3-4C0C-802D-5C9E94E4F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AC6-3060-4164-B816-C71970DB1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6 National PEFAs done in 20 of 26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DB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H, BL, BO, BR, CO, CR, DR, ES, GU, HA, HO, JA, PY, PE, TT, NI, GY, EC, BA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one yet in: Mexico, Venezuela, Argentina and Chi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Countries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n process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aning the fieldwork completed but report not final (PN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rst national PEFA in Panama, Urugu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Led 7 PEFAs in 6 Countries (CR, GU, GY, NI, PN, S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DB Co-Led 18 PEFAs in 14 Countries (BA, BL, BO, CO, DR, EC, ES, GU, HO, JA, NI, PE, PR, U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D85-0DE0-44B1-9A20-7F2C7BB14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5 countries with 13 Sub-national PEFAs done in PE, BR, CO, AR, H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1 Local PEFA in Tegucigalpa, Hondu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2 Sub-national PEFAs planned for 2013 in 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B3C-9B57-4236-99BA-CEF9B727A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968-9F80-41DD-B7B2-EAC556CA6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FB6-847E-44B4-ADDC-CFF31533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EFA framework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something more adaptable to unique situations (UR 5-year budget, sub-national, decentralized gov’ts like PN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ed diagnostic to go into greater depth and provide recommendations or next steps toward developing an action plan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move procurement indicator ID-19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vide more timely, complete an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etter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ranslations of PEFA guidance into Spanish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re training workshops in Spanish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 the Regio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(not in DC) and addresses more detailed, specific top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363-430C-486A-96C3-F61270D41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Recommend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ength of process/sharing results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ommend that gov’ts establish someone with political power to help facilitate providing PEFA team with comments and documents in a timely mann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hare results with all donors (not just those involved in the PEFA) confidentially when work substantially completed and review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 interim evaluations of subsystems and indicators on PEFA website or manner to share with all donors confidentiall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nsultant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- an agreed-upon (among donors) database of good quality consultants to perform PEFAs, some automatically do more than described in PEFA while others just do the minimum – especially, since don’t have the experti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8594-C336-4F9B-AF07-C6A925C48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69B4-B923-4D63-B6FA-EF8797120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711-951E-4A99-9E44-A7BC23D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0E7-0723-489B-8CDC-CB8B3892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25D-D9F3-45B5-B38F-77856A0B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022-6ADF-4372-99BC-E9F1A6EA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C31-8B7A-4C6A-BC99-19A67A3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2F3-0FC7-42C5-81A0-DFF5C78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DE6-5173-428E-8BA0-D12ABA98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26A-F7B7-4A4B-9D1F-37B412E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B8C-9093-4629-8695-F4118AD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EC1-71A1-47D0-AFF6-F4F74C8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216-BE74-456D-AC2B-64242A7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F86-075F-4074-81C5-1291301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1BC6-014D-4E74-8108-311FC60EA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hyperlink" Target="http://www.pefa.org/" TargetMode="External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4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9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hyperlink" Target="http://www.pefa.org/" TargetMode="External"/><Relationship Id="rId8" Type="http://schemas.openxmlformats.org/officeDocument/2006/relationships/image" Target="../media/image17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46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ounded Rectangle 10"/>
          <p:cNvGrpSpPr/>
          <p:nvPr/>
        </p:nvGrpSpPr>
        <p:grpSpPr>
          <a:xfrm>
            <a:off x="811080" y="2408400"/>
            <a:ext cx="7704360" cy="1944360"/>
            <a:chOff x="811080" y="2408400"/>
            <a:chExt cx="7704360" cy="1944360"/>
          </a:xfrm>
        </p:grpSpPr>
        <p:pic>
          <p:nvPicPr>
            <p:cNvPr id="49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811080" y="2408400"/>
              <a:ext cx="770436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8640" y="2527200"/>
              <a:ext cx="736596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alibri"/>
                </a:rPr>
                <a:t>PEFA in Latin America, Seven Years of Implementation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Inter-American Development Bank’s Experien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Rounded Rectangle 14"/>
          <p:cNvGrpSpPr/>
          <p:nvPr/>
        </p:nvGrpSpPr>
        <p:grpSpPr>
          <a:xfrm>
            <a:off x="817560" y="835200"/>
            <a:ext cx="2028960" cy="957240"/>
            <a:chOff x="817560" y="835200"/>
            <a:chExt cx="2028960" cy="957240"/>
          </a:xfrm>
        </p:grpSpPr>
        <p:pic>
          <p:nvPicPr>
            <p:cNvPr id="52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817560" y="835200"/>
              <a:ext cx="2028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19080" y="906480"/>
              <a:ext cx="182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879480" y="4800600"/>
            <a:ext cx="75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tharina Falkner-Olm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vision Chief of the Operations Financial Management and Procurement Services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cy for Countries (V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109520" y="1006560"/>
            <a:ext cx="1487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57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58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59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oup 42" descr=""/>
          <p:cNvPicPr/>
          <p:nvPr/>
        </p:nvPicPr>
        <p:blipFill>
          <a:blip r:embed="rId2"/>
          <a:stretch/>
        </p:blipFill>
        <p:spPr>
          <a:xfrm>
            <a:off x="573120" y="372420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87" name="Group 83" descr=""/>
          <p:cNvPicPr/>
          <p:nvPr/>
        </p:nvPicPr>
        <p:blipFill>
          <a:blip r:embed="rId3"/>
          <a:stretch/>
        </p:blipFill>
        <p:spPr>
          <a:xfrm>
            <a:off x="6108840" y="317016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Group 140" descr=""/>
          <p:cNvPicPr/>
          <p:nvPr/>
        </p:nvPicPr>
        <p:blipFill>
          <a:blip r:embed="rId4"/>
          <a:stretch/>
        </p:blipFill>
        <p:spPr>
          <a:xfrm>
            <a:off x="4821120" y="248760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89" name="Group 143" descr=""/>
          <p:cNvPicPr/>
          <p:nvPr/>
        </p:nvPicPr>
        <p:blipFill>
          <a:blip r:embed="rId5"/>
          <a:stretch/>
        </p:blipFill>
        <p:spPr>
          <a:xfrm>
            <a:off x="4145040" y="19620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0" name="Group 146" descr=""/>
          <p:cNvPicPr/>
          <p:nvPr/>
        </p:nvPicPr>
        <p:blipFill>
          <a:blip r:embed="rId6"/>
          <a:stretch/>
        </p:blipFill>
        <p:spPr>
          <a:xfrm>
            <a:off x="4968720" y="156672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1" name="Group 149" descr=""/>
          <p:cNvPicPr/>
          <p:nvPr/>
        </p:nvPicPr>
        <p:blipFill>
          <a:blip r:embed="rId7"/>
          <a:stretch/>
        </p:blipFill>
        <p:spPr>
          <a:xfrm>
            <a:off x="3870360" y="195732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92" name="Group 152" descr=""/>
          <p:cNvPicPr/>
          <p:nvPr/>
        </p:nvPicPr>
        <p:blipFill>
          <a:blip r:embed="rId8"/>
          <a:stretch/>
        </p:blipFill>
        <p:spPr>
          <a:xfrm>
            <a:off x="3736800" y="1809720"/>
            <a:ext cx="21924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Group 155" descr=""/>
          <p:cNvPicPr/>
          <p:nvPr/>
        </p:nvPicPr>
        <p:blipFill>
          <a:blip r:embed="rId9"/>
          <a:stretch/>
        </p:blipFill>
        <p:spPr>
          <a:xfrm>
            <a:off x="4468680" y="172548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94" name="Group 158" descr=""/>
          <p:cNvPicPr/>
          <p:nvPr/>
        </p:nvPicPr>
        <p:blipFill>
          <a:blip r:embed="rId10"/>
          <a:stretch/>
        </p:blipFill>
        <p:spPr>
          <a:xfrm>
            <a:off x="3932280" y="1706400"/>
            <a:ext cx="218880" cy="214560"/>
          </a:xfrm>
          <a:prstGeom prst="rect">
            <a:avLst/>
          </a:prstGeom>
          <a:ln w="0">
            <a:noFill/>
          </a:ln>
        </p:spPr>
      </p:pic>
      <p:pic>
        <p:nvPicPr>
          <p:cNvPr id="95" name="Group 161" descr=""/>
          <p:cNvPicPr/>
          <p:nvPr/>
        </p:nvPicPr>
        <p:blipFill>
          <a:blip r:embed="rId11"/>
          <a:stretch/>
        </p:blipFill>
        <p:spPr>
          <a:xfrm>
            <a:off x="4791240" y="157320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6" name="Group 164" descr=""/>
          <p:cNvPicPr/>
          <p:nvPr/>
        </p:nvPicPr>
        <p:blipFill>
          <a:blip r:embed="rId12"/>
          <a:stretch/>
        </p:blipFill>
        <p:spPr>
          <a:xfrm>
            <a:off x="5632560" y="4091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97" name="Group 173" descr=""/>
          <p:cNvPicPr/>
          <p:nvPr/>
        </p:nvPicPr>
        <p:blipFill>
          <a:blip r:embed="rId13"/>
          <a:stretch/>
        </p:blipFill>
        <p:spPr>
          <a:xfrm>
            <a:off x="5425920" y="2103480"/>
            <a:ext cx="219240" cy="212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226"/>
          <p:cNvSpPr/>
          <p:nvPr/>
        </p:nvSpPr>
        <p:spPr>
          <a:xfrm>
            <a:off x="828720" y="364824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 Countries – Completed*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89"/>
          <p:cNvSpPr/>
          <p:nvPr/>
        </p:nvSpPr>
        <p:spPr>
          <a:xfrm>
            <a:off x="160200" y="644220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01" name="Rectangle 182" descr=""/>
            <p:cNvPicPr/>
            <p:nvPr/>
          </p:nvPicPr>
          <p:blipFill>
            <a:blip r:embed="rId15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Group 183" descr=""/>
          <p:cNvPicPr/>
          <p:nvPr/>
        </p:nvPicPr>
        <p:blipFill>
          <a:blip r:embed="rId16"/>
          <a:stretch/>
        </p:blipFill>
        <p:spPr>
          <a:xfrm>
            <a:off x="4029120" y="180504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4" name="Group 186" descr=""/>
          <p:cNvPicPr/>
          <p:nvPr/>
        </p:nvPicPr>
        <p:blipFill>
          <a:blip r:embed="rId17"/>
          <a:stretch/>
        </p:blipFill>
        <p:spPr>
          <a:xfrm>
            <a:off x="4254480" y="21034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5" name="Group 196" descr=""/>
          <p:cNvPicPr/>
          <p:nvPr/>
        </p:nvPicPr>
        <p:blipFill>
          <a:blip r:embed="rId18"/>
          <a:stretch/>
        </p:blipFill>
        <p:spPr>
          <a:xfrm>
            <a:off x="5248440" y="3706920"/>
            <a:ext cx="218880" cy="212760"/>
          </a:xfrm>
          <a:prstGeom prst="rect">
            <a:avLst/>
          </a:prstGeom>
          <a:ln w="0">
            <a:noFill/>
          </a:ln>
        </p:spPr>
      </p:pic>
      <p:pic>
        <p:nvPicPr>
          <p:cNvPr id="106" name="Group 230" descr=""/>
          <p:cNvPicPr/>
          <p:nvPr/>
        </p:nvPicPr>
        <p:blipFill>
          <a:blip r:embed="rId19"/>
          <a:stretch/>
        </p:blipFill>
        <p:spPr>
          <a:xfrm>
            <a:off x="4438800" y="28036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07" name="Group 233" descr=""/>
          <p:cNvPicPr/>
          <p:nvPr/>
        </p:nvPicPr>
        <p:blipFill>
          <a:blip r:embed="rId20"/>
          <a:stretch/>
        </p:blipFill>
        <p:spPr>
          <a:xfrm>
            <a:off x="5645160" y="1805040"/>
            <a:ext cx="219240" cy="212760"/>
          </a:xfrm>
          <a:prstGeom prst="rect">
            <a:avLst/>
          </a:prstGeom>
          <a:ln w="0">
            <a:noFill/>
          </a:ln>
        </p:spPr>
      </p:pic>
      <p:pic>
        <p:nvPicPr>
          <p:cNvPr id="108" name="Group 236" descr=""/>
          <p:cNvPicPr/>
          <p:nvPr/>
        </p:nvPicPr>
        <p:blipFill>
          <a:blip r:embed="rId21"/>
          <a:stretch/>
        </p:blipFill>
        <p:spPr>
          <a:xfrm>
            <a:off x="4711680" y="1189080"/>
            <a:ext cx="220680" cy="21276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39" descr=""/>
          <p:cNvPicPr/>
          <p:nvPr/>
        </p:nvPicPr>
        <p:blipFill>
          <a:blip r:embed="rId22"/>
          <a:stretch/>
        </p:blipFill>
        <p:spPr>
          <a:xfrm>
            <a:off x="5572080" y="2335320"/>
            <a:ext cx="219240" cy="212760"/>
          </a:xfrm>
          <a:prstGeom prst="rect">
            <a:avLst/>
          </a:prstGeom>
          <a:ln w="0">
            <a:noFill/>
          </a:ln>
        </p:spPr>
      </p:pic>
      <p:grpSp>
        <p:nvGrpSpPr>
          <p:cNvPr id="110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11" name="Rounded Rectangle 124" descr=""/>
            <p:cNvPicPr/>
            <p:nvPr/>
          </p:nvPicPr>
          <p:blipFill>
            <a:blip r:embed="rId23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14" name="TextBox 125" descr=""/>
            <p:cNvPicPr/>
            <p:nvPr/>
          </p:nvPicPr>
          <p:blipFill>
            <a:blip r:embed="rId24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126"/>
          <p:cNvSpPr/>
          <p:nvPr/>
        </p:nvSpPr>
        <p:spPr>
          <a:xfrm>
            <a:off x="804960" y="4203720"/>
            <a:ext cx="21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+2 Countries – I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Group 36" descr=""/>
          <p:cNvPicPr/>
          <p:nvPr/>
        </p:nvPicPr>
        <p:blipFill>
          <a:blip r:embed="rId25"/>
          <a:stretch/>
        </p:blipFill>
        <p:spPr>
          <a:xfrm>
            <a:off x="523800" y="424800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6" descr=""/>
          <p:cNvPicPr/>
          <p:nvPr/>
        </p:nvPicPr>
        <p:blipFill>
          <a:blip r:embed="rId26"/>
          <a:stretch/>
        </p:blipFill>
        <p:spPr>
          <a:xfrm>
            <a:off x="4425840" y="2157480"/>
            <a:ext cx="225360" cy="22068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6" descr=""/>
          <p:cNvPicPr/>
          <p:nvPr/>
        </p:nvPicPr>
        <p:blipFill>
          <a:blip r:embed="rId27"/>
          <a:stretch/>
        </p:blipFill>
        <p:spPr>
          <a:xfrm>
            <a:off x="5840280" y="4675320"/>
            <a:ext cx="219240" cy="214200"/>
          </a:xfrm>
          <a:prstGeom prst="rect">
            <a:avLst/>
          </a:prstGeom>
          <a:ln w="0">
            <a:noFill/>
          </a:ln>
        </p:spPr>
      </p:pic>
      <p:grpSp>
        <p:nvGrpSpPr>
          <p:cNvPr id="120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121" name="Rounded Rectangle 161" descr=""/>
            <p:cNvPicPr/>
            <p:nvPr/>
          </p:nvPicPr>
          <p:blipFill>
            <a:blip r:embed="rId28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31"/>
          <p:cNvSpPr/>
          <p:nvPr/>
        </p:nvSpPr>
        <p:spPr>
          <a:xfrm>
            <a:off x="608040" y="2471760"/>
            <a:ext cx="22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85% of IDB countries have completed a PEFA assess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0" descr=""/>
          <p:cNvPicPr/>
          <p:nvPr/>
        </p:nvPicPr>
        <p:blipFill>
          <a:blip r:embed="rId29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173" descr=""/>
          <p:cNvPicPr/>
          <p:nvPr/>
        </p:nvPicPr>
        <p:blipFill>
          <a:blip r:embed="rId30"/>
          <a:stretch/>
        </p:blipFill>
        <p:spPr>
          <a:xfrm>
            <a:off x="5735520" y="2457360"/>
            <a:ext cx="220680" cy="2127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89"/>
          <p:cNvSpPr/>
          <p:nvPr/>
        </p:nvSpPr>
        <p:spPr>
          <a:xfrm>
            <a:off x="168120" y="6058080"/>
            <a:ext cx="354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* 10 countries have had repeat PEFA assess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Group 140" descr=""/>
          <p:cNvPicPr/>
          <p:nvPr/>
        </p:nvPicPr>
        <p:blipFill>
          <a:blip r:embed="rId31"/>
          <a:stretch/>
        </p:blipFill>
        <p:spPr>
          <a:xfrm>
            <a:off x="4522680" y="3164040"/>
            <a:ext cx="220680" cy="212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21"/>
          <p:cNvSpPr/>
          <p:nvPr/>
        </p:nvSpPr>
        <p:spPr>
          <a:xfrm>
            <a:off x="6451560" y="526104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-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 and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Group 36" descr=""/>
          <p:cNvPicPr/>
          <p:nvPr/>
        </p:nvPicPr>
        <p:blipFill>
          <a:blip r:embed="rId32"/>
          <a:stretch/>
        </p:blipFill>
        <p:spPr>
          <a:xfrm>
            <a:off x="6211800" y="541980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0" name="Group 36" descr=""/>
          <p:cNvPicPr/>
          <p:nvPr/>
        </p:nvPicPr>
        <p:blipFill>
          <a:blip r:embed="rId33"/>
          <a:stretch/>
        </p:blipFill>
        <p:spPr>
          <a:xfrm>
            <a:off x="4243320" y="1951200"/>
            <a:ext cx="225360" cy="218880"/>
          </a:xfrm>
          <a:prstGeom prst="rect">
            <a:avLst/>
          </a:prstGeom>
          <a:ln w="0">
            <a:noFill/>
          </a:ln>
        </p:spPr>
      </p:pic>
      <p:pic>
        <p:nvPicPr>
          <p:cNvPr id="131" name="Group 36" descr=""/>
          <p:cNvPicPr/>
          <p:nvPr/>
        </p:nvPicPr>
        <p:blipFill>
          <a:blip r:embed="rId34"/>
          <a:stretch/>
        </p:blipFill>
        <p:spPr>
          <a:xfrm>
            <a:off x="4548240" y="2786040"/>
            <a:ext cx="225360" cy="219240"/>
          </a:xfrm>
          <a:prstGeom prst="rect">
            <a:avLst/>
          </a:prstGeom>
          <a:ln w="0">
            <a:noFill/>
          </a:ln>
        </p:spPr>
      </p:pic>
      <p:pic>
        <p:nvPicPr>
          <p:cNvPr id="132" name="Group 36" descr=""/>
          <p:cNvPicPr/>
          <p:nvPr/>
        </p:nvPicPr>
        <p:blipFill>
          <a:blip r:embed="rId35"/>
          <a:stretch/>
        </p:blipFill>
        <p:spPr>
          <a:xfrm>
            <a:off x="3975120" y="1944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Group 36" descr=""/>
          <p:cNvPicPr/>
          <p:nvPr/>
        </p:nvPicPr>
        <p:blipFill>
          <a:blip r:embed="rId36"/>
          <a:stretch/>
        </p:blipFill>
        <p:spPr>
          <a:xfrm>
            <a:off x="5851440" y="2457360"/>
            <a:ext cx="225360" cy="212760"/>
          </a:xfrm>
          <a:prstGeom prst="rect">
            <a:avLst/>
          </a:prstGeom>
          <a:ln w="0">
            <a:noFill/>
          </a:ln>
        </p:spPr>
      </p:pic>
      <p:pic>
        <p:nvPicPr>
          <p:cNvPr id="134" name="Group 36" descr=""/>
          <p:cNvPicPr/>
          <p:nvPr/>
        </p:nvPicPr>
        <p:blipFill>
          <a:blip r:embed="rId37"/>
          <a:stretch/>
        </p:blipFill>
        <p:spPr>
          <a:xfrm>
            <a:off x="4638600" y="3157560"/>
            <a:ext cx="225360" cy="21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53"/>
          <p:cNvGrpSpPr/>
          <p:nvPr/>
        </p:nvGrpSpPr>
        <p:grpSpPr>
          <a:xfrm>
            <a:off x="2057400" y="838080"/>
            <a:ext cx="5219640" cy="5943600"/>
            <a:chOff x="2057400" y="838080"/>
            <a:chExt cx="5219640" cy="5943600"/>
          </a:xfrm>
        </p:grpSpPr>
        <p:grpSp>
          <p:nvGrpSpPr>
            <p:cNvPr id="136" name="Group 252"/>
            <p:cNvGrpSpPr/>
            <p:nvPr/>
          </p:nvGrpSpPr>
          <p:grpSpPr>
            <a:xfrm>
              <a:off x="2057400" y="838080"/>
              <a:ext cx="5219640" cy="5943600"/>
              <a:chOff x="2057400" y="838080"/>
              <a:chExt cx="5219640" cy="5943600"/>
            </a:xfrm>
          </p:grpSpPr>
          <p:grpSp>
            <p:nvGrpSpPr>
              <p:cNvPr id="137" name="Group 251"/>
              <p:cNvGrpSpPr/>
              <p:nvPr/>
            </p:nvGrpSpPr>
            <p:grpSpPr>
              <a:xfrm>
                <a:off x="2057400" y="838080"/>
                <a:ext cx="5219640" cy="5943600"/>
                <a:chOff x="2057400" y="838080"/>
                <a:chExt cx="5219640" cy="5943600"/>
              </a:xfrm>
            </p:grpSpPr>
            <p:pic>
              <p:nvPicPr>
                <p:cNvPr id="138" name="Picture 6" descr="World Mercator Printable Blank Royalty Free jpg Map"/>
                <p:cNvPicPr/>
                <p:nvPr/>
              </p:nvPicPr>
              <p:blipFill>
                <a:blip r:embed="rId1"/>
                <a:srcRect l="12850" t="42531" r="62505" b="21840"/>
                <a:stretch/>
              </p:blipFill>
              <p:spPr>
                <a:xfrm>
                  <a:off x="2057400" y="838080"/>
                  <a:ext cx="5219640" cy="5943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Rectangle 9"/>
                <p:cNvSpPr/>
                <p:nvPr/>
              </p:nvSpPr>
              <p:spPr>
                <a:xfrm>
                  <a:off x="5086440" y="4911840"/>
                  <a:ext cx="4125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A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Rectangle 10"/>
                <p:cNvSpPr/>
                <p:nvPr/>
              </p:nvSpPr>
              <p:spPr>
                <a:xfrm>
                  <a:off x="3782880" y="1765080"/>
                  <a:ext cx="414360" cy="1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B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Rectangle 11"/>
                <p:cNvSpPr/>
                <p:nvPr/>
              </p:nvSpPr>
              <p:spPr>
                <a:xfrm>
                  <a:off x="5489640" y="1836360"/>
                  <a:ext cx="3441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ectangle 12"/>
                <p:cNvSpPr/>
                <p:nvPr/>
              </p:nvSpPr>
              <p:spPr>
                <a:xfrm>
                  <a:off x="5099040" y="3720960"/>
                  <a:ext cx="4143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B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3"/>
                <p:cNvSpPr/>
                <p:nvPr/>
              </p:nvSpPr>
              <p:spPr>
                <a:xfrm>
                  <a:off x="4506840" y="1253880"/>
                  <a:ext cx="412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B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14"/>
                <p:cNvSpPr/>
                <p:nvPr/>
              </p:nvSpPr>
              <p:spPr>
                <a:xfrm>
                  <a:off x="4869000" y="414504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CH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Rectangle 15"/>
                <p:cNvSpPr/>
                <p:nvPr/>
              </p:nvSpPr>
              <p:spPr>
                <a:xfrm>
                  <a:off x="4836960" y="174276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D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Rectangle 16"/>
                <p:cNvSpPr/>
                <p:nvPr/>
              </p:nvSpPr>
              <p:spPr>
                <a:xfrm>
                  <a:off x="4327560" y="2827080"/>
                  <a:ext cx="4032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EC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Rectangle 17"/>
                <p:cNvSpPr/>
                <p:nvPr/>
              </p:nvSpPr>
              <p:spPr>
                <a:xfrm>
                  <a:off x="2935080" y="1339560"/>
                  <a:ext cx="4759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M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18"/>
                <p:cNvSpPr/>
                <p:nvPr/>
              </p:nvSpPr>
              <p:spPr>
                <a:xfrm>
                  <a:off x="3938400" y="2019240"/>
                  <a:ext cx="3823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NI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Rectangle 20"/>
                <p:cNvSpPr/>
                <p:nvPr/>
              </p:nvSpPr>
              <p:spPr>
                <a:xfrm>
                  <a:off x="5457960" y="2404800"/>
                  <a:ext cx="363240" cy="2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G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21"/>
                <p:cNvSpPr/>
                <p:nvPr/>
              </p:nvSpPr>
              <p:spPr>
                <a:xfrm>
                  <a:off x="4600440" y="1742760"/>
                  <a:ext cx="392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030a0"/>
                      </a:solidFill>
                      <a:latin typeface="Calibri"/>
                    </a:rPr>
                    <a:t>H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ectangle 23"/>
                <p:cNvSpPr/>
                <p:nvPr/>
              </p:nvSpPr>
              <p:spPr>
                <a:xfrm>
                  <a:off x="5994360" y="3295440"/>
                  <a:ext cx="393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B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24"/>
                <p:cNvSpPr/>
                <p:nvPr/>
              </p:nvSpPr>
              <p:spPr>
                <a:xfrm>
                  <a:off x="5002200" y="2274840"/>
                  <a:ext cx="47592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V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25"/>
                <p:cNvSpPr/>
                <p:nvPr/>
              </p:nvSpPr>
              <p:spPr>
                <a:xfrm>
                  <a:off x="4259160" y="1765080"/>
                  <a:ext cx="47448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JA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26"/>
                <p:cNvSpPr/>
                <p:nvPr/>
              </p:nvSpPr>
              <p:spPr>
                <a:xfrm>
                  <a:off x="5657760" y="2530440"/>
                  <a:ext cx="37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SU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Rectangle 27"/>
                <p:cNvSpPr/>
                <p:nvPr/>
              </p:nvSpPr>
              <p:spPr>
                <a:xfrm>
                  <a:off x="5380200" y="2104920"/>
                  <a:ext cx="47448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f7f7f"/>
                      </a:solidFill>
                      <a:latin typeface="Calibri"/>
                    </a:rPr>
                    <a:t>TT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28"/>
                <p:cNvSpPr/>
                <p:nvPr/>
              </p:nvSpPr>
              <p:spPr>
                <a:xfrm>
                  <a:off x="4506840" y="3295440"/>
                  <a:ext cx="39204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Rectangle 29"/>
                <p:cNvSpPr/>
                <p:nvPr/>
              </p:nvSpPr>
              <p:spPr>
                <a:xfrm>
                  <a:off x="5416560" y="4103640"/>
                  <a:ext cx="38232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P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Rectangle 30"/>
                <p:cNvSpPr/>
                <p:nvPr/>
              </p:nvSpPr>
              <p:spPr>
                <a:xfrm>
                  <a:off x="4143240" y="2381040"/>
                  <a:ext cx="412560" cy="18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PN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637240" y="4761000"/>
                  <a:ext cx="39204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77933c"/>
                      </a:solidFill>
                      <a:latin typeface="Calibri"/>
                    </a:rPr>
                    <a:t>UR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34"/>
                <p:cNvSpPr/>
                <p:nvPr/>
              </p:nvSpPr>
              <p:spPr>
                <a:xfrm>
                  <a:off x="4589280" y="2530440"/>
                  <a:ext cx="412560" cy="33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libri"/>
                    </a:rPr>
                    <a:t>CO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Rectangle 249"/>
                <p:cNvSpPr/>
                <p:nvPr/>
              </p:nvSpPr>
              <p:spPr>
                <a:xfrm>
                  <a:off x="3711600" y="2012760"/>
                  <a:ext cx="3283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70c0"/>
                      </a:solidFill>
                      <a:latin typeface="Calibri"/>
                    </a:rPr>
                    <a:t>ES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Rectangle 22"/>
              <p:cNvSpPr/>
              <p:nvPr/>
            </p:nvSpPr>
            <p:spPr>
              <a:xfrm>
                <a:off x="3824280" y="1869840"/>
                <a:ext cx="455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c0"/>
                    </a:solidFill>
                    <a:latin typeface="Calibri"/>
                  </a:rPr>
                  <a:t>HO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Rectangle 31"/>
            <p:cNvSpPr/>
            <p:nvPr/>
          </p:nvSpPr>
          <p:spPr>
            <a:xfrm>
              <a:off x="4049640" y="2190600"/>
              <a:ext cx="360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Calibri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19"/>
          <p:cNvSpPr/>
          <p:nvPr/>
        </p:nvSpPr>
        <p:spPr>
          <a:xfrm>
            <a:off x="3619440" y="1857240"/>
            <a:ext cx="412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Calibri"/>
              </a:rPr>
              <a:t>G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304920" y="3629160"/>
            <a:ext cx="152280" cy="152280"/>
            <a:chOff x="304920" y="3629160"/>
            <a:chExt cx="152280" cy="152280"/>
          </a:xfrm>
        </p:grpSpPr>
        <p:grpSp>
          <p:nvGrpSpPr>
            <p:cNvPr id="166" name="Oval 37"/>
            <p:cNvGrpSpPr/>
            <p:nvPr/>
          </p:nvGrpSpPr>
          <p:grpSpPr>
            <a:xfrm>
              <a:off x="304920" y="3629160"/>
              <a:ext cx="152280" cy="152280"/>
              <a:chOff x="304920" y="3629160"/>
              <a:chExt cx="152280" cy="152280"/>
            </a:xfrm>
          </p:grpSpPr>
          <p:pic>
            <p:nvPicPr>
              <p:cNvPr id="167" name="Oval 3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362916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357480" y="3661920"/>
                <a:ext cx="48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Straight Connector 38"/>
            <p:cNvSpPr/>
            <p:nvPr/>
          </p:nvSpPr>
          <p:spPr>
            <a:xfrm flipH="1">
              <a:off x="312480" y="3711960"/>
              <a:ext cx="44280" cy="4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59"/>
          <p:cNvGrpSpPr/>
          <p:nvPr/>
        </p:nvGrpSpPr>
        <p:grpSpPr>
          <a:xfrm>
            <a:off x="5257800" y="4876920"/>
            <a:ext cx="147600" cy="145800"/>
            <a:chOff x="5257800" y="4876920"/>
            <a:chExt cx="147600" cy="145800"/>
          </a:xfrm>
        </p:grpSpPr>
        <p:grpSp>
          <p:nvGrpSpPr>
            <p:cNvPr id="171" name="Oval 60"/>
            <p:cNvGrpSpPr/>
            <p:nvPr/>
          </p:nvGrpSpPr>
          <p:grpSpPr>
            <a:xfrm>
              <a:off x="5257800" y="4876920"/>
              <a:ext cx="147600" cy="145800"/>
              <a:chOff x="5257800" y="4876920"/>
              <a:chExt cx="147600" cy="145800"/>
            </a:xfrm>
          </p:grpSpPr>
          <p:pic>
            <p:nvPicPr>
              <p:cNvPr id="172" name="Oval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487692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06760" y="49075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Straight Connector 61"/>
            <p:cNvSpPr/>
            <p:nvPr/>
          </p:nvSpPr>
          <p:spPr>
            <a:xfrm flipH="1">
              <a:off x="5263560" y="49546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62"/>
          <p:cNvGrpSpPr/>
          <p:nvPr/>
        </p:nvGrpSpPr>
        <p:grpSpPr>
          <a:xfrm>
            <a:off x="6005520" y="3200400"/>
            <a:ext cx="147600" cy="146160"/>
            <a:chOff x="6005520" y="3200400"/>
            <a:chExt cx="147600" cy="146160"/>
          </a:xfrm>
        </p:grpSpPr>
        <p:grpSp>
          <p:nvGrpSpPr>
            <p:cNvPr id="176" name="Oval 63"/>
            <p:cNvGrpSpPr/>
            <p:nvPr/>
          </p:nvGrpSpPr>
          <p:grpSpPr>
            <a:xfrm>
              <a:off x="6005520" y="3200400"/>
              <a:ext cx="147600" cy="146160"/>
              <a:chOff x="6005520" y="3200400"/>
              <a:chExt cx="147600" cy="146160"/>
            </a:xfrm>
          </p:grpSpPr>
          <p:pic>
            <p:nvPicPr>
              <p:cNvPr id="177" name="Oval 6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3200400"/>
                <a:ext cx="14760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057000" y="32310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9" name="Straight Connector 64"/>
            <p:cNvSpPr/>
            <p:nvPr/>
          </p:nvSpPr>
          <p:spPr>
            <a:xfrm flipH="1">
              <a:off x="6013800" y="32781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65"/>
          <p:cNvGrpSpPr/>
          <p:nvPr/>
        </p:nvGrpSpPr>
        <p:grpSpPr>
          <a:xfrm>
            <a:off x="4724280" y="2486160"/>
            <a:ext cx="147600" cy="145800"/>
            <a:chOff x="4724280" y="2486160"/>
            <a:chExt cx="147600" cy="145800"/>
          </a:xfrm>
        </p:grpSpPr>
        <p:grpSp>
          <p:nvGrpSpPr>
            <p:cNvPr id="181" name="Oval 66"/>
            <p:cNvGrpSpPr/>
            <p:nvPr/>
          </p:nvGrpSpPr>
          <p:grpSpPr>
            <a:xfrm>
              <a:off x="4724280" y="2486160"/>
              <a:ext cx="147600" cy="145800"/>
              <a:chOff x="4724280" y="2486160"/>
              <a:chExt cx="147600" cy="145800"/>
            </a:xfrm>
          </p:grpSpPr>
          <p:pic>
            <p:nvPicPr>
              <p:cNvPr id="182" name="Oval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2486160"/>
                <a:ext cx="147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775040" y="251568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Straight Connector 67"/>
            <p:cNvSpPr/>
            <p:nvPr/>
          </p:nvSpPr>
          <p:spPr>
            <a:xfrm flipH="1">
              <a:off x="4731840" y="256284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68"/>
          <p:cNvGrpSpPr/>
          <p:nvPr/>
        </p:nvGrpSpPr>
        <p:grpSpPr>
          <a:xfrm>
            <a:off x="4538520" y="3218040"/>
            <a:ext cx="147960" cy="145800"/>
            <a:chOff x="4538520" y="3218040"/>
            <a:chExt cx="147960" cy="145800"/>
          </a:xfrm>
        </p:grpSpPr>
        <p:grpSp>
          <p:nvGrpSpPr>
            <p:cNvPr id="186" name="Oval 69"/>
            <p:cNvGrpSpPr/>
            <p:nvPr/>
          </p:nvGrpSpPr>
          <p:grpSpPr>
            <a:xfrm>
              <a:off x="4538520" y="3218040"/>
              <a:ext cx="147960" cy="145800"/>
              <a:chOff x="4538520" y="3218040"/>
              <a:chExt cx="147960" cy="145800"/>
            </a:xfrm>
          </p:grpSpPr>
          <p:pic>
            <p:nvPicPr>
              <p:cNvPr id="187" name="Oval 69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8520" y="3218040"/>
                <a:ext cx="14796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587480" y="324792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Straight Connector 70"/>
            <p:cNvSpPr/>
            <p:nvPr/>
          </p:nvSpPr>
          <p:spPr>
            <a:xfrm flipH="1">
              <a:off x="4544280" y="3295080"/>
              <a:ext cx="42840" cy="42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221"/>
          <p:cNvSpPr/>
          <p:nvPr/>
        </p:nvSpPr>
        <p:spPr>
          <a:xfrm>
            <a:off x="571680" y="3429000"/>
            <a:ext cx="33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Countries –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complet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ub-nation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lev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89"/>
          <p:cNvSpPr/>
          <p:nvPr/>
        </p:nvSpPr>
        <p:spPr>
          <a:xfrm>
            <a:off x="31680" y="6392880"/>
            <a:ext cx="34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s-ES_tradnl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PEFA.org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, as of November 19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Rectangle 182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193" name="Rectangle 182" descr=""/>
            <p:cNvPicPr/>
            <p:nvPr/>
          </p:nvPicPr>
          <p:blipFill>
            <a:blip r:embed="rId8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ounded Rectangle 124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196" name="Rounded Rectangle 124" descr=""/>
            <p:cNvPicPr/>
            <p:nvPr/>
          </p:nvPicPr>
          <p:blipFill>
            <a:blip r:embed="rId9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pleted and Planned PEFAs in the LAC Region – Sub-national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TextBox 125"/>
          <p:cNvGrpSpPr/>
          <p:nvPr/>
        </p:nvGrpSpPr>
        <p:grpSpPr>
          <a:xfrm>
            <a:off x="6638760" y="884160"/>
            <a:ext cx="2249640" cy="822240"/>
            <a:chOff x="6638760" y="884160"/>
            <a:chExt cx="2249640" cy="822240"/>
          </a:xfrm>
        </p:grpSpPr>
        <p:pic>
          <p:nvPicPr>
            <p:cNvPr id="199" name="TextBox 125" descr=""/>
            <p:cNvPicPr/>
            <p:nvPr/>
          </p:nvPicPr>
          <p:blipFill>
            <a:blip r:embed="rId10"/>
            <a:stretch/>
          </p:blipFill>
          <p:spPr>
            <a:xfrm>
              <a:off x="6638760" y="884160"/>
              <a:ext cx="224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737400" y="94608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6 IDB Borrowing Member Countri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ounded Rectangle 16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02" name="Rounded Rectangle 161" descr=""/>
            <p:cNvPicPr/>
            <p:nvPr/>
          </p:nvPicPr>
          <p:blipFill>
            <a:blip r:embed="rId11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130" descr=""/>
          <p:cNvPicPr/>
          <p:nvPr/>
        </p:nvPicPr>
        <p:blipFill>
          <a:blip r:embed="rId12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8"/>
          <p:cNvGrpSpPr/>
          <p:nvPr/>
        </p:nvGrpSpPr>
        <p:grpSpPr>
          <a:xfrm>
            <a:off x="4248000" y="1828800"/>
            <a:ext cx="147960" cy="146160"/>
            <a:chOff x="4248000" y="1828800"/>
            <a:chExt cx="147960" cy="146160"/>
          </a:xfrm>
        </p:grpSpPr>
        <p:grpSp>
          <p:nvGrpSpPr>
            <p:cNvPr id="206" name="Oval 178"/>
            <p:cNvGrpSpPr/>
            <p:nvPr/>
          </p:nvGrpSpPr>
          <p:grpSpPr>
            <a:xfrm>
              <a:off x="4248000" y="1828800"/>
              <a:ext cx="147960" cy="146160"/>
              <a:chOff x="4248000" y="1828800"/>
              <a:chExt cx="147960" cy="146160"/>
            </a:xfrm>
          </p:grpSpPr>
          <p:pic>
            <p:nvPicPr>
              <p:cNvPr id="207" name="Oval 17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48000" y="1828800"/>
                <a:ext cx="14796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298400" y="1859400"/>
                <a:ext cx="46800" cy="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9" name="Straight Connector 70"/>
            <p:cNvSpPr/>
            <p:nvPr/>
          </p:nvSpPr>
          <p:spPr>
            <a:xfrm flipH="1">
              <a:off x="4255200" y="1906560"/>
              <a:ext cx="42840" cy="43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Group 36" descr=""/>
          <p:cNvPicPr/>
          <p:nvPr/>
        </p:nvPicPr>
        <p:blipFill>
          <a:blip r:embed="rId14"/>
          <a:stretch/>
        </p:blipFill>
        <p:spPr>
          <a:xfrm>
            <a:off x="324000" y="4340160"/>
            <a:ext cx="218880" cy="212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587520" y="43038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Country – 2 Sub-national PEFAs </a:t>
            </a:r>
            <a:r>
              <a:rPr b="1" lang="en-US" sz="1400" spc="-1" strike="noStrike">
                <a:solidFill>
                  <a:srgbClr val="0070c0"/>
                </a:solidFill>
                <a:latin typeface="Calibri"/>
              </a:rPr>
              <a:t>planned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Group 36" descr=""/>
          <p:cNvPicPr/>
          <p:nvPr/>
        </p:nvPicPr>
        <p:blipFill>
          <a:blip r:embed="rId15"/>
          <a:stretch/>
        </p:blipFill>
        <p:spPr>
          <a:xfrm>
            <a:off x="4645080" y="3181320"/>
            <a:ext cx="22536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14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1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2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Rounded Rectangle 7"/>
          <p:cNvGrpSpPr/>
          <p:nvPr/>
        </p:nvGrpSpPr>
        <p:grpSpPr>
          <a:xfrm>
            <a:off x="1219320" y="1695600"/>
            <a:ext cx="6370560" cy="3314520"/>
            <a:chOff x="1219320" y="1695600"/>
            <a:chExt cx="6370560" cy="3314520"/>
          </a:xfrm>
        </p:grpSpPr>
        <p:pic>
          <p:nvPicPr>
            <p:cNvPr id="223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1219320" y="1695600"/>
              <a:ext cx="6370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5400000">
              <a:off x="3057840" y="452880"/>
              <a:ext cx="2751120" cy="57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45720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s a Donor, PEFAs help the IDB i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5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1600200" y="2075040"/>
            <a:ext cx="5894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ing a basis f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alogu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the country (one of several inputs to country strategi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a quick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overvie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a country’s Public Financial Management Syste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ing the progress of Bank-financed reforms through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onitoring of selected indicato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moting bette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ordination/harmoniz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ith other don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ounded Rectangle 1"/>
          <p:cNvSpPr/>
          <p:nvPr/>
        </p:nvSpPr>
        <p:spPr>
          <a:xfrm>
            <a:off x="843120" y="5334120"/>
            <a:ext cx="73659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EFA has gained importance to the IDB and the Region as a starting point for discussions related to the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se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d reliance on)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country PFM systems for IDB-financed projects and PFM re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2"/>
          <p:cNvSpPr/>
          <p:nvPr/>
        </p:nvSpPr>
        <p:spPr>
          <a:xfrm flipH="1">
            <a:off x="1990800" y="1352520"/>
            <a:ext cx="5153040" cy="5200560"/>
          </a:xfrm>
          <a:prstGeom prst="ellips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2"/>
          <p:cNvSpPr/>
          <p:nvPr/>
        </p:nvSpPr>
        <p:spPr>
          <a:xfrm flipH="1">
            <a:off x="2444760" y="1808280"/>
            <a:ext cx="4238640" cy="4273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9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32" name="Rectangle 9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ounded Rectangle 10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3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- IDB Use of PEFA Resul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ounded Rectangle 11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38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1"/>
          <p:cNvGrpSpPr/>
          <p:nvPr/>
        </p:nvGrpSpPr>
        <p:grpSpPr>
          <a:xfrm>
            <a:off x="2819520" y="2248560"/>
            <a:ext cx="3677760" cy="3524760"/>
            <a:chOff x="2819520" y="2248560"/>
            <a:chExt cx="3677760" cy="3524760"/>
          </a:xfrm>
        </p:grpSpPr>
        <p:sp>
          <p:nvSpPr>
            <p:cNvPr id="241" name="Oval 12"/>
            <p:cNvSpPr/>
            <p:nvPr/>
          </p:nvSpPr>
          <p:spPr>
            <a:xfrm flipH="1">
              <a:off x="2930400" y="2360520"/>
              <a:ext cx="3246480" cy="31528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13"/>
            <p:cNvSpPr/>
            <p:nvPr/>
          </p:nvSpPr>
          <p:spPr>
            <a:xfrm flipH="1">
              <a:off x="3610800" y="3040200"/>
              <a:ext cx="1870200" cy="18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 rot="10249800">
              <a:off x="4533840" y="4674600"/>
              <a:ext cx="504720" cy="1065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 flipH="1" rot="12465600">
              <a:off x="4708800" y="2296800"/>
              <a:ext cx="487080" cy="112860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 flipH="1" rot="3199800">
              <a:off x="3232080" y="4047480"/>
              <a:ext cx="488880" cy="1176120"/>
            </a:xfrm>
            <a:custGeom>
              <a:avLst/>
              <a:gdLst>
                <a:gd name="textAreaLeft" fmla="*/ 360 w 488880"/>
                <a:gd name="textAreaRight" fmla="*/ 489600 w 4888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9"/>
            <p:cNvSpPr/>
            <p:nvPr/>
          </p:nvSpPr>
          <p:spPr>
            <a:xfrm rot="18475200">
              <a:off x="3288960" y="2774880"/>
              <a:ext cx="490320" cy="1039680"/>
            </a:xfrm>
            <a:custGeom>
              <a:avLst/>
              <a:gdLst>
                <a:gd name="textAreaLeft" fmla="*/ 0 w 490320"/>
                <a:gd name="textAreaRight" fmla="*/ 490680 w 49032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flipH="1" rot="16668600">
              <a:off x="5630040" y="3523320"/>
              <a:ext cx="492120" cy="11862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3675"/>
                  </a:moveTo>
                  <a:lnTo>
                    <a:pt x="0" y="0"/>
                  </a:lnTo>
                  <a:lnTo>
                    <a:pt x="21600" y="10731"/>
                  </a:lnTo>
                  <a:lnTo>
                    <a:pt x="0" y="21600"/>
                  </a:lnTo>
                  <a:lnTo>
                    <a:pt x="0" y="17787"/>
                  </a:lnTo>
                </a:path>
              </a:pathLst>
            </a:custGeom>
            <a:solidFill>
              <a:srgbClr val="c00000"/>
            </a:solidFill>
            <a:ln w="1908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TextBox 24"/>
            <p:cNvSpPr/>
            <p:nvPr/>
          </p:nvSpPr>
          <p:spPr>
            <a:xfrm>
              <a:off x="3538440" y="2511360"/>
              <a:ext cx="111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comple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25"/>
            <p:cNvSpPr/>
            <p:nvPr/>
          </p:nvSpPr>
          <p:spPr>
            <a:xfrm>
              <a:off x="3718080" y="4820040"/>
              <a:ext cx="7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desig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26"/>
            <p:cNvSpPr/>
            <p:nvPr/>
          </p:nvSpPr>
          <p:spPr>
            <a:xfrm>
              <a:off x="4972320" y="4608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7"/>
            <p:cNvSpPr/>
            <p:nvPr/>
          </p:nvSpPr>
          <p:spPr>
            <a:xfrm>
              <a:off x="5322960" y="3106800"/>
              <a:ext cx="90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28"/>
            <p:cNvSpPr/>
            <p:nvPr/>
          </p:nvSpPr>
          <p:spPr>
            <a:xfrm>
              <a:off x="2819520" y="3819600"/>
              <a:ext cx="96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Project execu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30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5"/>
          <p:cNvSpPr/>
          <p:nvPr/>
        </p:nvSpPr>
        <p:spPr>
          <a:xfrm>
            <a:off x="5943600" y="4191120"/>
            <a:ext cx="2286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Dialog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685800" y="2819520"/>
            <a:ext cx="25322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progress and adv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3873600" y="1598760"/>
            <a:ext cx="136512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a6a6a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ing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244440" y="1136520"/>
            <a:ext cx="273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DB use in country strategy, programming and project cyc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TextBox 5" descr=""/>
          <p:cNvPicPr/>
          <p:nvPr/>
        </p:nvPicPr>
        <p:blipFill>
          <a:blip r:embed="rId5"/>
          <a:stretch/>
        </p:blipFill>
        <p:spPr>
          <a:xfrm>
            <a:off x="5522760" y="1189080"/>
            <a:ext cx="2914920" cy="1077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152280" y="5773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and use of Country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TextBox 33" descr=""/>
          <p:cNvPicPr/>
          <p:nvPr/>
        </p:nvPicPr>
        <p:blipFill>
          <a:blip r:embed="rId6"/>
          <a:stretch/>
        </p:blipFill>
        <p:spPr>
          <a:xfrm>
            <a:off x="6381720" y="5529240"/>
            <a:ext cx="23050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62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65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6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71" name="TextBox 17"/>
          <p:cNvGrpSpPr/>
          <p:nvPr/>
        </p:nvGrpSpPr>
        <p:grpSpPr>
          <a:xfrm>
            <a:off x="195120" y="1573200"/>
            <a:ext cx="8547120" cy="4572000"/>
            <a:chOff x="195120" y="1573200"/>
            <a:chExt cx="8547120" cy="4572000"/>
          </a:xfrm>
        </p:grpSpPr>
        <p:pic>
          <p:nvPicPr>
            <p:cNvPr id="272" name="TextBox 17" descr=""/>
            <p:cNvPicPr/>
            <p:nvPr/>
          </p:nvPicPr>
          <p:blipFill>
            <a:blip r:embed="rId5"/>
            <a:stretch/>
          </p:blipFill>
          <p:spPr>
            <a:xfrm>
              <a:off x="195120" y="1573200"/>
              <a:ext cx="8547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71600" y="1817640"/>
              <a:ext cx="7993080" cy="39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Expectations management and current PEFA framework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Uneducated readers sometime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isinterpret PEFA scope and resul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hinking that it is a diagnostic reflecting country performance rather than a measurement against indicators and international standards and best practice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onors often requir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ditional, more in-depth information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(from a fiduciary perspective) than what the PEFA provides, to determine the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u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f country system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, resulting in additional work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diagnostic fatigu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fforts to make the PEFA consistent, straightforward and quantitative, have resulted in: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a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spects not always being considered or the methodology not as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daptable to “non-traditional” situation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(also relates to point below regarding consultant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clusion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ID-19 related to Procu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continues to present challenges for the technical team in coordination, receiving timely data, overlap with MAPS, etc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Translation of implementing guidanc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into Spanish could be more timely and comple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Rectangle 8"/>
          <p:cNvGrpSpPr/>
          <p:nvPr/>
        </p:nvGrpSpPr>
        <p:grpSpPr>
          <a:xfrm>
            <a:off x="1432080" y="212760"/>
            <a:ext cx="6810120" cy="568440"/>
            <a:chOff x="1432080" y="212760"/>
            <a:chExt cx="6810120" cy="568440"/>
          </a:xfrm>
        </p:grpSpPr>
        <p:pic>
          <p:nvPicPr>
            <p:cNvPr id="275" name="Rectangle 8" descr=""/>
            <p:cNvPicPr/>
            <p:nvPr/>
          </p:nvPicPr>
          <p:blipFill>
            <a:blip r:embed="rId1"/>
            <a:stretch/>
          </p:blipFill>
          <p:spPr>
            <a:xfrm>
              <a:off x="1432080" y="212760"/>
              <a:ext cx="6810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447920" y="228600"/>
              <a:ext cx="6781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EFA IN THE REGION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ounded Rectangle 9"/>
          <p:cNvGrpSpPr/>
          <p:nvPr/>
        </p:nvGrpSpPr>
        <p:grpSpPr>
          <a:xfrm>
            <a:off x="1407960" y="201600"/>
            <a:ext cx="7491600" cy="663480"/>
            <a:chOff x="1407960" y="201600"/>
            <a:chExt cx="7491600" cy="663480"/>
          </a:xfrm>
        </p:grpSpPr>
        <p:pic>
          <p:nvPicPr>
            <p:cNvPr id="278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407960" y="201600"/>
              <a:ext cx="74916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492200" y="254160"/>
              <a:ext cx="7321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EFAs in the LAC Region – the IDB’s Experience – Points to Consider (cont.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Rounded Rectangle 10"/>
          <p:cNvGrpSpPr/>
          <p:nvPr/>
        </p:nvGrpSpPr>
        <p:grpSpPr>
          <a:xfrm>
            <a:off x="244440" y="201600"/>
            <a:ext cx="1266840" cy="646200"/>
            <a:chOff x="244440" y="201600"/>
            <a:chExt cx="1266840" cy="646200"/>
          </a:xfrm>
        </p:grpSpPr>
        <p:pic>
          <p:nvPicPr>
            <p:cNvPr id="28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244440" y="201600"/>
              <a:ext cx="1266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0120" y="254160"/>
              <a:ext cx="10922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7" descr=""/>
          <p:cNvPicPr/>
          <p:nvPr/>
        </p:nvPicPr>
        <p:blipFill>
          <a:blip r:embed="rId4"/>
          <a:stretch/>
        </p:blipFill>
        <p:spPr>
          <a:xfrm>
            <a:off x="438120" y="341280"/>
            <a:ext cx="878040" cy="3110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3"/>
          <p:cNvGrpSpPr/>
          <p:nvPr/>
        </p:nvGrpSpPr>
        <p:grpSpPr>
          <a:xfrm>
            <a:off x="347760" y="3859200"/>
            <a:ext cx="8551800" cy="1236600"/>
            <a:chOff x="347760" y="3859200"/>
            <a:chExt cx="8551800" cy="1236600"/>
          </a:xfrm>
        </p:grpSpPr>
        <p:pic>
          <p:nvPicPr>
            <p:cNvPr id="285" name="TextBox 13" descr=""/>
            <p:cNvPicPr/>
            <p:nvPr/>
          </p:nvPicPr>
          <p:blipFill>
            <a:blip r:embed="rId5"/>
            <a:stretch/>
          </p:blipFill>
          <p:spPr>
            <a:xfrm>
              <a:off x="347760" y="3859200"/>
              <a:ext cx="8551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5120" y="3941640"/>
              <a:ext cx="83185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Consultants and quality of the proces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election of consultants is critical, in terms of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applicable technical expertise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the ability to produce a timely and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quality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report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TextBox 16"/>
          <p:cNvGrpSpPr/>
          <p:nvPr/>
        </p:nvGrpSpPr>
        <p:grpSpPr>
          <a:xfrm>
            <a:off x="378000" y="1573200"/>
            <a:ext cx="8553240" cy="1951200"/>
            <a:chOff x="378000" y="1573200"/>
            <a:chExt cx="8553240" cy="1951200"/>
          </a:xfrm>
        </p:grpSpPr>
        <p:pic>
          <p:nvPicPr>
            <p:cNvPr id="288" name="TextBox 16" descr=""/>
            <p:cNvPicPr/>
            <p:nvPr/>
          </p:nvPicPr>
          <p:blipFill>
            <a:blip r:embed="rId6"/>
            <a:stretch/>
          </p:blipFill>
          <p:spPr>
            <a:xfrm>
              <a:off x="378000" y="1573200"/>
              <a:ext cx="855324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30280" y="1690560"/>
              <a:ext cx="82501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70c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Calibri"/>
                </a:rPr>
                <a:t>Length of the process and sharing preliminary resul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rocess can be too long, resulting in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greater costs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o the government and donors and a report that becomes quickly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outdate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f donor not part of PEFA exercise and report not published, donor </a:t>
              </a:r>
              <a:r>
                <a:rPr b="1" lang="en-US" sz="1400" spc="-1" strike="noStrike">
                  <a:solidFill>
                    <a:srgbClr val="0070c0"/>
                  </a:solidFill>
                  <a:latin typeface="Calibri"/>
                </a:rPr>
                <a:t>may never see the result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nd need to perform additional work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8" descr="logofinal power point"/>
          <p:cNvPicPr/>
          <p:nvPr/>
        </p:nvPicPr>
        <p:blipFill>
          <a:blip r:embed="rId1"/>
          <a:stretch/>
        </p:blipFill>
        <p:spPr>
          <a:xfrm>
            <a:off x="2876400" y="2819520"/>
            <a:ext cx="3276720" cy="183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fontfinal"/>
          <p:cNvPicPr/>
          <p:nvPr/>
        </p:nvPicPr>
        <p:blipFill>
          <a:blip r:embed="rId2"/>
          <a:stretch/>
        </p:blipFill>
        <p:spPr>
          <a:xfrm>
            <a:off x="1951200" y="4352760"/>
            <a:ext cx="5357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6:01:05Z</dcterms:created>
  <dc:creator>PilarLocano</dc:creator>
  <dc:description/>
  <dc:language>en-US</dc:language>
  <cp:lastModifiedBy>Inter-American Development Bank</cp:lastModifiedBy>
  <cp:lastPrinted>2012-11-30T22:18:06Z</cp:lastPrinted>
  <dcterms:modified xsi:type="dcterms:W3CDTF">2012-11-30T22:36:38Z</dcterms:modified>
  <cp:revision>294</cp:revision>
  <dc:subject/>
  <dc:title>Slide 1</dc:title>
</cp:coreProperties>
</file>