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1A9F-FE92-4810-9556-DFF38511B7F5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E8BC-6C7D-4D81-8149-444782D67F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F24C-C778-4D70-8325-DC3CF4DCA6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2D9E-DA9B-4610-AC82-C67AA8A4F9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E3D9-2A0A-4B5C-9A82-ECC5B725ED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4A4B-3008-4D5B-AB53-1827B8C1FD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491E-CE5A-4769-B837-7090CFD317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1548-25DD-49AD-A066-645309439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7846-0BD2-43A7-9416-C2E5C81C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8543-BFAF-4740-9396-C4F14006F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00C5-F703-4E2E-90C3-D3860F4F9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C5343-5031-4C05-811A-1683E04A6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D01B-4585-40EC-AE89-F39075CD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3358-3943-4EA9-B3C6-95332077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098A-2E2C-4544-BD3D-391EF0A8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0F66-CF1A-4B81-A849-19A00549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4D82-2435-4ED7-8307-DF6CD9EA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9210-AEF8-43ED-863D-A46560A6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3E39-A58C-4609-8CB5-8D381A36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FB3A-FA3B-49DC-B604-174B5757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05AD-21AB-40FB-A83F-AA16A3D6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1BFA6-15D5-4956-9B30-EA9B15B6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C787-C0E3-410F-9ED6-2CE827F47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58F19-4A72-4701-878B-B3F40C747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2DEB-DEFF-4091-9CA5-014D1CF4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5C11-E82F-47B4-8ECF-3D9C800C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A6FF-49CD-4233-9BA5-87252759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D654-BC62-4690-851A-E5CA356E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5156-8CBF-4B0B-A812-7EC539C4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2C50-D697-4920-B1D7-22A1B54A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A45D-1775-4B57-B4E0-FBCF37FA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D9C0-CC27-42B8-92CA-BCA57BEA47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Line 19"/>
          <p:cNvSpPr/>
          <p:nvPr/>
        </p:nvSpPr>
        <p:spPr>
          <a:xfrm>
            <a:off x="4253040" y="123660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22" descr="Picture2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3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1128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6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7" name="Line 22"/>
          <p:cNvSpPr/>
          <p:nvPr/>
        </p:nvSpPr>
        <p:spPr>
          <a:xfrm>
            <a:off x="4253040" y="123336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8" name="Picture 26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48000" cy="26856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77F7-8F84-4B39-A8DD-EDA2D718C34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280" y="1628280"/>
            <a:ext cx="748836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Round Table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Donors Experience with PEFA Assessments in Latin America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83680" y="4005000"/>
            <a:ext cx="8533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Workshop PEFA in Latin America: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Seven Years of Implement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Brussels, 4th December 2012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Chairperson: Jose Correia Nunes - EUROPEAID - UNIT A2: Budget Support, Public Finance and Macroeconomic Analysis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F612-19ED-4731-BFB4-12B77159AC05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Panelis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51"/>
              </a:spcBef>
              <a:buClr>
                <a:srgbClr val="0f54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rs Falkner-Olmedo – Inter-American Development Bank – Chief of the Operations Financial Management and Procurement Services Offic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0f54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r Balakrishnan – World Bank – Latin America and Caribbean Manager at Financial Management Sector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0f54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r Pessoa - IMF – Deputy Division Chief at the PFM Division of the Fiscal Affairs Department.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0f54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r Salinas – EuropeAid – Coordinator Budget Support Operations at Latin America and Caribbean Directorat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484D-976A-441A-AE93-9B5656FB020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2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Discussions of this round table will cover two topics</a:t>
            </a:r>
            <a:br>
              <a:rPr sz="3200"/>
            </a:b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Development partners' experience from PEFA assessments to PFM reforms.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How the experience on PEFA repeat assessments has been used to measure progress and support PFM reforms?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B92D-9057-433E-95CC-482E64FFA35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12 countries in LAC region have seen changes in CPIA ratings for PFM for the period 2001-2011.</a:t>
            </a: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2184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        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Source: World Bank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3243-6B92-4D91-9E2C-AD9640F4D0F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012680" y="2421000"/>
            <a:ext cx="694404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920" y="105264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3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5494"/>
                </a:solidFill>
                <a:latin typeface="Verdana"/>
              </a:rPr>
              <a:t>Out of 75 PEFA assessments in the region since 2006 the EU has been involved in 40 assessments</a:t>
            </a: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AAB9-2965-458F-AE1A-211FC11DEB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06280" y="2060640"/>
          <a:ext cx="8686800" cy="3922560"/>
        </p:xfrm>
        <a:graphic>
          <a:graphicData uri="http://schemas.openxmlformats.org/drawingml/2006/table">
            <a:tbl>
              <a:tblPr/>
              <a:tblGrid>
                <a:gridCol w="1868760"/>
                <a:gridCol w="1063440"/>
                <a:gridCol w="892080"/>
                <a:gridCol w="841320"/>
                <a:gridCol w="1571760"/>
                <a:gridCol w="717480"/>
                <a:gridCol w="890640"/>
                <a:gridCol w="841320"/>
              </a:tblGrid>
              <a:tr h="7030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ng agencie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 on the cover of report/Planned for completion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ng agencie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 on the cover of report/Planned for completion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311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uilla (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08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maic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, WB, DFID, IMF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ed/Ongoing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uba (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h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8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maic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, DFID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-07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6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bado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serrat (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FID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08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bado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gua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, 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-11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ize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, 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u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1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-07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u – Chiclayo Municipalit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, 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312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u – Gobierno Regional Amazona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, 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n Re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Kitts &amp; Nevi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-07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6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n Re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-07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Kitts &amp; Nevi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n Re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Luci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4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uador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Luci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Salvador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Vincent and Grenadine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nad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nidad and Tobago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nad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nidad and Tobago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-08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4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iti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ks and Caicos Islands (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ndura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ugua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, 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-11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EU heavily involved in supporting PFM reforms in the reg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826920" y="1773360"/>
          <a:ext cx="7490160" cy="4938480"/>
        </p:xfrm>
        <a:graphic>
          <a:graphicData uri="http://schemas.openxmlformats.org/drawingml/2006/table">
            <a:tbl>
              <a:tblPr/>
              <a:tblGrid>
                <a:gridCol w="3745080"/>
                <a:gridCol w="374508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ocus of suppor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Bolivia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Expenditure Manag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Colombia (pipeline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Fight against corrupt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Costa Rica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Civil society oversight of the budge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Dominican Republic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Public procur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Ecuador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nformation Management System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El Salvador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Fiscal Manag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Guatemala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Budget Manag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Hondura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Budget Manag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Nicaragua (pipeline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Tax reform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Paraguay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Tax reform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Peru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Support to </a:t>
                      </a: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reform</a:t>
                      </a:r>
                      <a:r>
                        <a:rPr b="0" lang="fr-BE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 programme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1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3D8B-100F-4A8D-AC7E-18F2E19CC7A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bcasado</cp:lastModifiedBy>
  <cp:lastPrinted>2012-12-03T18:16:55Z</cp:lastPrinted>
  <dcterms:modified xsi:type="dcterms:W3CDTF">2012-12-04T17:24:39Z</dcterms:modified>
  <cp:revision>333</cp:revision>
  <dc:subject/>
  <dc:title>Slide 1</dc:title>
</cp:coreProperties>
</file>