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6754-5BF5-4302-9261-E6F5610BDC6F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E67F-5791-412C-917C-B43FD90FE7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0C69-0C19-4EA1-BAB2-AF1205748F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21DD-C9AB-471A-B3C2-028C51E901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02E6-86CF-485B-A6EE-EF167FB33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90CA-EA8D-4ECE-8CCE-82B094F5EA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510B-23A9-4E83-B0F5-959095FEEB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723-1A9A-4C47-BF7D-BC4D9F57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AE8-A06D-4F0D-9B04-78422A6F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D2C-5096-40E3-805C-9795FFF3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EAA-AA66-4EB8-A4CA-CA0CA914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0392-9646-410B-8532-81A349ED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F06D-74B0-497A-BB22-C13014A2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B123-2526-4156-BD1F-06EC8E22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A9D3-3EC2-4F1D-9A2C-CE6B153B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3357-B4F4-48B8-AFD4-0F468A9A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70FC-C761-4C3E-A2AE-061F852D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0E67-0CBF-47C4-9B4C-DDC48E91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B6B-9384-401B-9AFF-23F02AC9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AB7C-E904-4A4A-99A3-DABCA1F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0342-A12E-45CF-9D96-6D32B16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B714-8B1F-4ADF-861E-0EF76C4A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6F4A-AE44-45C6-8222-85EB4C50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CE77-AB64-4252-9A70-1EF76781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94C-6C9C-4D15-976F-BF340F24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8B6-FF40-4B34-B035-1FBBF691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EB2-592A-4F86-A8B1-1B96C17C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590-6974-4B70-9335-38055FF3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14A-C49A-4B62-B3CC-28B431C4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CC4-E749-4337-833B-3ECE0081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80E-CC8D-4F28-9B41-3713F52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4B5A-2CC5-4830-9EEA-E5D8540B6D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4D20-9CCE-4EDD-B173-79DB5322B9C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4883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Round Table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Donors Experience with PEFA Assessments in Latin America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3680" y="4005000"/>
            <a:ext cx="853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Workshop PEFA in Latin America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Seven Years of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Brussels, 4th December 2012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Chairperson: Jose Correia Nunes - EUROPEAID - UNIT A2: Budget Support, Public Finance and Macroeconomic Analysi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72D5-9DD7-4CE5-A94D-D53E84717C59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anelis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s Falkner-Olmedo – Inter-American Development Bank – Chief of the Operations Financial Management and Procurement Services Offi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Balakrishnan – World Bank – Latin America and Caribbean Manager at Financial Manage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Pessoa - IMF – Deputy Division Chief at the PFM Division of the Fiscal Affairs Department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0f54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r Salinas – EuropeAid – Coordinator Budget Support Operations at Latin America and Caribbean Directorat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FD2A-4440-4BE3-806A-8B25C3CFCB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iscussions of this round table will cover two topics</a:t>
            </a:r>
            <a:br>
              <a:rPr sz="3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elopment partners' experience from PEFA assessments to PFM reforms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the experience on PEFA repeat assessments has been used to measure progress and support PFM reforms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7019-4E5B-4BE7-8F5C-BE740E015B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2 countries in LAC region have seen changes in CPIA ratings for PFM for the period 2001-2011.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      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Source: World Bank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23C7-1E5A-4DD3-8079-17EB7FA1B8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12680" y="2421000"/>
            <a:ext cx="6944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3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5494"/>
                </a:solidFill>
                <a:latin typeface="Verdana"/>
              </a:rPr>
              <a:t>Out of 75 PEFA assessments in the region since 2006 the EU has been involved in 40 assessment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B13E-15E2-45B0-B3E6-ABD3D8BE3F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6280" y="2060640"/>
          <a:ext cx="8686800" cy="3922560"/>
        </p:xfrm>
        <a:graphic>
          <a:graphicData uri="http://schemas.openxmlformats.org/drawingml/2006/table">
            <a:tbl>
              <a:tblPr/>
              <a:tblGrid>
                <a:gridCol w="1868760"/>
                <a:gridCol w="1063440"/>
                <a:gridCol w="892080"/>
                <a:gridCol w="841320"/>
                <a:gridCol w="1571760"/>
                <a:gridCol w="717480"/>
                <a:gridCol w="890640"/>
                <a:gridCol w="841320"/>
              </a:tblGrid>
              <a:tr h="703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agenci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n the cover of report/Planned for completion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1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ill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, DFID, IMF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/Ongoing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ba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serrat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ID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do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ze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Chiclayo Municipalit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312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 – Gobierno Regional Amazon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, 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07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Kitts &amp; Nevi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can Re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Luci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alvador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. Vincent and Grenadine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06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nada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10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dad and Tobago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08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b3d7"/>
                    </a:solidFill>
                  </a:tcPr>
                </a:tc>
              </a:tr>
              <a:tr h="174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s and Caicos Islands (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-12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B, ID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-09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B, WB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1</a:t>
                      </a:r>
                      <a:endParaRPr b="0" lang="en-US" sz="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U heavily involved in supporting PFM reforms in the reg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26920" y="1773360"/>
          <a:ext cx="7490160" cy="4938480"/>
        </p:xfrm>
        <a:graphic>
          <a:graphicData uri="http://schemas.openxmlformats.org/drawingml/2006/table">
            <a:tbl>
              <a:tblPr/>
              <a:tblGrid>
                <a:gridCol w="3745080"/>
                <a:gridCol w="3745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cus of suppor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xpenditure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lombi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ght against corrup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ivil society oversight of the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Dominican Republ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ublic procur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cu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Information Management Syste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 Salvador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Fiscal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Hondura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caragua (pipeline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aragu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Tax reform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Peru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Support to </a:t>
                      </a:r>
                      <a:r>
                        <a:rPr b="0" lang="en-GB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reform</a:t>
                      </a:r>
                      <a:r>
                        <a:rPr b="0" lang="fr-BE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rogramm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8990-848D-4D55-87AF-BE94BC7EC2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casado</cp:lastModifiedBy>
  <cp:lastPrinted>2012-12-03T18:16:55Z</cp:lastPrinted>
  <dcterms:modified xsi:type="dcterms:W3CDTF">2012-12-04T17:24:39Z</dcterms:modified>
  <cp:revision>333</cp:revision>
  <dc:subject/>
  <dc:title>Slide 1</dc:title>
</cp:coreProperties>
</file>