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429-CA3A-4D0C-A8DB-EF074EE8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3C7-FE78-448F-9D09-AF6A494B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4DC-7DB0-4EAC-8890-00F94C97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ACE-4C26-4E40-A61B-8C2CE47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BA12-0C0B-4C2F-A54C-01C56596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2C0D-F2B5-41D4-B71A-C5BB2EE4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AAAE-FB91-42E6-9B6A-9E6191DA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02A7-FA2C-4632-B7E9-55B30CC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8CE-143D-4AE8-9B6C-92C3AE2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4BC-8CAA-4AE2-913E-6971D905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E418-59B4-46AA-981E-7F2EAA0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C7A-16FD-4BCB-9C2C-7FFD250B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A1B-69E7-4FC2-AED7-96603FE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0C4-6229-40AF-A7D1-5755391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AEB-066D-4E7D-BB65-D64D2F9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84BA-1720-4746-A83C-4578C7F9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98B3-32AE-4F24-83C9-33808FD9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64C-B4D6-444C-BB28-04D55FF0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AA1-E36B-41C3-A241-F4247E9D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E67-655F-4E8C-8119-06ED4FFB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C93-6D1A-4C61-953D-66D9133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901-C58A-432B-B9D2-045DDF9E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36C-63BE-44AB-8609-7E1F631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8C2-9739-4455-82EF-407BFD0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D45-B604-44FB-850A-5A77BDD253E7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0BC4-A90E-46E6-B700-BD2A843A4D5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3c72"/>
                </a:solidFill>
                <a:latin typeface="Verdana"/>
              </a:rPr>
              <a:t>Pre-Assessment and Assessment for Parliamentary Development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5440" y="83664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Promoting domestic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2d8a"/>
                </a:solidFill>
                <a:latin typeface="Verdana"/>
              </a:rPr>
              <a:t>accountability: engaging with parliamen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24000" y="5950080"/>
            <a:ext cx="59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03c72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14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4100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rogramme desig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areas of parliamentary functioning should be prioritised based on the Matrix analysi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ich support activities are indicated and what is the programme theory underpinning selection of these activities to achieve desired outcom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timeframe of support will be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support modalities will best address these issues and what kind and scope of resources will be requir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Are other actors involved in supporting parliament, and how will efforts be coordinated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181D-7A68-4A73-8F0B-1A0513A1869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Monitoring and evalu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can programme impact be measured (may require measurement before and after programme)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What risk analysis has been conducted and what strategies are in place for responding to unforeseen circumstances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ow will programme outcomes be captured and communicated and fed into future programmes in-country and elsewher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4C7-0AD2-4846-A6B8-0C6B88A8704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ssessment Framework - Overview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tages of the assess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n the Reference Document we recommend a two stage approach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-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Are the basic pre-requisites for parliamentary support met?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the Delegation to determine whether to proceed with a full assessme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ull assess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Normally carried out by a dedicated team including national and international exper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ct val="114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Verdana"/>
              </a:rPr>
              <a:t>Contains three stages: desk information gathering, discussions and interviews with key actors, and analysis and recommended program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468360" y="6237360"/>
            <a:ext cx="748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9EED-C4D2-4813-AAE9-3879A2D59E9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-assessment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785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Determining whether a parliamentary support programme should be develop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political economic contex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asic rights and institutional legitimac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ary make-up and functio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lationship with other branches of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ational and institutional commitment to parliamentary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300"/>
              </a:spcBef>
              <a:spcAft>
                <a:spcPts val="300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Capacity and commitment of Deleg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9D81-4F3F-43A4-A72A-B2F639F10AA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413000"/>
            <a:ext cx="7859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) Establishing the assessment tea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rocess belongs to the parliament and their active participation is an early indication of institutional commit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Normally important to include both national and international expe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arliament should normally have a represent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Aft>
                <a:spcPts val="1199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The assessment team should report to a cross-party instance of parlia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9" name="Footer Placeholder 1"/>
          <p:cNvSpPr/>
          <p:nvPr/>
        </p:nvSpPr>
        <p:spPr>
          <a:xfrm>
            <a:off x="468360" y="623736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C972-53F1-474C-802F-DE04F24DA83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Preparatory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) Desk information gather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t is important to understand the historical context of parliament’s development and the institution’s role in an emergent democratic system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Identify where is the pressure for parliamentary reform – for example from the parliamentary leadership, from MPs, from civil society, and/or from the international commun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uring the context analysis relevant document should be processed and the key actors to be interviewed identifi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3" name="Footer Placeholder 1"/>
          <p:cNvSpPr/>
          <p:nvPr/>
        </p:nvSpPr>
        <p:spPr>
          <a:xfrm>
            <a:off x="468360" y="6237360"/>
            <a:ext cx="777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F72-4C75-430E-B955-CE031B58F9A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68280"/>
            <a:ext cx="7859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iii) Assessing parliamentary performan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Questions to be addressed are organized into four main dom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Legisl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dgetary responsibil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present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1199"/>
              </a:spcBef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ctors to be explored are divided into f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spcBef>
                <a:spcPts val="601"/>
              </a:spcBef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nstitutional pow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cedural cla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apacity and resou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xperience and expecta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olitical for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68360" y="6237360"/>
            <a:ext cx="755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640-086D-41BD-9A9C-B7F639A1DC8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Legislation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000"/>
            <a:ext cx="78598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role does parliament have in drafting and amending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capacity has parliament to debate legislative proposals and to identify weaknesses and problem area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599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ability does parliament have to scrutinise, amend and approve the final versions of legislation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63600" indent="-18756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69800" y="3933720"/>
            <a:ext cx="785808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play a role in developing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sufficient time, resources, and capacity to analyse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to amend the budget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powers does parliament have in budget oversight and audit, and does it have the capacity to use those power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68360" y="6237360"/>
            <a:ext cx="78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91B-92F1-46EB-95DA-FBB13C6CE2C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07960" y="3213000"/>
            <a:ext cx="7786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The budgetary func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Oversigh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3680" y="836640"/>
            <a:ext cx="785952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powers to carry out effective executive oversigh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have the resources and political will to hold government to accoun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parliament receive timely and accurate information from the executive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468360" y="623736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52E-8E93-48C1-B46B-3458C914205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82760" y="3500280"/>
            <a:ext cx="785808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do parliamentarians communicate and dialogue with their constituent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 parliamentary committees consult with experts and civil society in their deliberations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at ways does parliament communicate its work with the wider public and interest groups?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oes the make-up of parliament reflect the diversity of the population?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482760" y="3068640"/>
            <a:ext cx="77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present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81000"/>
            <a:ext cx="77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3d200"/>
                </a:solidFill>
                <a:latin typeface="Verdana"/>
              </a:rPr>
              <a:t>Interview St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Analysis and Design phas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34100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2798"/>
              </a:lnSpc>
              <a:buClr>
                <a:srgbClr val="103c72"/>
              </a:buClr>
              <a:buFont typeface="Verdana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itment to reform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Bef>
                <a:spcPts val="1199"/>
              </a:spcBef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o are the key stakeholders inside and outside parliament and what is their attitude to the reform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s there common recognition of problems in parliament and agreement about the nature of change needed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ow will the stakeholders be engaged in the project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1076400" indent="-514440">
              <a:lnSpc>
                <a:spcPts val="2798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What structures and processes exist to ensure that the programme benefits the institution and democratic governance more widely, and is not captured by sectional interests?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468360" y="6237360"/>
            <a:ext cx="763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EC support to governance in partner countries – with a focus on the African continent – July 4 – July 8 2011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C4F-FCEC-4B1B-8E80-8DD4D18195A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MUGERIN Coralie (DEVCO)</cp:lastModifiedBy>
  <dcterms:modified xsi:type="dcterms:W3CDTF">2012-07-16T13:38:14Z</dcterms:modified>
  <cp:revision>19</cp:revision>
  <dc:subject/>
  <dc:title>Slide 1</dc:title>
</cp:coreProperties>
</file>