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59A6-A881-400A-9F8B-9A3D134A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180F-E316-49AD-849E-03C046E5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5C4A-EECA-4884-8804-C9D3D18E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7B68-6947-49EF-8E32-45E6163C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1646-A5B3-443E-9CE0-4F956C5D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F156-E53D-4873-8B5F-97916D3A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4636-0D1A-4ECD-BA9A-F877AC18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1352-CB67-4576-A176-8F67E2A8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0206-9994-4874-A378-5F1ABE1E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B1AE-FE88-4C25-B00E-3AF2306F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C8A3-37E6-4B24-A665-2D3F7761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8F1A-AC2A-4DC4-8DD2-77D4EEAD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8251-B0A5-4137-B604-482F6E1A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061E-0380-44B6-B721-C203F703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3916-06A5-4529-ADFB-FA05BD03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E083-C7A1-4C1C-BCFC-53445354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26A5-6F04-4E3F-9826-3FFBD9D7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E360-ECAA-478B-9971-77864C7E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6450-A05D-4DEC-8AD2-EAB775AE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5678-BF4D-4A1C-A9FC-C0D3C736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FE76-AF32-4EF5-96B0-39CA973D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299B-5F38-4FF9-B238-9FDF2865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2DC2-C84C-4772-BF97-68183679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51DE-C483-45AB-BA92-691C353C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D448-E979-403D-913B-6839AF2B292C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4A48-A622-4F03-9446-6CF1B827C9DC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85264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Pre-Assessment and Assessment for Parliamentary Development 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325440" y="836640"/>
            <a:ext cx="568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2d8a"/>
                </a:solidFill>
                <a:latin typeface="Verdana"/>
              </a:rPr>
              <a:t>Promoting domestic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2d8a"/>
                </a:solidFill>
                <a:latin typeface="Verdana"/>
              </a:rPr>
              <a:t>accountability: engaging with parliament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24000" y="5950080"/>
            <a:ext cx="590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03c72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14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341000"/>
            <a:ext cx="78598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rogramme desig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ich areas of parliamentary functioning should be prioritised based on the Matrix analysi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ich support activities are indicated and what is the programme theory underpinning selection of these activities to achieve desired outcome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timeframe of support will be requir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support modalities will best address these issues and what kind and scope of resources will be required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re other actors involved in supporting parliament, and how will efforts be coordinated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9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71E9-2EA5-4B1C-AC68-7FC1A207401D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341000"/>
            <a:ext cx="7859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Monitoring and evalu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ow can programme impact be measured (may require measurement before and after programme)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risk analysis has been conducted and what strategies are in place for responding to unforeseen circumstance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ow will programme outcomes be captured and communicated and fed into future programmes in-country and elsewhere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6777-C2C2-4AFA-B8DE-B597AC6AF414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ssessment Framework - Overview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412640"/>
            <a:ext cx="7859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Stages of the assess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 the Reference Document we recommend a two stage approach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e-assess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Are the basic pre-requisites for parliamentary support met?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Normally carried out by the Delegation to determine whether to proceed with a full assessmen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ull assess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Normally carried out by a dedicated team including national and international expert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Contains three stages: desk information gathering, discussions and interviews with key actors, and analysis and recommended programm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1" name="Footer Placeholder 1"/>
          <p:cNvSpPr/>
          <p:nvPr/>
        </p:nvSpPr>
        <p:spPr>
          <a:xfrm>
            <a:off x="468360" y="6237360"/>
            <a:ext cx="748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D864-7CDD-4448-BE89-E36F58A78D0A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-assessment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78598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Determining whether a parliamentary support programme should be develop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sic political economic contex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sic rights and institutional legitimac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arliamentary make-up and function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elationship with other branches of govern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ational and institutional commitment to parliamentary develop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pacity and commitment of Deleg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468360" y="6237360"/>
            <a:ext cx="763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DE06-D5B0-4D05-9D11-76EE392B6549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paratory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413000"/>
            <a:ext cx="7859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) Establishing the assessment tea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ocess belongs to the parliament and their active participation is an early indication of institutional commit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ormally important to include both national and international exper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arliament should normally have a representativ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assessment team should report to a cross-party instance of parlia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9" name="Footer Placeholder 1"/>
          <p:cNvSpPr/>
          <p:nvPr/>
        </p:nvSpPr>
        <p:spPr>
          <a:xfrm>
            <a:off x="468360" y="6237360"/>
            <a:ext cx="763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5273-25E1-41A9-9FF2-E338E8628A79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paratory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413000"/>
            <a:ext cx="78598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i) Desk information gather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t is important to understand the historical context of parliament’s development and the institution’s role in an emergent democratic syste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dentify where is the pressure for parliamentary reform – for example from the parliamentary leadership, from MPs, from civil society, and/or from the international communi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uring the context analysis relevant document should be processed and the key actors to be interviewed identifi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3" name="Footer Placeholder 1"/>
          <p:cNvSpPr/>
          <p:nvPr/>
        </p:nvSpPr>
        <p:spPr>
          <a:xfrm>
            <a:off x="468360" y="6237360"/>
            <a:ext cx="777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8E66-1619-4F98-944B-C1F84124BCEF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268280"/>
            <a:ext cx="7859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ii) Assessing parliamentary performan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Questions to be addressed are organized into four main domai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spcBef>
                <a:spcPts val="601"/>
              </a:spcBef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Legisl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dgetary responsibilit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versigh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present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actors to be explored are divided into five aspec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spcBef>
                <a:spcPts val="601"/>
              </a:spcBef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onstitutional powe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dural clar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apacity and resou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xperience and expectatio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olitical fo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68360" y="6237360"/>
            <a:ext cx="755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01A4-E994-4158-9479-6E4ABB899680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Legisl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125000"/>
            <a:ext cx="78598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role does parliament have in drafting and amending legislation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capacity has parliament to debate legislative proposals and to identify weaknesses and problem areas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ability does parliament have to scrutinise, amend and approve the final versions of legislation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469800" y="3933720"/>
            <a:ext cx="785808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play a role in developing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sufficient time, resources, and capacity to analyse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powers does parliament have to amend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powers does parliament have in budget oversight and audit, and does it have the capacity to use those power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68360" y="6237360"/>
            <a:ext cx="7826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9A17-13A9-4484-A162-C9A5136C7479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Title 1"/>
          <p:cNvSpPr/>
          <p:nvPr/>
        </p:nvSpPr>
        <p:spPr>
          <a:xfrm>
            <a:off x="507960" y="3213000"/>
            <a:ext cx="7786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The budgetary funct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Title 1"/>
          <p:cNvSpPr/>
          <p:nvPr/>
        </p:nvSpPr>
        <p:spPr>
          <a:xfrm>
            <a:off x="457200" y="81000"/>
            <a:ext cx="77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versigh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3680" y="836640"/>
            <a:ext cx="785952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the powers to carry out effective executive oversigh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the resources and political will to hold government to accoun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receive timely and accurate information from the executive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8" name="Footer Placeholder 1"/>
          <p:cNvSpPr/>
          <p:nvPr/>
        </p:nvSpPr>
        <p:spPr>
          <a:xfrm>
            <a:off x="468360" y="6237360"/>
            <a:ext cx="77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F280-6BDB-496D-9B6C-658A527380CC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Content Placeholder 2"/>
          <p:cNvSpPr/>
          <p:nvPr/>
        </p:nvSpPr>
        <p:spPr>
          <a:xfrm>
            <a:off x="482760" y="3500280"/>
            <a:ext cx="785808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ow do parliamentarians communicate and dialogue with their constituent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 parliamentary committees consult with experts and civil society in their deliberation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 what ways does parliament communicate its work with the wider public and interest groups?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the make-up of parliament reflect the diversity of the population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482760" y="3068640"/>
            <a:ext cx="77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presentat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457200" y="81000"/>
            <a:ext cx="77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341000"/>
            <a:ext cx="7859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Commitment to reform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o are the key stakeholders inside and outside parliament and what is their attitude to the reform projec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s there common recognition of problems in parliament and agreement about the nature of change needed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ow will the stakeholders be engaged in the projec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structures and processes exist to ensure that the programme benefits the institution and democratic governance more widely, and is not captured by sectional interests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5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6C54-04D4-41D0-A8D0-FEA063C07BC5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MUGERIN Coralie (DEVCO)</cp:lastModifiedBy>
  <dcterms:modified xsi:type="dcterms:W3CDTF">2012-07-16T13:38:14Z</dcterms:modified>
  <cp:revision>19</cp:revision>
  <dc:subject/>
  <dc:title>Slide 1</dc:title>
</cp:coreProperties>
</file>