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5DE6-4669-4A3F-A4B1-5B2E8747F7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5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11D4-9730-4552-AB1B-478C5F30410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3062160" y="522360"/>
            <a:ext cx="3797280" cy="26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5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4758-258A-48DC-B497-226ADBFE03C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3062160" y="522360"/>
            <a:ext cx="3797280" cy="26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0EBA-AF0F-4FBD-A9EE-54F304089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FA74-5499-441B-BA27-6CD12EFA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DE28-0130-4448-B44A-4DC836D7C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92A0-F576-49A0-B21C-C0C07C753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DB6D-73E2-4405-BA80-5830A452A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121D-9D99-459D-AE8C-663F6BEF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500F-8C31-4B40-8B95-CB6A9AC4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FADD-C33F-42D2-B618-2949FCEE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97504-FCB8-4811-B9C1-05043A98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E13E-44DD-4861-8BB0-D021E891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8FE4-7945-4E4D-8041-19A48E89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C99A-6438-4D4A-A0F7-BC0C2F92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8E231-8949-4C22-999B-84EB06D7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5AB0-1413-4DBE-96E8-AA449812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4821-9A98-4906-8B69-47DE8CEF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649D-9C0D-4177-B6AF-7BF6051D2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FA8D-D711-4C20-AFE0-F282B7DD0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90B3-18A7-4A82-A7B7-B2DAADA0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8A65-724D-40D7-9ACC-CAFC86B3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1AAC-B44B-40A6-B0D2-3B1F349A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B47C-6739-4C34-98F5-9580E27C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B738-3215-468B-AB20-5753F58D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67E0-DB67-4C72-B8FB-EA94CD22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05EA-3472-4C31-81F0-A10F4775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A6B7-4F01-4801-89B5-46C4075CC7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9638-C80C-4620-B066-F6A671103E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Lesotho Water Week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emin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2280" y="205740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urbanization for water and sanitation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hakoe Clu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eru,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pril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: E. M. Les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8B63-3E34-40B1-8880-A812C12D72B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2"/>
          <p:cNvSpPr/>
          <p:nvPr/>
        </p:nvSpPr>
        <p:spPr>
          <a:xfrm>
            <a:off x="247680" y="1371600"/>
            <a:ext cx="1733400" cy="1202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EAR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,264,0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283360" y="76212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06,8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4210200" y="114300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93,2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714840" y="198108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95,3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2724120" y="26668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613,6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898640" y="342900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75,6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2394000" y="49528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52,2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3054240" y="58672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44,2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733400" y="44956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82,8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47680" y="304920"/>
            <a:ext cx="3137040" cy="916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OWLANDS WATER SCHEME TARGETTED POP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HOW TO IMPLEMENT THE SECTOR BUDGET SUPPORT: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Financing Agreement N</a:t>
            </a:r>
            <a:r>
              <a:rPr b="1" lang="en-US" sz="32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2164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egal and regulation: EDF-ACP Cotonou Agreemen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ancial regulation of budg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rules of budg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inancing Agreement N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21644: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ector Budget Support  (SBS) and calendar:</a:t>
            </a:r>
            <a:br>
              <a:rPr sz="28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sbursement is foreseen for 1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¼ of FY following joint revie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280" y="2590920"/>
          <a:ext cx="8839440" cy="4082760"/>
        </p:xfrm>
        <a:graphic>
          <a:graphicData uri="http://schemas.openxmlformats.org/drawingml/2006/table">
            <a:tbl>
              <a:tblPr/>
              <a:tblGrid>
                <a:gridCol w="2127240"/>
                <a:gridCol w="1473480"/>
                <a:gridCol w="1473120"/>
                <a:gridCol w="1228680"/>
                <a:gridCol w="1063440"/>
                <a:gridCol w="147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mounts in M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1/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2/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3/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PO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xed t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ble t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 for monitoring and sector dialog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program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457200" y="762120"/>
          <a:ext cx="8534520" cy="541008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541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Rectangle 5"/>
          <p:cNvSpPr/>
          <p:nvPr/>
        </p:nvSpPr>
        <p:spPr>
          <a:xfrm>
            <a:off x="2286000" y="990720"/>
            <a:ext cx="4648320" cy="289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ARTNER COUNRY’S CENTRAL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2514600" y="1981080"/>
            <a:ext cx="16002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Foreign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serves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4800600" y="1905120"/>
            <a:ext cx="16765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reas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533520" y="1981080"/>
            <a:ext cx="1371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xter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ssistance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09480" y="4648320"/>
            <a:ext cx="3505320" cy="1218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onditions for disburs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General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Specific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2"/>
          <p:cNvSpPr/>
          <p:nvPr/>
        </p:nvSpPr>
        <p:spPr>
          <a:xfrm>
            <a:off x="1828800" y="5181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4952880" y="4648320"/>
            <a:ext cx="358164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Budget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hrough partner country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ublic Financial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wn Arrow 14"/>
          <p:cNvSpPr/>
          <p:nvPr/>
        </p:nvSpPr>
        <p:spPr>
          <a:xfrm>
            <a:off x="5715000" y="335268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Up Arrow 15"/>
          <p:cNvSpPr/>
          <p:nvPr/>
        </p:nvSpPr>
        <p:spPr>
          <a:xfrm>
            <a:off x="1752480" y="2971800"/>
            <a:ext cx="228600" cy="1523880"/>
          </a:xfrm>
          <a:prstGeom prst="up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7467480" y="1828800"/>
            <a:ext cx="1371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ax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non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ven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ight Arrow 12"/>
          <p:cNvSpPr/>
          <p:nvPr/>
        </p:nvSpPr>
        <p:spPr>
          <a:xfrm>
            <a:off x="1905120" y="22096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eft Arrow 17"/>
          <p:cNvSpPr/>
          <p:nvPr/>
        </p:nvSpPr>
        <p:spPr>
          <a:xfrm>
            <a:off x="6629400" y="2057400"/>
            <a:ext cx="762120" cy="48420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ight Arrow 18"/>
          <p:cNvSpPr/>
          <p:nvPr/>
        </p:nvSpPr>
        <p:spPr>
          <a:xfrm>
            <a:off x="4191120" y="22096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25"/>
          <p:cNvSpPr/>
          <p:nvPr/>
        </p:nvSpPr>
        <p:spPr>
          <a:xfrm>
            <a:off x="2286000" y="1447920"/>
            <a:ext cx="46483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Thank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 You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088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Question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B025-A767-4751-982B-28C6A6BE988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75960"/>
            <a:ext cx="8496360" cy="3985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Foundations &amp; Building Blocks Being Put in Pl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0" y="5676840"/>
            <a:ext cx="9144000" cy="9439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MS Gothic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MS Gothic"/>
              </a:rPr>
              <a:t>Industrial Wastewater Management Policy, Water and Sanitation Policy, Water Act-2008, After-Care-Strategy, Interim Strategy for Water and Sanitation Sector, other laws establishing Government Agencies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28600" y="3124080"/>
            <a:ext cx="1143000" cy="37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LH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419720" y="4572000"/>
            <a:ext cx="2127240" cy="943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OCAL GOVERNMENT AUTH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419720" y="3276720"/>
            <a:ext cx="2127240" cy="943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OTHER GOVERNMENT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676520" y="2133720"/>
            <a:ext cx="1828800" cy="660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HWC (LESOTH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28600" y="3657600"/>
            <a:ext cx="1143000" cy="37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L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676520" y="4343400"/>
            <a:ext cx="2616120" cy="1227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DONOR COMMUNITY: TECHNICAL ASSI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676520" y="3009960"/>
            <a:ext cx="2590560" cy="943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NGOs: (TRC, WORLD VISION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3733920" y="2133720"/>
            <a:ext cx="2057400" cy="6606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228600" y="4114800"/>
            <a:ext cx="1123920" cy="37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6819840" y="3733920"/>
            <a:ext cx="201924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WASC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MS Gothic"/>
              </a:rPr>
              <a:t>(WAS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ext Box 13" descr=""/>
          <p:cNvPicPr/>
          <p:nvPr/>
        </p:nvPicPr>
        <p:blipFill>
          <a:blip r:embed="rId1"/>
          <a:stretch/>
        </p:blipFill>
        <p:spPr>
          <a:xfrm>
            <a:off x="6808680" y="4522680"/>
            <a:ext cx="2043360" cy="1055880"/>
          </a:xfrm>
          <a:prstGeom prst="rect">
            <a:avLst/>
          </a:prstGeom>
          <a:ln w="0">
            <a:noFill/>
          </a:ln>
        </p:spPr>
      </p:pic>
      <p:pic>
        <p:nvPicPr>
          <p:cNvPr id="105" name="Text Box 14" descr=""/>
          <p:cNvPicPr/>
          <p:nvPr/>
        </p:nvPicPr>
        <p:blipFill>
          <a:blip r:embed="rId2"/>
          <a:stretch/>
        </p:blipFill>
        <p:spPr>
          <a:xfrm>
            <a:off x="5815080" y="2084400"/>
            <a:ext cx="3103560" cy="1116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28600" y="2590920"/>
            <a:ext cx="114300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C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7162920" y="3276720"/>
            <a:ext cx="1676160" cy="377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E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228600" y="2133720"/>
            <a:ext cx="1123920" cy="37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MN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228600" y="5181480"/>
            <a:ext cx="1123920" cy="37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W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9"/>
          <p:cNvGrpSpPr/>
          <p:nvPr/>
        </p:nvGrpSpPr>
        <p:grpSpPr>
          <a:xfrm>
            <a:off x="100080" y="837720"/>
            <a:ext cx="8967600" cy="1255320"/>
            <a:chOff x="100080" y="837720"/>
            <a:chExt cx="8967600" cy="1255320"/>
          </a:xfrm>
        </p:grpSpPr>
        <p:sp>
          <p:nvSpPr>
            <p:cNvPr id="111" name="AutoShape 20"/>
            <p:cNvSpPr/>
            <p:nvPr/>
          </p:nvSpPr>
          <p:spPr>
            <a:xfrm rot="10800000">
              <a:off x="100080" y="837360"/>
              <a:ext cx="8967600" cy="1255320"/>
            </a:xfrm>
            <a:prstGeom prst="pie">
              <a:avLst/>
            </a:prstGeom>
            <a:blipFill rotWithShape="0">
              <a:blip r:embed="rId3">
                <a:alphaModFix amt="61000"/>
              </a:blip>
              <a:srcRect/>
              <a:tile tx="0" ty="0" sx="100000" sy="100000" algn="ctr"/>
            </a:blip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1"/>
            <p:cNvSpPr/>
            <p:nvPr/>
          </p:nvSpPr>
          <p:spPr>
            <a:xfrm>
              <a:off x="898200" y="1284120"/>
              <a:ext cx="714204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MS Gothic"/>
                </a:rPr>
                <a:t>IMPLEMENT SECTOR BUDGET SUPPOR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MS Gothic"/>
                </a:rPr>
                <a:t>Meet: Current and Future Needs (MDG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27"/>
          <p:cNvSpPr/>
          <p:nvPr/>
        </p:nvSpPr>
        <p:spPr>
          <a:xfrm>
            <a:off x="2666880" y="914400"/>
            <a:ext cx="3962520" cy="320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MS Gothic"/>
              </a:rPr>
              <a:t>NOW URGENTLY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8"/>
          <p:cNvSpPr/>
          <p:nvPr/>
        </p:nvSpPr>
        <p:spPr>
          <a:xfrm>
            <a:off x="228600" y="4648320"/>
            <a:ext cx="1123920" cy="37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R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38"/>
          <p:cNvSpPr/>
          <p:nvPr/>
        </p:nvSpPr>
        <p:spPr>
          <a:xfrm>
            <a:off x="8915400" y="2133720"/>
            <a:ext cx="0" cy="3504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42"/>
          <p:cNvSpPr/>
          <p:nvPr/>
        </p:nvSpPr>
        <p:spPr>
          <a:xfrm flipH="1">
            <a:off x="150480" y="2057400"/>
            <a:ext cx="3240" cy="3581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ontent Placeholder 3" descr=""/>
          <p:cNvPicPr/>
          <p:nvPr/>
        </p:nvPicPr>
        <p:blipFill>
          <a:blip r:embed="rId1"/>
          <a:stretch/>
        </p:blipFill>
        <p:spPr>
          <a:xfrm>
            <a:off x="728640" y="1816200"/>
            <a:ext cx="76867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ing access to water suppl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rules for tariffs and connection fees allowing for free basic water to vulnerable households developed, tested and approved by the LEW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0 new public standpipes serving about 15,000 persons established for providing access to water in areas with low connection rates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,000 new domestic connections installed serving about 30,000 pers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rastructure expansion:  connect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ffor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ing operating efficienc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policy and strategy for meter calibration and replacement developed and being implemented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fW reduced to an average of 27% overall by March 2012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consumption reduced by 20% from M9.3m/annum in 2008/09 to M7.44m/annum in the 2011/12 financial ye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SBS PROGRAMME IMPLEMENT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ams: a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SOTHO GOVERNMENT: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delegated (decentralized) authority by EU to G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FDP: sign financing agreement, donor coordination; GoL procurement procedures (assessment done by Pot for PFM); thresholds of contracts for: works, supplies, services, grant contracts, etc.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NR: implementation: water sector agencies, reporting (M&amp;E)  (supervision and execution, etc.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operation with donor communit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U: procurement ?, ensures agreement is signe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RELAN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IB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ORLD BANK and financier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TC.,Other stakeholders: NGO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e production capac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52280" y="990360"/>
            <a:ext cx="883944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olong Project: for Maseru, TY, Roma and Mori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3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3-Towns Project: Maputsoe, TY, and Rom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ban and Peri-urban Project: rehabilitation of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feteng Scootvlei WTP (to 500m3/day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feteng WTP (to 2,000m3/day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tha-Bothe boreholes (to 2,600m3/day);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thing WTP (to 1,500m3/d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koe-Thetsane: intake structure at Caledon River, 20ML WTP, transmission main, gravity mai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production capacity increased by 29.52ML/day by March 201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04920" y="1905120"/>
            <a:ext cx="85341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sewerage network, and this will be achieved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ongoing Maseru Wastewater Project, which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urbishment and upgrading of the Ratjomose WWT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new WWTP at Agric Colleg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habilitation, infilling and extension of sewerage systems in the Ratjomose catchment 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new sewerage systems in the Agric College catchment 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hallenges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urban sanitation servic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Challenges </a:t>
            </a:r>
            <a:r>
              <a:rPr b="1" lang="en-US" sz="3500" spc="-1" strike="noStrike">
                <a:solidFill>
                  <a:srgbClr val="ff0000"/>
                </a:solidFill>
                <a:latin typeface="Calibri"/>
              </a:rPr>
              <a:t>for Urban Sanitatio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04920" y="914400"/>
            <a:ext cx="8534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sewerage network, and this will be achieved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ongoing Maseru Wastewater Project, which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on-site disposal systems (VIPs) and conversion of existing VIP latrines into water born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habilitation and expansion of sewerage networks and treatment plants in Maputsoe, TY and Roma (3-Towns Projec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37:15Z</dcterms:created>
  <dc:creator>Windows User</dc:creator>
  <dc:description/>
  <dc:language>en-US</dc:language>
  <cp:lastModifiedBy>new</cp:lastModifiedBy>
  <dcterms:modified xsi:type="dcterms:W3CDTF">2011-04-05T08:47:55Z</dcterms:modified>
  <cp:revision>388</cp:revision>
  <dc:subject/>
  <dc:title>Slide 1</dc:title>
</cp:coreProperties>
</file>