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2FB19-E73E-42C4-903A-4495AB1F8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D1C87-07ED-4C1B-BC9A-191D54BCF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90796-D60D-4D6F-A2D2-63D8108B5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8BA6D-7EBA-4E7D-86EB-E86C94AAE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4A0E9-D18F-42D3-832E-390DB3847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D69EF-43E4-4BA3-B516-FD2919EFB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7D45F-C8C7-475F-835E-016A86838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6E3C8-5D1F-4631-BA4C-D84879560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95796-1FD4-4034-933E-3BA3B4990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5E589-55AF-4EE1-ADC8-66200465F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AF8CD-DBEB-4F26-8B39-7C748121C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2434A-AF3D-4B6A-B964-2E653F8C5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2AC2C-8B49-403F-B589-8B06EE939E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a-DK" sz="4400" spc="-1" strike="noStrike">
                <a:solidFill>
                  <a:srgbClr val="000000"/>
                </a:solidFill>
                <a:latin typeface="Calibri"/>
              </a:rPr>
              <a:t>Water sector seminar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898989"/>
                </a:solidFill>
                <a:latin typeface="Calibri"/>
              </a:rPr>
              <a:t>Lesotho 5th to 7th March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1"/>
          <p:cNvSpPr/>
          <p:nvPr/>
        </p:nvSpPr>
        <p:spPr>
          <a:xfrm>
            <a:off x="684360" y="907920"/>
            <a:ext cx="77752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Agenda – mai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Key objective: discuss various aspects of the sector to order to obtain comments and contributions to the national strategy that is being develop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Day 1 Sector coordination mee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Day 2 – Urbanisation for water and sani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Planning (Maseru city council, World Bank) + group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Sanitation  (WASCO, TED) + group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Day 3 – Water resources and climate ch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IWRM and Climate (Met. Services, DWA) + group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Land use (GIZ, LHDA) + group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Day 4 – M&amp;E and finan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M&amp;E (M&amp;E unit, BOS) + group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Fin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1"/>
          <p:cNvSpPr/>
          <p:nvPr/>
        </p:nvSpPr>
        <p:spPr>
          <a:xfrm>
            <a:off x="611280" y="1413000"/>
            <a:ext cx="7705800" cy="46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Day 2 group work  Urbanisation for water and sani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nance – Institutional – technic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r each group/c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ask 1 –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hallenge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: that the strategy will need to ad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ask 2 –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uggestions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Actions, opportunities </a:t>
            </a: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 and approaches that could be considered by the strate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Final task by all across the groups: prioritise the 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Box 1"/>
          <p:cNvSpPr/>
          <p:nvPr/>
        </p:nvSpPr>
        <p:spPr>
          <a:xfrm>
            <a:off x="611280" y="1413000"/>
            <a:ext cx="7705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Day 3 group work  Climate and water re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mate change adaptation Gro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ask 1 - Challenges to developing convincing fundable propos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ask 2 - Steps to be taken to develop propos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WRM gro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ask 1 – Challenges that the strategy will need to ad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ask 2 – Opportunities </a:t>
            </a: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 and approaches that could be considered by the strate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Box 1"/>
          <p:cNvSpPr/>
          <p:nvPr/>
        </p:nvSpPr>
        <p:spPr>
          <a:xfrm>
            <a:off x="611280" y="1413000"/>
            <a:ext cx="7705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Day 4 group work  M&amp;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r each group/c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ask 1 – Challenges that the strategy will need to ad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ask 2 – Opportunities </a:t>
            </a: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 and approaches that could be considered by the strate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Task 3 – define institutional responsibil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Box 1"/>
          <p:cNvSpPr/>
          <p:nvPr/>
        </p:nvSpPr>
        <p:spPr>
          <a:xfrm>
            <a:off x="468360" y="1125360"/>
            <a:ext cx="8136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Day 2 – Introd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On cards (one point per card, put country on car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 or 2   main challenges /issues  that you are facing which brings you to this seminar and,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 or 2  experiences/ lessons learnt/best practice which you feel would be worth shar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Pai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ith the person next to you - Name, delegation/job, one surprising f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6T11:23:51Z</dcterms:created>
  <dc:creator>PC</dc:creator>
  <dc:description/>
  <dc:language>en-US</dc:language>
  <cp:lastModifiedBy>new</cp:lastModifiedBy>
  <dcterms:modified xsi:type="dcterms:W3CDTF">2011-04-06T11:10:49Z</dcterms:modified>
  <cp:revision>11</cp:revision>
  <dc:subject/>
  <dc:title>Regional water seminar</dc:title>
</cp:coreProperties>
</file>