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F13DDD6-AB0F-4BCF-B940-BB5F77F7803F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group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3 main function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 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: forum for discussions. It allows attach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lendar / Events (I’m not going to show now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Here : document reposi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s can be defined with categories, tags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lso full text search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inte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Really intu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n put a new post or respond to an existing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blog post of a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C172815-CE35-4192-90E4-31E21BE7B937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oposition from our cooleague Hassane ( Del Morocco) : link Devel and European Policy (Framework Directive on Water) : examine the Framework Directive on Water through the perspective of the  cooper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11CE519-4D2D-43FA-B81B-03BA1E9EA9ED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0E1BCEA-4573-4FD4-9506-8DD8BDA0312D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490B159-171B-4B28-8147-43A7CE271D8A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 : general (public) access to a specific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Group : public or retricted popul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for dedicated discussions or exchange of docu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Must sign on to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contribute to a blog or post a document even if public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See the groups you’re member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S : 26 are defined and that will be it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 document can refer to several top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Within a topic : several areas in the Topic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1. Message/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Main documents and/or 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 ways to access to my group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hrough the « Groups » menu : view of all the groups I can access to (as demonstrated he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irectly through « YOUR GROUPS » men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C763-BD2A-4CFE-B6B6-460D5F1F4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F7E8-672E-4E42-8943-BB432781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C85A-677C-48CD-9199-A35A3980F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B676-3219-4579-8EDA-DD83250F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5BE3-9EBC-497F-9124-E1E969753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AFD4-FBDA-464E-B84B-9BBFADCE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7B8E-4938-430D-B8B9-A04D558E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C2CD-08DF-4780-B0DB-85B4BC59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15EA-64EB-4231-8F1D-C402CC7F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CB20-0726-4EBC-B8CE-64716259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A998-9FE3-4749-91F5-86AA4D29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4BEF-2382-43F2-A678-BBF1571F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3F22-5DC0-452E-B8E4-7FC83948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DDB7-2D18-429D-9255-F294737B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5F12-9977-47F7-8DA4-E881AA3D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3350-34FE-47C0-A8DA-605D83F1D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9D2D-3DF9-44F7-821C-A10D530BC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367D-223F-4B5F-9F7B-2E93B715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B073-1786-49DC-B1D8-49DFF9EF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7248-DEAA-49BB-AE18-C7EE2310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81AF-804F-4FAB-98C3-09B1E695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2F5E-3DAB-41C3-9352-E7FC5DD9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B1C1-C474-4E12-A59F-91F9E222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68E5-331E-4463-A3E4-3C825B7E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C1F3-2578-4E28-85C2-0B5EF69D2EB3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7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Group 12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11" name="Rectangle 13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" name="Group 14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13" name="Rectangle 15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" name="Group 18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17" name="Rectangle 19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19" name="Rectangle 21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60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12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1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66" name="Rectangle 15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68" name="Rectangle 17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8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9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Group 20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72" name="Rectangle 21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22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74" name="Rectangle 23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24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25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394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058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34BA-DFB0-47C2-A89F-D343E47BE58B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384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Internal E.C. Session :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flection on </a:t>
            </a: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AIDCO E/7 – DELEGATIONS RELATIONS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né BOSMAN (E7)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737280" y="5608800"/>
            <a:ext cx="42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Water seminar Nairobi - October 201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35812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: orientations proposed for our Water sector   </a:t>
            </a:r>
            <a:br>
              <a:rPr sz="24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2 groups : 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	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open to external members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(free consultation but membership required to contribute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restricted to internal staff (Del + HQ) 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ocus on :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library : recover and improve the current WaterNet content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discussions / forum (to avoid multiples exchanges and chat under Outlook as today)</a:t>
            </a:r>
            <a:br>
              <a:rPr sz="1800"/>
            </a:b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4978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ollaboration between HQ (E7) / Delegations</a:t>
            </a:r>
            <a:br>
              <a:rPr sz="24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ntinue with W&amp;S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regional seminar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: Fr/EN separately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Frequency ? Which thematics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(importance of the countries contributions)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Thematic studie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?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How to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network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you ? Headquarter role ?</a:t>
            </a:r>
            <a:br>
              <a:rPr sz="2000"/>
            </a:br>
            <a:br>
              <a:rPr sz="1000"/>
            </a:br>
            <a:br>
              <a:rPr sz="10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do you need ? </a:t>
            </a:r>
            <a:br>
              <a:rPr sz="24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are you ready to pay ?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Points mentioned in discussion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Why so many water web sites – what is the comparative advantage – incomplete (aquaknow / euwinet/cap4 dev)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it can easily remain unused – can it become a working tool? But how? Is easily outdated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We are meant to upload project information in CRIS (only internal) with the project number we can look at more detailed information on CR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How to find best practice in CRIS? Perhaps C4D is the tool for best practice? Newsflash et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y each have a different ro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re must be an incentive e.g. information will only be available on the capcity4 dev 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model TOR are potentially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2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time is limited – will be get a message when documents are there (like WSP) – just a short mess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that feature will be there, you can define what mails you get or don’t get – we will check 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ttend such seminars to hear about success stories that we can learn from – can you have frequently made mistakes or stories of success? – that would be useful e.g. in Burundi we are rehabilitating/reforming after the war, we want to avoid the classic mistakes. How to filter ? To get what you are interested in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we have to avoid too much information – we can organise sub-topic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3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re project focussed – ex post independent evaluations are talked about but rarely done or accessible. We need more such analysis – it helps to learn. Tendency to always declare projects successful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s Brussels thinking of a thematic evaluation of water and sanitation sector (beyond the project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could ex-post ROM be used as a source of information for such deeper analys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the thematic studies could focus on evaluation of succes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sharing of good practice will reduce the mistakes and costs of other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there is a thematic ROM evaluation already done !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4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t is people that initiate processes – appreciate the seminars like this one – it is motivating and avoids the overload of information problem. It increases our productivit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nnovative approaches can be used to exchange information between delegations e.g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find a way to wake us up – makes us belong to the water group (and not just the seminars, build on them) – a picture and person is worth a 1000 word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should publish more, like the example of Chad – we need to make links with universities and oth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Seminars are good – but HQ based seminar allows connection with HQs, that is very useful (might lose the field trip but other advantag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- we already do that, we have seminars in Brussels each year – june/july. We invite others e.g. OECD, EIB, AFD etc  This year we had a 3 days Finance (EIB)/ Sanitation (aidco) / x cutting topics e.g. human rights (DGDev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The regional ones have the value of the field trip and practionaires from the reg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oth are good, we should not replace one with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3584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In the domain of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Operational Guidance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, past and current support from E7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concept note « Complementarities and  synergies between SWAP and IWRM»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support to program formulation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regional seminars on SWAP/IWRM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national seminars on demand 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  (initializing SWAP process – national dialog)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horizontal studies ongoing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C/MoU Water : best practices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SWAP experiences capitalization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We get huge text reports, we cannot absorb the material / we need to do like Benin did with Google Earth – why do we not have the capacity to do this in delegations? E.g. we cannot print A3 in colour. Our (IT) tools are patheti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good communication can help – remote assistance is possib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ater facility project template does not have an executive summary – ask them for this + readable graphs and summary. Lets be more specific on the template and encourage quality rather than volum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report dumping from Brussels …. Please give us a summary not 100+ pag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2a600"/>
                </a:solidFill>
                <a:latin typeface="Verdana"/>
              </a:rPr>
              <a:t>More points: </a:t>
            </a:r>
            <a:br>
              <a:rPr sz="2000"/>
            </a:b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Q say it in one page – lets campaign for th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 seminars should be supported by the HQ not just delegations, in case they do not have enough budget – this year we had cancellations due to budge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is seminar  in Kenya was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rganise more joint seminars at delegation level – we are bombarded by slogans on alignment, harmonisation, gender etc it is lip service… we need to get in touch with realit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re is also a yearly regional infrastructure seminar (only delegation) good but a bit road focussed. Should we keep the water and wider infrastructure separ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e organised a joint water and infrastructure in Liberville – it did not 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ig value in having external participants – we cannot have that in a joint seminar with infrastructur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our water programs are very policy and institutional development related – water is also related to rural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in Namibia we found keeping roads and water separate was be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for small delegations, the separtion of water and roads is not an issue, it is for larger deleg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could organise one after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ne after the other has mer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hoD&lt; HOA, all have conference – perhaps we need an operations conferenc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do we an francophone example of successful reform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at a recent seminar in Burkina Faso, a series of reforms was outlin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had two sub-sectors here: water and sanitation. We discussed SBS and pooled and projects. For me the modalities as well as the sector was important – aid effectiveness was an important topi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hy are the road people boring? They are not they are very nice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/R -What thematic studie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echnologies in sani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formation management by water ministries, role of information in the sector (data management, indicator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novative projects and initiatives (WSTF, CLTS, Ecotac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frequency for this type of semin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Each year (we already agreed this in Pretori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topic would you suggest for next year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Low cost – urban sanitation…innov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 Water framework directive of EU – compare with water policy… WR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Mobile to web application for water syste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One day on dry sanitation (vs water borne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35812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Platform : (AIDCO E)  </a:t>
            </a:r>
            <a:br>
              <a:rPr sz="2400"/>
            </a:b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irst step - trial : starts with the T.C. reform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, also used by the Public Finance Management experts,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open to outside public (worldwide or restricted groups)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500 users but not many active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Too complex !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Has been fully redesigned and simplified </a:t>
            </a:r>
            <a:br>
              <a:rPr sz="1800"/>
            </a:br>
            <a:br>
              <a:rPr sz="10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NEW VERSION LAUNCHED on 15 October 2010 !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unctionalities (within groups) : 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document library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(doc management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blog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for discussions and info exchanges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event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/news announcement</a:t>
            </a: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125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Introduction to </a:t>
            </a:r>
            <a:br>
              <a:rPr sz="4400"/>
            </a:b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the new </a:t>
            </a:r>
            <a:r>
              <a:rPr b="0" i="1" lang="fr-BE" sz="4400" spc="-1" strike="noStrike" u="sng">
                <a:solidFill>
                  <a:srgbClr val="e2a600"/>
                </a:solidFill>
                <a:uFillTx/>
                <a:latin typeface="Verdana"/>
              </a:rPr>
              <a:t>Capacity4dev</a:t>
            </a:r>
            <a:endParaRPr b="1" lang="en-US" sz="4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303120" y="-103320"/>
            <a:ext cx="975204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aidco-sd-tech2</cp:lastModifiedBy>
  <dcterms:modified xsi:type="dcterms:W3CDTF">2010-10-28T11:12:00Z</dcterms:modified>
  <cp:revision>124</cp:revision>
  <dc:subject/>
  <dc:title>Slide 1</dc:title>
</cp:coreProperties>
</file>