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8B3C4-00C8-47D0-8121-0379F334B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107D-1CD0-46F0-8173-772769C5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78100-160F-42FF-98E2-39C393B53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AD783-13BF-491D-8DF3-7D8125480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246D39-E22D-45D6-A013-13C95B501B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0EFF3-F096-4D76-A254-29B3BA2313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BADBC-0983-401F-8996-F429333CD7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327E5-2037-4AB9-9435-FC20C95402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73684E-4329-4668-96F3-C8A2A0866E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DC795-0485-4535-AEBD-5631828E42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B0520-669A-4F4E-AA75-C8DC4FA46A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589A3-0CE0-4553-811A-D735D169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2DDA7-D17E-4CA5-9E35-E4AD06B35C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4A662-AD2B-4A8E-9739-5A7E020CBA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66192-517D-426B-B41B-F2B86EF3F9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7F5ADC-C86A-4783-96AA-8B69BBEDA5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51B0F0-3764-42A2-AB27-FA08D1D2CBD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FE060-463F-46EF-91C0-AC25DE8A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602D-7095-4604-9E38-1F7B32D1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388F-C3CA-4BBB-8A2D-FA1E2C746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12B9-78C7-4C20-A56B-3DB34A59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97C3-40B4-4BC2-9012-737A1A938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830B-8401-4A72-9CFC-AA7457F9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F7A5-C858-4385-A31E-BFEB1D369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64C8B796-6779-4589-ACA2-8FC4CCE2E1A0}" type="datetime11">
              <a:rPr b="0" lang="en-US" sz="1400" spc="-1" strike="noStrike">
                <a:solidFill>
                  <a:srgbClr val="ffffff"/>
                </a:solidFill>
                <a:latin typeface="Times New Roman"/>
              </a:rPr>
              <a:t>18:00:1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0C1D-0E6F-4010-BB2C-47F64D12FE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6139-F2CA-49E1-ACE6-F331FD8C09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F3CB390-A330-469D-BAB4-4A82EB669EC5}" type="datetime11">
              <a:rPr b="0" lang="en-US" sz="1400" spc="-1" strike="noStrike">
                <a:solidFill>
                  <a:srgbClr val="ffffff"/>
                </a:solidFill>
                <a:latin typeface="Times New Roman"/>
              </a:rPr>
              <a:t>18:00:11</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0EEBC40-7148-4326-B13E-BDF5481720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C5FC4C9-10AF-4846-94E8-1D2A952CCE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DDB9926-B975-4D52-BB86-DEC2480DAD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89FF2D0-1597-4793-9993-0A4A8B6225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EEB21623-763C-443F-9B72-B6EC2AF4C8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BCC3BAF-1F0A-409B-882E-22AD1E8D1B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ACDA3D2-88D7-4989-8600-79F5BFF02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C3D41BA-33F7-4301-8F69-3E3A1FCE4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F0C97630-3F24-4D94-823D-524E186D6EBD}"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84376B0-ED48-41CD-9571-22F5BD42657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7E9B2BD-6DD2-4DE1-84F2-6CF1A7DCE6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2AE3AA8-F1C7-4D81-B838-A5B31348C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54B5792-9251-4C85-B7FF-BDE9A6BE8C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F0A33AA-EE11-4A4A-A8F1-6102635C20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CF1E05F-2B22-48A4-BE50-F70B982FC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C74E075-F025-4393-B54E-BC22351B6D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EAA0799-A474-4CB5-BDC9-63F8DF4D83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