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9E38-F323-49F9-A3C4-FB46D689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1850-D2A0-4F19-B2EB-C2FE1C8A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7E84-245F-4B3A-A9FA-2E113754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2183-A65C-43C6-A293-910FCE55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9169-506D-4C33-B022-89E3D723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6ED1-9F7D-4802-BD16-AEB9B7B1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C936-DDC7-46EC-9CD5-B3ABE5D4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EAD2-983C-4148-904C-04E52418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5B23-30DD-4414-9659-60BEA4A3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4771-F214-4FDE-92A4-110861EF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E784-2483-4353-AAEF-969D936F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C404-3017-4D68-AC3B-557483C5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B377-24E6-4C8C-8414-E2DB50DA46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or Re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 and key 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        the need for re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or govern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improve policy framework incl. regulation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 gov. capacity to carry  out all tasks at hand (+ brain dr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lear roles and respon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finan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 PFM – corru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w service provi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Höger 3"/>
          <p:cNvSpPr/>
          <p:nvPr/>
        </p:nvSpPr>
        <p:spPr>
          <a:xfrm>
            <a:off x="2771640" y="765000"/>
            <a:ext cx="576360" cy="287640"/>
          </a:xfrm>
          <a:prstGeom prst="rightArrow">
            <a:avLst>
              <a:gd name="adj1" fmla="val 50000"/>
              <a:gd name="adj2" fmla="val 500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Höger 4"/>
          <p:cNvSpPr/>
          <p:nvPr/>
        </p:nvSpPr>
        <p:spPr>
          <a:xfrm>
            <a:off x="755640" y="5589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- role of Gov + D.P.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tical will + government ownership is cru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if it is not there from star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. Partners  need to promote change through policy dialogue and be flexible and patie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e into sector support  and use of Gov systems gradually as ownership/capacity  increases but also leave funds outside for quick wins and innovations (80/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Key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-</a:t>
            </a: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 reform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rst step in reform is to put right policies in place – clarify roles and responsibilities (one entry point as in Keny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ed for finance mechanisms  (i.e. Kenya trust fund as a good examp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centralisation of responsibilities  need to be followed by money and skil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oth WUA and PS can play a role and their comparative advantage depends on the context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GOs need to focus to be profession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gulation and monitoring of service providers crucial, but too many small providers is challenging to contro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– policy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 too little focus on water resources management  and protection of water resources to ensure water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stronger link between water supply with san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cal incentives to promote innovative technology  (i.e. solar panels in Ch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9:29:14Z</dcterms:created>
  <dc:creator>Ditt användarnamn</dc:creator>
  <dc:description/>
  <dc:language>en-US</dc:language>
  <cp:lastModifiedBy>Ditt användarnamn</cp:lastModifiedBy>
  <dcterms:modified xsi:type="dcterms:W3CDTF">2010-10-20T20:02:41Z</dcterms:modified>
  <cp:revision>6</cp:revision>
  <dc:subject/>
  <dc:title>Sector Reforms </dc:title>
</cp:coreProperties>
</file>