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97B2-F9C1-45C3-B0F0-24F6F1115D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76CA-16D9-4273-B59C-18D8EACF3D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A772-ABE7-4DED-B99A-744FE1ED0EB0}" type="datetime">
              <a:rPr b="0" lang="en-US" sz="1200" spc="-1" strike="noStrike">
                <a:solidFill>
                  <a:srgbClr val="ffffff"/>
                </a:solidFill>
                <a:latin typeface="Verdana"/>
              </a:rPr>
              <a:t>07/30/26</a:t>
            </a:fld>
            <a:r>
              <a:rPr b="0" lang="en-US" sz="1200" spc="-1" strike="noStrike">
                <a:solidFill>
                  <a:srgbClr val="ffffff"/>
                </a:solidFill>
                <a:latin typeface="Verdana"/>
              </a:rPr>
              <a:t> </a:t>
            </a:r>
            <a:fld id="{E69EB084-7AA3-40FC-AB28-0C241A9BFE0A}"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303E-71E3-49E8-A5A2-1C1CDBF110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CB9B-306A-4A3B-8328-6F268BA1E7E8}" type="datetime">
              <a:rPr b="0" lang="en-US" sz="1200" spc="-1" strike="noStrike">
                <a:solidFill>
                  <a:srgbClr val="ffffff"/>
                </a:solidFill>
                <a:latin typeface="Verdana"/>
              </a:rPr>
              <a:t>07/30/26</a:t>
            </a:fld>
            <a:r>
              <a:rPr b="0" lang="en-US" sz="1200" spc="-1" strike="noStrike">
                <a:solidFill>
                  <a:srgbClr val="ffffff"/>
                </a:solidFill>
                <a:latin typeface="Verdana"/>
              </a:rPr>
              <a:t> </a:t>
            </a:r>
            <a:fld id="{7A683866-D093-4CFA-BB97-F86C575E586C}"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E741-AEA2-4F6B-86BE-04AAF8B5C8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A9EC-E89D-4137-A53D-45B36F252D4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4EC9-C059-4852-92C0-FBA8ED935E7B}" type="datetime">
              <a:rPr b="0" lang="en-US" sz="1200" spc="-1" strike="noStrike">
                <a:solidFill>
                  <a:srgbClr val="ffffff"/>
                </a:solidFill>
                <a:latin typeface="Verdana"/>
              </a:rPr>
              <a:t>07/30/26</a:t>
            </a:fld>
            <a:r>
              <a:rPr b="0" lang="en-US" sz="1200" spc="-1" strike="noStrike">
                <a:solidFill>
                  <a:srgbClr val="ffffff"/>
                </a:solidFill>
                <a:latin typeface="Verdana"/>
              </a:rPr>
              <a:t> </a:t>
            </a:r>
            <a:fld id="{82EFB86D-0D01-4B8B-9103-968C9405F02E}"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2435-1010-4FE4-BCF9-25872428D2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91FB-2DBB-4D41-9447-BF4323391CB8}" type="datetime">
              <a:rPr b="0" lang="en-US" sz="1200" spc="-1" strike="noStrike">
                <a:solidFill>
                  <a:srgbClr val="ffffff"/>
                </a:solidFill>
                <a:latin typeface="Verdana"/>
              </a:rPr>
              <a:t>07/30/26</a:t>
            </a:fld>
            <a:r>
              <a:rPr b="0" lang="en-US" sz="1200" spc="-1" strike="noStrike">
                <a:solidFill>
                  <a:srgbClr val="ffffff"/>
                </a:solidFill>
                <a:latin typeface="Verdana"/>
              </a:rPr>
              <a:t> </a:t>
            </a:r>
            <a:fld id="{6FB0B3A2-B34C-4861-BA4F-31ED486659D4}"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4F3E-2D70-4D08-B438-DAAC954F99A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242E-B1D0-46C5-A7B5-59F51D0841DB}" type="datetime">
              <a:rPr b="0" lang="en-US" sz="1200" spc="-1" strike="noStrike">
                <a:solidFill>
                  <a:srgbClr val="ffffff"/>
                </a:solidFill>
                <a:latin typeface="Verdana"/>
              </a:rPr>
              <a:t>07/30/26</a:t>
            </a:fld>
            <a:r>
              <a:rPr b="0" lang="en-US" sz="1200" spc="-1" strike="noStrike">
                <a:solidFill>
                  <a:srgbClr val="ffffff"/>
                </a:solidFill>
                <a:latin typeface="Verdana"/>
              </a:rPr>
              <a:t> </a:t>
            </a:r>
            <a:fld id="{1A86CE91-2C26-46BE-BD95-B59B07EF876F}"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1FDC-34E5-4CFC-9315-68A28C9F98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020D-A119-4093-8199-0CF58807FB70}" type="datetime">
              <a:rPr b="0" lang="en-US" sz="1200" spc="-1" strike="noStrike">
                <a:solidFill>
                  <a:srgbClr val="ffffff"/>
                </a:solidFill>
                <a:latin typeface="Verdana"/>
              </a:rPr>
              <a:t>07/30/26</a:t>
            </a:fld>
            <a:r>
              <a:rPr b="0" lang="en-US" sz="1200" spc="-1" strike="noStrike">
                <a:solidFill>
                  <a:srgbClr val="ffffff"/>
                </a:solidFill>
                <a:latin typeface="Verdana"/>
              </a:rPr>
              <a:t> </a:t>
            </a:r>
            <a:fld id="{422F9C9F-55B4-49EF-98CE-335D39DB8367}"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6957-789E-4DAF-9796-78BC97C6B5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2481-D9FD-46D1-B966-E0EF19DBF58A}" type="datetime">
              <a:rPr b="0" lang="en-US" sz="1200" spc="-1" strike="noStrike">
                <a:solidFill>
                  <a:srgbClr val="ffffff"/>
                </a:solidFill>
                <a:latin typeface="Verdana"/>
              </a:rPr>
              <a:t>07/30/26</a:t>
            </a:fld>
            <a:r>
              <a:rPr b="0" lang="en-US" sz="1200" spc="-1" strike="noStrike">
                <a:solidFill>
                  <a:srgbClr val="ffffff"/>
                </a:solidFill>
                <a:latin typeface="Verdana"/>
              </a:rPr>
              <a:t> </a:t>
            </a:r>
            <a:fld id="{A592CA5C-688F-47AF-9AC0-FC6D4F3FB85B}"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B09A-36DC-435A-9884-AFDD794F6C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9BBB-ED54-438B-B098-0D30588FF530}" type="datetime">
              <a:rPr b="0" lang="en-US" sz="1200" spc="-1" strike="noStrike">
                <a:solidFill>
                  <a:srgbClr val="ffffff"/>
                </a:solidFill>
                <a:latin typeface="Verdana"/>
              </a:rPr>
              <a:t>07/30/26</a:t>
            </a:fld>
            <a:r>
              <a:rPr b="0" lang="en-US" sz="1200" spc="-1" strike="noStrike">
                <a:solidFill>
                  <a:srgbClr val="ffffff"/>
                </a:solidFill>
                <a:latin typeface="Verdana"/>
              </a:rPr>
              <a:t> </a:t>
            </a:r>
            <a:fld id="{45AE2444-FE5D-44DC-94FA-255D9DD7B732}"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9B5B-46E2-475A-A0AA-05C53C4B411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2218-A714-4DAA-B662-15520F0C8B2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9705-12EE-4FFF-B787-B41E0AB00A0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008D-D7C4-44CB-8E5B-2EB8A271B9E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A524-BA2E-4C61-8BF9-71B85DFB1C9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379C-A83A-4CBF-961B-C6AB9AE9E8B4}" type="datetime">
              <a:rPr b="0" lang="en-US" sz="1200" spc="-1" strike="noStrike">
                <a:solidFill>
                  <a:srgbClr val="ffffff"/>
                </a:solidFill>
                <a:latin typeface="Verdana"/>
              </a:rPr>
              <a:t>07/30/26</a:t>
            </a:fld>
            <a:r>
              <a:rPr b="0" lang="en-US" sz="1200" spc="-1" strike="noStrike">
                <a:solidFill>
                  <a:srgbClr val="ffffff"/>
                </a:solidFill>
                <a:latin typeface="Verdana"/>
              </a:rPr>
              <a:t> </a:t>
            </a:r>
            <a:fld id="{DFBB7347-2B63-42D4-A58D-F0311BB1135E}"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B57A-B094-482E-8EE0-9930A95D7D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F0DE-2810-4443-9754-E4F738255C1D}" type="datetime">
              <a:rPr b="0" lang="en-US" sz="1200" spc="-1" strike="noStrike">
                <a:solidFill>
                  <a:srgbClr val="ffffff"/>
                </a:solidFill>
                <a:latin typeface="Verdana"/>
              </a:rPr>
              <a:t>07/30/26</a:t>
            </a:fld>
            <a:r>
              <a:rPr b="0" lang="en-US" sz="1200" spc="-1" strike="noStrike">
                <a:solidFill>
                  <a:srgbClr val="ffffff"/>
                </a:solidFill>
                <a:latin typeface="Verdana"/>
              </a:rPr>
              <a:t> </a:t>
            </a:r>
            <a:fld id="{7218D05A-E0A7-439D-99A8-EB0867AA7346}"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6C39-BE9A-494A-A6F6-F49B5201A47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B402-C3FA-4B9E-A858-5DC3D8DC364D}" type="datetime">
              <a:rPr b="0" lang="en-US" sz="1200" spc="-1" strike="noStrike">
                <a:solidFill>
                  <a:srgbClr val="ffffff"/>
                </a:solidFill>
                <a:latin typeface="Verdana"/>
              </a:rPr>
              <a:t>07/30/26</a:t>
            </a:fld>
            <a:r>
              <a:rPr b="0" lang="en-US" sz="1200" spc="-1" strike="noStrike">
                <a:solidFill>
                  <a:srgbClr val="ffffff"/>
                </a:solidFill>
                <a:latin typeface="Verdana"/>
              </a:rPr>
              <a:t> </a:t>
            </a:r>
            <a:fld id="{900DF496-1278-42AD-8358-D8F376643C2F}"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D6D0-735D-453F-A632-FE5A0C73CAB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58BB9-A670-4881-8DD3-7FC1B4EC8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6B4F-4B8F-4857-A824-C034D32C7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E91DF-E3F5-4F06-8450-7BCA6B098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C4116-9328-429F-9B19-E51298120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24434-C6EC-4D0B-9C99-AEB708E23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B86C5-FE41-4BB3-B699-F79E07C19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9087B-DE33-4162-9672-4894F0533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950AA-B0C4-4D9D-B9FD-BE3393785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6D8B8-1D92-4490-9096-59BE49A1D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906B3-C8B2-429F-B9BA-D43B749F2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F3389-FFFA-427B-93DE-ED421A197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FB43A-6060-45E7-A3AD-D901E7A9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4C721-A44F-4DD8-8F51-F1AFB5A56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D4244-F8F6-403B-A563-BAC80652B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D1889-1C69-4BAE-9D98-DA2CC04E3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D09DD-2715-4849-BBC6-5D894190F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F9C06-8895-4D54-AFDD-F73D2BEBD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19455-1EFA-4386-BC5D-6FECF9243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19E05-4557-4EDC-A6A2-98F09DB9C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BA10-F354-4D6C-A269-213C87AD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DCAD0-BDE3-49BA-9AD1-D90AE170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5F07-E10B-44B8-9F0E-27546FB4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7068-0CBF-4493-B036-726746CF2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EE30-F19E-4210-AA80-4F9C64CF8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A785-788E-45F0-B81A-A65180FF469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42AD-6C3B-45A5-B332-7D27AE0B613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BA12-E60E-4463-8A30-907D0982730B}"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