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9EAD-3911-4D46-9202-94A37530C77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B673-C476-49B8-AC86-84CFDDED95F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9AA7-004E-42FE-B679-3A32605AE313}" type="datetime">
              <a:rPr b="0" lang="en-US" sz="1200" spc="-1" strike="noStrike">
                <a:solidFill>
                  <a:srgbClr val="ffffff"/>
                </a:solidFill>
                <a:latin typeface="Verdana"/>
              </a:rPr>
              <a:t>07/29/26</a:t>
            </a:fld>
            <a:r>
              <a:rPr b="0" lang="en-US" sz="1200" spc="-1" strike="noStrike">
                <a:solidFill>
                  <a:srgbClr val="ffffff"/>
                </a:solidFill>
                <a:latin typeface="Verdana"/>
              </a:rPr>
              <a:t> </a:t>
            </a:r>
            <a:fld id="{BB6DC016-DAB8-4181-824F-0F449E7C2FB8}"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9953-9B80-483D-9CEE-B74AAA1C415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4146-2294-4412-9CAE-9745FFBF7D47}" type="datetime">
              <a:rPr b="0" lang="en-US" sz="1200" spc="-1" strike="noStrike">
                <a:solidFill>
                  <a:srgbClr val="ffffff"/>
                </a:solidFill>
                <a:latin typeface="Verdana"/>
              </a:rPr>
              <a:t>07/29/26</a:t>
            </a:fld>
            <a:r>
              <a:rPr b="0" lang="en-US" sz="1200" spc="-1" strike="noStrike">
                <a:solidFill>
                  <a:srgbClr val="ffffff"/>
                </a:solidFill>
                <a:latin typeface="Verdana"/>
              </a:rPr>
              <a:t> </a:t>
            </a:r>
            <a:fld id="{B971F3DB-95B6-4DB2-BFA9-DD25AB668ED1}"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C36F-6BB3-40A4-A13F-AC007DF9421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E48F-2C53-47EC-BBBE-DF4A459B69B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C207-81CB-4899-B19F-F728E84389EE}" type="datetime">
              <a:rPr b="0" lang="en-US" sz="1200" spc="-1" strike="noStrike">
                <a:solidFill>
                  <a:srgbClr val="ffffff"/>
                </a:solidFill>
                <a:latin typeface="Verdana"/>
              </a:rPr>
              <a:t>07/29/26</a:t>
            </a:fld>
            <a:r>
              <a:rPr b="0" lang="en-US" sz="1200" spc="-1" strike="noStrike">
                <a:solidFill>
                  <a:srgbClr val="ffffff"/>
                </a:solidFill>
                <a:latin typeface="Verdana"/>
              </a:rPr>
              <a:t> </a:t>
            </a:r>
            <a:fld id="{7616CA4F-F125-44D4-A2DB-326FBD4080E5}"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02E8-3461-493E-83E8-F1EE4D5D9F9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79C9-1485-49E3-BA5A-0D077D101B1D}" type="datetime">
              <a:rPr b="0" lang="en-US" sz="1200" spc="-1" strike="noStrike">
                <a:solidFill>
                  <a:srgbClr val="ffffff"/>
                </a:solidFill>
                <a:latin typeface="Verdana"/>
              </a:rPr>
              <a:t>07/29/26</a:t>
            </a:fld>
            <a:r>
              <a:rPr b="0" lang="en-US" sz="1200" spc="-1" strike="noStrike">
                <a:solidFill>
                  <a:srgbClr val="ffffff"/>
                </a:solidFill>
                <a:latin typeface="Verdana"/>
              </a:rPr>
              <a:t> </a:t>
            </a:r>
            <a:fld id="{0EAED1C3-5F4D-4A6E-AA9B-CE297913F61B}"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7E7B-6EC1-4228-B8B6-2E873EF3CFC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AB15-1652-47CA-82A6-D35BD6E86160}" type="datetime">
              <a:rPr b="0" lang="en-US" sz="1200" spc="-1" strike="noStrike">
                <a:solidFill>
                  <a:srgbClr val="ffffff"/>
                </a:solidFill>
                <a:latin typeface="Verdana"/>
              </a:rPr>
              <a:t>07/29/26</a:t>
            </a:fld>
            <a:r>
              <a:rPr b="0" lang="en-US" sz="1200" spc="-1" strike="noStrike">
                <a:solidFill>
                  <a:srgbClr val="ffffff"/>
                </a:solidFill>
                <a:latin typeface="Verdana"/>
              </a:rPr>
              <a:t> </a:t>
            </a:r>
            <a:fld id="{F9F5B600-7886-434E-B706-0AB8619DAF10}"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DEA0-0829-4661-8673-2C50817486E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C361-D0E8-48E6-BBF6-C977EA2CA36E}" type="datetime">
              <a:rPr b="0" lang="en-US" sz="1200" spc="-1" strike="noStrike">
                <a:solidFill>
                  <a:srgbClr val="ffffff"/>
                </a:solidFill>
                <a:latin typeface="Verdana"/>
              </a:rPr>
              <a:t>07/29/26</a:t>
            </a:fld>
            <a:r>
              <a:rPr b="0" lang="en-US" sz="1200" spc="-1" strike="noStrike">
                <a:solidFill>
                  <a:srgbClr val="ffffff"/>
                </a:solidFill>
                <a:latin typeface="Verdana"/>
              </a:rPr>
              <a:t> </a:t>
            </a:r>
            <a:fld id="{D0078ECA-E463-4132-BF95-404821B40619}"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6288-664C-4567-98D6-C81A6465C3C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5B4A-6264-4BCF-99E8-CAA1EB0418A7}" type="datetime">
              <a:rPr b="0" lang="en-US" sz="1200" spc="-1" strike="noStrike">
                <a:solidFill>
                  <a:srgbClr val="ffffff"/>
                </a:solidFill>
                <a:latin typeface="Verdana"/>
              </a:rPr>
              <a:t>07/29/26</a:t>
            </a:fld>
            <a:r>
              <a:rPr b="0" lang="en-US" sz="1200" spc="-1" strike="noStrike">
                <a:solidFill>
                  <a:srgbClr val="ffffff"/>
                </a:solidFill>
                <a:latin typeface="Verdana"/>
              </a:rPr>
              <a:t> </a:t>
            </a:r>
            <a:fld id="{227A74BF-D04D-4B43-A3D8-3778DC4D1EF8}"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071B-162F-43B2-AC7E-AA501254822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DAC2-E583-41C5-B904-832E5CA2D17F}" type="datetime">
              <a:rPr b="0" lang="en-US" sz="1200" spc="-1" strike="noStrike">
                <a:solidFill>
                  <a:srgbClr val="ffffff"/>
                </a:solidFill>
                <a:latin typeface="Verdana"/>
              </a:rPr>
              <a:t>07/29/26</a:t>
            </a:fld>
            <a:r>
              <a:rPr b="0" lang="en-US" sz="1200" spc="-1" strike="noStrike">
                <a:solidFill>
                  <a:srgbClr val="ffffff"/>
                </a:solidFill>
                <a:latin typeface="Verdana"/>
              </a:rPr>
              <a:t> </a:t>
            </a:r>
            <a:fld id="{AC9C7D3A-FE15-4F14-BA5B-F0B720D490CD}"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A446-D1DC-486B-992A-1F4DEC4469E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389E-C1C0-4D34-AC50-AD6833E71F8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B8E1-E0AD-4AD1-851A-AFCBE0D27DA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8699-DBE6-44C9-BDF3-9E1E2534F92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D5E9-0A8C-4374-9185-DF054A9941D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70BD-0ACC-4C65-8491-099A7EF734BD}" type="datetime">
              <a:rPr b="0" lang="en-US" sz="1200" spc="-1" strike="noStrike">
                <a:solidFill>
                  <a:srgbClr val="ffffff"/>
                </a:solidFill>
                <a:latin typeface="Verdana"/>
              </a:rPr>
              <a:t>07/29/26</a:t>
            </a:fld>
            <a:r>
              <a:rPr b="0" lang="en-US" sz="1200" spc="-1" strike="noStrike">
                <a:solidFill>
                  <a:srgbClr val="ffffff"/>
                </a:solidFill>
                <a:latin typeface="Verdana"/>
              </a:rPr>
              <a:t> </a:t>
            </a:r>
            <a:fld id="{465B7C98-3543-4C00-93A1-42E009E9051A}"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6848-660C-4AB6-BAE2-F02F01181D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E42F-907B-48CF-944C-A5F33D0989A8}" type="datetime">
              <a:rPr b="0" lang="en-US" sz="1200" spc="-1" strike="noStrike">
                <a:solidFill>
                  <a:srgbClr val="ffffff"/>
                </a:solidFill>
                <a:latin typeface="Verdana"/>
              </a:rPr>
              <a:t>07/29/26</a:t>
            </a:fld>
            <a:r>
              <a:rPr b="0" lang="en-US" sz="1200" spc="-1" strike="noStrike">
                <a:solidFill>
                  <a:srgbClr val="ffffff"/>
                </a:solidFill>
                <a:latin typeface="Verdana"/>
              </a:rPr>
              <a:t> </a:t>
            </a:r>
            <a:fld id="{4B023A72-A5F9-4F06-BC4A-446F4A0051FC}"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A28D-C9FD-4966-A0F3-2069E940886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5370-1879-4882-9BAF-76F3B4E89CBA}" type="datetime">
              <a:rPr b="0" lang="en-US" sz="1200" spc="-1" strike="noStrike">
                <a:solidFill>
                  <a:srgbClr val="ffffff"/>
                </a:solidFill>
                <a:latin typeface="Verdana"/>
              </a:rPr>
              <a:t>07/29/26</a:t>
            </a:fld>
            <a:r>
              <a:rPr b="0" lang="en-US" sz="1200" spc="-1" strike="noStrike">
                <a:solidFill>
                  <a:srgbClr val="ffffff"/>
                </a:solidFill>
                <a:latin typeface="Verdana"/>
              </a:rPr>
              <a:t> </a:t>
            </a:r>
            <a:fld id="{9DA88F21-8804-4FFF-B98F-D884AAF3AFA7}"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0DED-858B-4C67-A70B-CB96246064B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4CE77-9C08-4456-AC60-A87126D75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A180E-5B51-4BA3-BCA8-B41DFBCF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849D2-C4D4-4241-A844-682DDBCAC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47E3C-7145-453C-9E52-741D70D82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89317-1CE5-429C-9BFA-672386E53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48DF2-CCCE-49DE-9BCD-DBDA83EEB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6C487-9F89-4A6A-AE28-5D80877B7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D1EAB-9648-40DA-91F1-71F991885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0A249-41D8-4A9B-A0F4-62A5D53E0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2CD57-FC3A-46E0-AB0B-E94BB763F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69DE6-32F8-4363-8D4E-1A031261B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D2F14-5CC7-4532-8AEA-56E12CB4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B13BE-5810-4A82-A59A-FF173BE10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D6011-F75F-4F22-8F50-CA983B2BC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14C0A-A6CF-4A11-945C-E24D46AB1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20F73-B089-4E08-B54D-10230FB1A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A6802-7452-4ACE-AB4B-11861FF12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24488-79A7-488C-9B0B-897EB2CF9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D846E-961D-4CF4-973F-755FFB18C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3780C-6552-4ADF-8823-51F28C55A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2FD2C-D180-4CA1-A302-25C794444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26CA3-F54F-4901-99A6-DF36B5846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365BE-C2F3-40DB-AA20-9EDF11655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EB51-B5CA-47A2-97AE-EA1D68E20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DD55-7D5E-480D-BF1C-E81D8289620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FEA6-D240-461D-A8A3-561043C920D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C276-A610-4644-B3AF-B50E059B062E}"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