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0DEC2-7873-442A-A494-33C6EDE8BA5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1FDF2-2827-45C3-9EA9-9F14DD6EB7A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BAC3D-04B3-4A04-8B7C-F23434F05C9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4047F-0DFB-4BA6-890E-6CDEB79D6E9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69B35-0D3B-4A04-B48B-B6E8B4D64BB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F8CEA-3AA4-4E2A-8E9C-FB31A3D2F7F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2D969-97ED-48A1-AD8C-0C68DAF0B20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A22DE-C28B-49B2-8DCE-79899DEF1F9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692B6-2A19-46CD-B13E-D2FF1E918E7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C8C99-B1C4-4CD8-8547-6AF4BB7DDA5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A14B7-F96F-4C43-87A6-2D1B8901A25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D74BB-6843-4071-9844-D91E41F6FFA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30F53-CD2C-447A-BDEC-69D81236225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5532B-CADC-4333-BFEC-C1342A46407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0E150-F46B-4FD7-9B53-B199579F283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BD670-85D1-4AB6-BC57-F1AF8116B4A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B08DE-95B7-4CF9-A780-CF3BC00EE4E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11BC7-0BFF-4BD7-A373-F8FF0DABF3E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EBA53-3502-49C9-AF4C-E6FCF2C049C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DFB71-93B4-4BFA-B9D7-64860D35B7D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DF617-2515-4C7D-A590-068DA5B92A1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D945-B405-4D1B-98E8-8F0ACD65B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01F8-EC13-447F-86B3-AC88716D9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EB65-772C-4697-A613-7D0EF026B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F975-E8E8-4C81-BD3A-4C8356511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33B3-F596-4D8B-8770-6BA2E4ECB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0E7B-69AB-45EB-95BB-D6BD10338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1C4B-1EBB-492F-986C-FDA9AFDF5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9E8E-2809-4CC5-B3D9-B30430E18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75E0-5894-497E-AB2C-B17D6C7CD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A50A-B4E6-4BA3-B4C4-2EB9B93DE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6FEF-5907-42C6-A2DC-2ABFCA72D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6A9B-3C22-45B7-9C6A-E79310B52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590FF-A54C-4049-AB86-8E98EB3ECE9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C8D83-FA2A-42B5-9329-362222CE79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0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2"/>
          <p:cNvSpPr/>
          <p:nvPr/>
        </p:nvSpPr>
        <p:spPr>
          <a:xfrm>
            <a:off x="642960" y="357120"/>
            <a:ext cx="8072280" cy="24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58ed5"/>
                </a:solidFill>
                <a:latin typeface="Calibri"/>
              </a:rPr>
              <a:t>Water Services Trust Fun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 Urban Projects Concept (UPC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1859c"/>
                </a:solidFill>
                <a:latin typeface="Calibri"/>
              </a:rPr>
              <a:t>Fast-tracking &amp; up scaling provision of water and sanitation services to the urban po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642960" y="2071800"/>
            <a:ext cx="7816680" cy="41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Eng. Jacqueline Musyok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CEO of the WST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7. Commissioning and Operation.jpg"/>
          <p:cNvPicPr/>
          <p:nvPr/>
        </p:nvPicPr>
        <p:blipFill>
          <a:blip r:embed="rId2"/>
          <a:stretch/>
        </p:blipFill>
        <p:spPr>
          <a:xfrm>
            <a:off x="4714920" y="2924280"/>
            <a:ext cx="3844800" cy="30970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54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C8B6E-3323-4283-8865-ADCE9699BF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21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20F3B-4DCC-4787-BE16-8B2B12EF41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"/>
          <p:cNvSpPr/>
          <p:nvPr/>
        </p:nvSpPr>
        <p:spPr>
          <a:xfrm>
            <a:off x="285840" y="214200"/>
            <a:ext cx="4786200" cy="7146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UPC (cont.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457200" y="1000080"/>
            <a:ext cx="7900920" cy="50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pproval and awarding of projec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the WST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ject implementation by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SP and the WS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The Field Monitors of the WSTF provide support and are part of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Multi-Stakeholder Project Task T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7" descr="5. Proposal Awarding by WSTF.jpg"/>
          <p:cNvPicPr/>
          <p:nvPr/>
        </p:nvPicPr>
        <p:blipFill>
          <a:blip r:embed="rId2"/>
          <a:stretch/>
        </p:blipFill>
        <p:spPr>
          <a:xfrm>
            <a:off x="5286240" y="214200"/>
            <a:ext cx="3230640" cy="235764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27" name="Picture 8" descr="6b.Project Implementaton (Community Sensitisation).jpg"/>
          <p:cNvPicPr/>
          <p:nvPr/>
        </p:nvPicPr>
        <p:blipFill>
          <a:blip r:embed="rId3"/>
          <a:stretch/>
        </p:blipFill>
        <p:spPr>
          <a:xfrm>
            <a:off x="5214960" y="2786040"/>
            <a:ext cx="3286080" cy="242892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30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FF18A-E060-4559-AAA9-C20AFD8BF4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142920" y="142920"/>
            <a:ext cx="4572000" cy="7063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UPC (cont.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7" descr="7. Commissioning and Operation.jpg"/>
          <p:cNvPicPr/>
          <p:nvPr/>
        </p:nvPicPr>
        <p:blipFill>
          <a:blip r:embed="rId2"/>
          <a:stretch/>
        </p:blipFill>
        <p:spPr>
          <a:xfrm>
            <a:off x="5286240" y="571680"/>
            <a:ext cx="3356280" cy="25714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35" name="Picture 8" descr="8. Project Evaluation.jpg"/>
          <p:cNvPicPr/>
          <p:nvPr/>
        </p:nvPicPr>
        <p:blipFill>
          <a:blip r:embed="rId3"/>
          <a:stretch/>
        </p:blipFill>
        <p:spPr>
          <a:xfrm>
            <a:off x="5283360" y="3500280"/>
            <a:ext cx="3349440" cy="235764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136" name="Rectangle 3"/>
          <p:cNvSpPr/>
          <p:nvPr/>
        </p:nvSpPr>
        <p:spPr>
          <a:xfrm>
            <a:off x="142920" y="928800"/>
            <a:ext cx="7900920" cy="46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peration of the proje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the W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8.    Evaluation of the project by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STF or by external evaluato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Evaluation should be participative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involve the residents  &gt;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39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93624-27A0-4BBF-A7F0-E10D37B046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2"/>
          <p:cNvSpPr/>
          <p:nvPr/>
        </p:nvSpPr>
        <p:spPr>
          <a:xfrm>
            <a:off x="500040" y="214200"/>
            <a:ext cx="8001000" cy="8575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PC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pport provided to the WSBs and WSP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428760" y="1071720"/>
            <a:ext cx="7900920" cy="49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480" indent="6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The WSTF has developed a number support product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UPC Brochure &amp; UPC 8-Step Cha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oolkit for Urban Water Supply Projects (on  DVD-RO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oolkit for Public Sanitation Projects (on  DVD-RO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Water Source -  the water and sanitation literature DV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quaPix  -    the urban pictures DV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he In-situ Water Kiosk Construction Manu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oolkit for Urban Sanitation Proje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 number of urban community sensitisation posters. Focus, fetching at the kiosk, on water storage &amp; use, hand washing and HIV/AIDS (laminated, size A3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46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7A57E-26B2-4C0B-B824-538D51F8E9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2"/>
          <p:cNvSpPr/>
          <p:nvPr/>
        </p:nvSpPr>
        <p:spPr>
          <a:xfrm>
            <a:off x="500040" y="285840"/>
            <a:ext cx="8001000" cy="7858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P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pport provided to the WSBs and WSPs: The Toolkit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285840" y="1285920"/>
            <a:ext cx="8532720" cy="46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480" indent="61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Toolkit for Urban Water Supply Project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llows a project to mainstream HIV/AIDS and to address gender issu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s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organised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in easy accessible modul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ill mainly be used by the Field monitors and by WSP and WSB staff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Was developed with three  WSPs (Oloolaiser Water and Sewerage Company, Mavoko WSC and Naivasha Water, Sewerage and Sanitation Company) during the implementation of the </a:t>
            </a:r>
            <a:r>
              <a:rPr b="0" i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Kiosk Pilot Project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(funded by GTZ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All lessons learned resulted in numerous improvements and adapt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The pilot project currently supplies more than 20,000 residents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53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566DC-AEB6-4026-9812-1DD27C9444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"/>
          <p:cNvSpPr/>
          <p:nvPr/>
        </p:nvSpPr>
        <p:spPr>
          <a:xfrm>
            <a:off x="500040" y="285840"/>
            <a:ext cx="8001000" cy="7858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P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pport provided to the WSBs and WSPs: The Toolkit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3"/>
          <p:cNvSpPr/>
          <p:nvPr/>
        </p:nvSpPr>
        <p:spPr>
          <a:xfrm>
            <a:off x="457200" y="1357200"/>
            <a:ext cx="7900920" cy="46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480" indent="6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Toolkit for Urban Water Supply Project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ains all tools needed to plan, implement &amp; operate an urban water supply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vers all phases of the project cyc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ains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WSTF Application Form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as well as data collection and project evaluation too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cludes all necessary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drawing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bills of quantiti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ains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accompanying measure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f a water supply project (community mobilisation, sensitisation and participation, training of staff and kiosk operators, etc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60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DFB49-D20A-470D-B333-CC301DBAF8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"/>
          <p:cNvSpPr/>
          <p:nvPr/>
        </p:nvSpPr>
        <p:spPr>
          <a:xfrm>
            <a:off x="285840" y="214200"/>
            <a:ext cx="8143920" cy="7858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PC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pport provided to the WSBs and WSPs: Field Monitor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285840" y="1071720"/>
            <a:ext cx="790092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4800" indent="-3348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ach project receives the support from a (1) Engineering-, (2) Social- and an (3) Financial Field Monit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The Field Monitor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re specialists contracted by the WST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re attached to WSTF-funded 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sist, facilitate, advice &amp; build capacity at WSP-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so monitor progress and quality on behalf of the WST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ork closely together with the WSP and WSB and are part of the Project Task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ject Task Team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 consists of: WSP and WSB staff, Council staff, the Public Health Officer (PHO),  the Chief, residents and the Field Moni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66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7610F-87E8-4344-848F-5DDCBE0CB7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2"/>
          <p:cNvSpPr/>
          <p:nvPr/>
        </p:nvSpPr>
        <p:spPr>
          <a:xfrm>
            <a:off x="71280" y="71280"/>
            <a:ext cx="8643960" cy="128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PC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pport provided to the WSBs and WSP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chnical Options: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Water Supply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457200" y="1285920"/>
            <a:ext cx="7900920" cy="48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Toolkit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tains a number of technical options (drawings, BoQs, etc.) a WSP can opt f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itu closed water kiosk (2 siz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fabricated closed kiosk (2 siz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fabricated bamboo eco kio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n kiosk (covered and not cover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itu yard ta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fabricated yard t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paid  public tap (being develop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eter chambers (for up to 25 met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WSP can also choose to implement a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mixed system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(kiosks and yard taps or kiosk and domestic conn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7" descr="DSC02807.JPG"/>
          <p:cNvPicPr/>
          <p:nvPr/>
        </p:nvPicPr>
        <p:blipFill>
          <a:blip r:embed="rId2"/>
          <a:stretch/>
        </p:blipFill>
        <p:spPr>
          <a:xfrm>
            <a:off x="4809960" y="2928960"/>
            <a:ext cx="419112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74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CBDA4-756B-497E-9642-C0E37496AF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2"/>
          <p:cNvSpPr/>
          <p:nvPr/>
        </p:nvSpPr>
        <p:spPr>
          <a:xfrm>
            <a:off x="71280" y="142920"/>
            <a:ext cx="8715600" cy="128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PC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pport provided to the WSBs and WSP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chnical Options: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Sanitation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3"/>
          <p:cNvSpPr/>
          <p:nvPr/>
        </p:nvSpPr>
        <p:spPr>
          <a:xfrm>
            <a:off x="142920" y="1428840"/>
            <a:ext cx="7900920" cy="46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final version of th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Toolkit for Urban Sanitation Project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will contain a number of technical options a WSP can opt f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public sanitation facility (linked 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sewer or to a bio-digest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plot-level (shared facil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household level sanitation fac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An increasing number of residents of low income areas are renting their accommodation. They live on a plot together with other tenants and share the available toilet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8" descr="image 01.jpg"/>
          <p:cNvPicPr/>
          <p:nvPr/>
        </p:nvPicPr>
        <p:blipFill>
          <a:blip r:embed="rId2"/>
          <a:stretch/>
        </p:blipFill>
        <p:spPr>
          <a:xfrm>
            <a:off x="4429080" y="2567160"/>
            <a:ext cx="428616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82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3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39A79-8119-4809-8B57-11E69D963F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2"/>
          <p:cNvSpPr/>
          <p:nvPr/>
        </p:nvSpPr>
        <p:spPr>
          <a:xfrm>
            <a:off x="285840" y="214200"/>
            <a:ext cx="8001000" cy="10000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PC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st but not least: MajiData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285840" y="1160640"/>
            <a:ext cx="7900920" cy="48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WSTF, at the request of the Ministry of Water and irrigation, is conducting a pro-poor mapping exerci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tailed data is collected in and on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all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w income urban areas of Keny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 on population, current water supply &amp; sanitation (WSS) situation, housing, solid waste, socio-economic activities &amp; infrastructure, land ownership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PS readings are taken of area boundaries, existing WSS infrastructure and of the “area characterisation pictures” ta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The data will be used to create a database: </a:t>
            </a: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MajiD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MajiData  is supported and implemented together with Google.org, Un-Habitat and KfW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89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B6D1B-213A-48E2-B691-33D209D582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2"/>
          <p:cNvSpPr/>
          <p:nvPr/>
        </p:nvSpPr>
        <p:spPr>
          <a:xfrm>
            <a:off x="428760" y="285840"/>
            <a:ext cx="8001000" cy="10000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PC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bjectives of MajiData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357120" y="1357200"/>
            <a:ext cx="7900920" cy="46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38268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mproving water supply &amp; sanitation (WSS) in urban low income are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Enable Water Services Providers (WSPs) to prepare realistic project proposals for the WST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able the WSTF to evaluate and prioritise proposals (value for mone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trengthen the capacity of WSPs to manage WSS schem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able the Kenyan water sector to assess the current WSS situation and monitor the impact of programmes and their contribution to the achievement of MDGs &amp; Vision 2030 objec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The Team has completed data collection in 6 Water Services Boards regions. Data collection will be complete in November. The Team has collected data on more than 1,100  low income urban are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7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0DA17-B396-40BF-8E89-B201E6FCE3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2"/>
          <p:cNvSpPr/>
          <p:nvPr/>
        </p:nvSpPr>
        <p:spPr>
          <a:xfrm>
            <a:off x="500040" y="285840"/>
            <a:ext cx="8001000" cy="10000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Challe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500040" y="1357200"/>
            <a:ext cx="7929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 large proportion of the urban population in Kenya does not have access to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safe water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adequate sani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P1010648.JPG"/>
          <p:cNvPicPr/>
          <p:nvPr/>
        </p:nvPicPr>
        <p:blipFill>
          <a:blip r:embed="rId2"/>
          <a:stretch/>
        </p:blipFill>
        <p:spPr>
          <a:xfrm>
            <a:off x="857160" y="2874960"/>
            <a:ext cx="3500640" cy="26258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P1010664.JPG"/>
          <p:cNvPicPr/>
          <p:nvPr/>
        </p:nvPicPr>
        <p:blipFill>
          <a:blip r:embed="rId3"/>
          <a:stretch/>
        </p:blipFill>
        <p:spPr>
          <a:xfrm>
            <a:off x="4786200" y="2874960"/>
            <a:ext cx="3500640" cy="26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96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7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48D28-1373-491D-B2D5-5D5478F7F2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2"/>
          <p:cNvSpPr/>
          <p:nvPr/>
        </p:nvSpPr>
        <p:spPr>
          <a:xfrm>
            <a:off x="214200" y="214200"/>
            <a:ext cx="4500720" cy="10717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Thank you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1" descr=""/>
          <p:cNvPicPr/>
          <p:nvPr/>
        </p:nvPicPr>
        <p:blipFill>
          <a:blip r:embed="rId2"/>
          <a:stretch/>
        </p:blipFill>
        <p:spPr>
          <a:xfrm>
            <a:off x="5076720" y="216000"/>
            <a:ext cx="3346560" cy="25113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6" descr="P1020493.JPG"/>
          <p:cNvPicPr/>
          <p:nvPr/>
        </p:nvPicPr>
        <p:blipFill>
          <a:blip r:embed="rId3"/>
          <a:stretch/>
        </p:blipFill>
        <p:spPr>
          <a:xfrm>
            <a:off x="5072040" y="307188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P1020484.JPG"/>
          <p:cNvPicPr/>
          <p:nvPr/>
        </p:nvPicPr>
        <p:blipFill>
          <a:blip r:embed="rId4"/>
          <a:stretch/>
        </p:blipFill>
        <p:spPr>
          <a:xfrm>
            <a:off x="214200" y="2286000"/>
            <a:ext cx="4500720" cy="33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5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6A47A-315E-4621-988B-03AB8D8362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500040" y="142920"/>
            <a:ext cx="7858080" cy="7142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Respon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457200" y="1000080"/>
            <a:ext cx="8218440" cy="51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o respond to this challenge, the Water Services Trust Fund (WSTF) established an </a:t>
            </a:r>
            <a:r>
              <a:rPr b="0" lang="en-GB" sz="2200" spc="-1" strike="noStrike" u="sng">
                <a:solidFill>
                  <a:srgbClr val="000000"/>
                </a:solidFill>
                <a:uFillTx/>
                <a:latin typeface="Calibri"/>
              </a:rPr>
              <a:t>Urban Window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to finance sustainable urban water supply and sanitation projects in low income urban are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his Window is supported by the European Union (EU) and by the German Development Bank (KfW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vailable funds :  € 15.5 million (approx KSh 1.5 Billio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KfW will continue supporting the UPC after the current phase          (€ 5.5. million) with an additional € 12 mill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echnical support is provided by the German Technical Cooperation (GTZ) and by Kf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he WSTF has developed the </a:t>
            </a:r>
            <a:r>
              <a:rPr b="0" lang="en-GB" sz="2200" spc="-1" strike="noStrike" u="sng">
                <a:solidFill>
                  <a:srgbClr val="000000"/>
                </a:solidFill>
                <a:uFillTx/>
                <a:latin typeface="Calibri"/>
              </a:rPr>
              <a:t>Urban Projects Concept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(UPC) to provide support and opportunities to the Water Service Providers (WSPs) &amp; Water Services Boards (WSB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71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F4DAB-D854-455C-AA6F-018A2E9960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500040" y="214200"/>
            <a:ext cx="7929720" cy="7858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Objectiv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457200" y="1143000"/>
            <a:ext cx="7972560" cy="48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at does the WSTF intend to achie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Making sustainable safe water and adequate sanitation accessible to a large number of urban po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Improving public healt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Contributing to the improvement of urban livelihoo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Reducing unaccounted for wate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Build capacity at provider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 u="sng">
                <a:solidFill>
                  <a:srgbClr val="000000"/>
                </a:solidFill>
                <a:uFillTx/>
                <a:latin typeface="Calibri"/>
              </a:rPr>
              <a:t>Objective of the WSTF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:  reaching the poor…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Water supply:    1.4 million residents (500,000 in 201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Sanitation: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       400,000 residents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between January 2009 and December 201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78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EAD10-79F2-4FD5-A020-1E13A6D562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500040" y="214200"/>
            <a:ext cx="8001000" cy="6429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Objectives (cont.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457200" y="1000080"/>
            <a:ext cx="7972560" cy="51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382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Water supply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nvestment cost per beneficiary:  Euro 5 – Euro 17 (depending on the required technical works and social constraints) of urban liveliho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educing unaccounted for wa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P1010655.JPG"/>
          <p:cNvPicPr/>
          <p:nvPr/>
        </p:nvPicPr>
        <p:blipFill>
          <a:blip r:embed="rId2"/>
          <a:stretch/>
        </p:blipFill>
        <p:spPr>
          <a:xfrm>
            <a:off x="4238640" y="3498840"/>
            <a:ext cx="3905280" cy="29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86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F7913-E3D4-4BA5-B74E-BB1487504B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"/>
          <p:cNvSpPr/>
          <p:nvPr/>
        </p:nvSpPr>
        <p:spPr>
          <a:xfrm>
            <a:off x="500040" y="214200"/>
            <a:ext cx="8001000" cy="7146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Objectives (cont.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457200" y="928800"/>
            <a:ext cx="7972560" cy="51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38268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Sanitation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nvestment cost per beneficiary: KSh 500 (funded by WSTF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e WSTF will offer innovative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public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plot-level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household-level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sanitation solutions: KSh 8,000 for a single household facility and KSh 40,000 – 70,000; for a shared facility (4 – 20 households living on the same plo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Sanitation, in most cases, the outcome of a household decision... or a decision made by the landlor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P1010737.JPG"/>
          <p:cNvPicPr/>
          <p:nvPr/>
        </p:nvPicPr>
        <p:blipFill>
          <a:blip r:embed="rId2"/>
          <a:stretch/>
        </p:blipFill>
        <p:spPr>
          <a:xfrm>
            <a:off x="571680" y="4071960"/>
            <a:ext cx="3524040" cy="22147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image 01.jpg"/>
          <p:cNvPicPr/>
          <p:nvPr/>
        </p:nvPicPr>
        <p:blipFill>
          <a:blip r:embed="rId3"/>
          <a:stretch/>
        </p:blipFill>
        <p:spPr>
          <a:xfrm>
            <a:off x="4500720" y="4071960"/>
            <a:ext cx="4071960" cy="22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95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09BF5-ACA6-444A-96F9-F5CA754609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2"/>
          <p:cNvSpPr/>
          <p:nvPr/>
        </p:nvSpPr>
        <p:spPr>
          <a:xfrm>
            <a:off x="500040" y="214200"/>
            <a:ext cx="7929720" cy="7858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Appro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" descr=""/>
          <p:cNvPicPr/>
          <p:nvPr/>
        </p:nvPicPr>
        <p:blipFill>
          <a:blip r:embed="rId2"/>
          <a:stretch/>
        </p:blipFill>
        <p:spPr>
          <a:xfrm>
            <a:off x="1473120" y="3481560"/>
            <a:ext cx="3527640" cy="264456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3"/>
          <p:cNvSpPr/>
          <p:nvPr/>
        </p:nvSpPr>
        <p:spPr>
          <a:xfrm>
            <a:off x="457200" y="1428840"/>
            <a:ext cx="8043840" cy="46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e funds of the WSTF can only be accessed by licensed Water Service Providers (WS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e WSPs are responsible for the management of project funds as well as for the successful implementation and sustainable operation of the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03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CE3BF-2D42-4044-B73D-25349FC142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214200" y="214200"/>
            <a:ext cx="8358480" cy="8575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UP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rban Projects Concept has eight (8) ste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214200" y="1214280"/>
            <a:ext cx="814392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aunch of the Call for Proposa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the WST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llection of data by the W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population demand for wat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7" descr="1. Announcing the Call for Proposals .jpg"/>
          <p:cNvPicPr/>
          <p:nvPr/>
        </p:nvPicPr>
        <p:blipFill>
          <a:blip r:embed="rId2"/>
          <a:stretch/>
        </p:blipFill>
        <p:spPr>
          <a:xfrm>
            <a:off x="5357880" y="1143000"/>
            <a:ext cx="3214800" cy="232884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09" name="Picture 8" descr="2. Data Collection.jpg"/>
          <p:cNvPicPr/>
          <p:nvPr/>
        </p:nvPicPr>
        <p:blipFill>
          <a:blip r:embed="rId3"/>
          <a:stretch/>
        </p:blipFill>
        <p:spPr>
          <a:xfrm>
            <a:off x="5357880" y="3643200"/>
            <a:ext cx="3286080" cy="233676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12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703C9-635C-4B82-8247-1DC08CB862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"/>
          <p:cNvSpPr/>
          <p:nvPr/>
        </p:nvSpPr>
        <p:spPr>
          <a:xfrm>
            <a:off x="428760" y="214200"/>
            <a:ext cx="8143920" cy="8575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UPC (cont.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5120" indent="-465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eparation of project proposa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WSPs and WS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  Appraisal of project propos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the WST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7" descr="3. Proposal Preparation.jpg"/>
          <p:cNvPicPr/>
          <p:nvPr/>
        </p:nvPicPr>
        <p:blipFill>
          <a:blip r:embed="rId2"/>
          <a:stretch/>
        </p:blipFill>
        <p:spPr>
          <a:xfrm>
            <a:off x="5286240" y="1071720"/>
            <a:ext cx="3286440" cy="232884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18" name="Picture 8" descr="4. Proposal Evaluation by WSTF.jpg"/>
          <p:cNvPicPr/>
          <p:nvPr/>
        </p:nvPicPr>
        <p:blipFill>
          <a:blip r:embed="rId3"/>
          <a:stretch/>
        </p:blipFill>
        <p:spPr>
          <a:xfrm>
            <a:off x="5286240" y="3643200"/>
            <a:ext cx="3321360" cy="231480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9T12:02:34Z</dcterms:created>
  <dc:creator>dell client</dc:creator>
  <dc:description/>
  <dc:language>en-US</dc:language>
  <cp:lastModifiedBy>rolendo</cp:lastModifiedBy>
  <dcterms:modified xsi:type="dcterms:W3CDTF">2010-10-18T04:54:57Z</dcterms:modified>
  <cp:revision>123</cp:revision>
  <dc:subject/>
  <dc:title>Slide 1</dc:title>
</cp:coreProperties>
</file>