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BCC-B38D-44BF-8AEA-03B64BB9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58D-7FDD-4189-AFF3-75FD2F65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12A-E53F-4E3A-AD16-3C2FF34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3A5-8195-43F6-B444-02A5D230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A38-80B2-4255-8AE3-79674859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490-95C6-4B39-BC10-CFB3124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135-37DA-4E77-9C29-C4343E9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D0C-02E5-409F-892E-36B5FC6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B1D-3E9D-4D53-A1F8-110489D3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01B-D2CE-481C-946F-70AD24C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48C-BF32-4608-90A4-13AF984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5BE-09E2-45EB-811C-692A44E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2650-65DD-460C-A38F-6D920B26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LEGT is interesting from a political economy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ful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ifts in EU / US markets create strong incentives in timber producing countries to tackle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r of losing mark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ed government / busines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utational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kilful design of V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ity not sustainability, to be defined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arrangement but enshrined in formal tre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flexibility but EU requires genuine MSH process: government, business and civil society as equ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A negotiation further changes perceptions, increases information and trust, creates new alliances and shared interests in more rules-based arrangements, strengthen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use of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d by sector specialists with global reach and in-depth countr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term, targeted, flexible support (for NGO research and advocacy, lobbying for legislative changes, dissemination, liaison with timber associations, facilitating contacts between importers and expor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edom to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ing trade, development, environment objectives; co-operation between EC and 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new VPA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LAS and securing development / governanc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RE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ing China, India,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cope to sustain, build on shift in incentives of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12:41Z</dcterms:created>
  <dc:creator>UNSWORTH</dc:creator>
  <dc:description/>
  <dc:language>en-US</dc:language>
  <cp:lastModifiedBy>UNSWORTH</cp:lastModifiedBy>
  <dcterms:modified xsi:type="dcterms:W3CDTF">2011-01-07T16:30:23Z</dcterms:modified>
  <cp:revision>5</cp:revision>
  <dc:subject/>
  <dc:title>Why FLEGT is interesting from a political economy perspective</dc:title>
</cp:coreProperties>
</file>