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3316-DBC3-47B9-B807-087D66740A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6F30-CB13-47A5-B32D-74A91A27E958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B0A0-2884-46EA-B26F-EAE2EA52CA21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875F-B3FA-4BB3-818A-202D6E3BE3DE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45AA-ED96-4780-B58F-4FEF1A4FABED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768C-ED1F-409D-B3C6-A29B0B1F9DA1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0DDC-E994-4947-BDFB-973AA3606DD4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2A72-DEDA-4C5F-92FF-9E37169F8CF3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BFB7-D8CC-44EB-A5AE-2F0ACCBA1C2C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B89F-415E-472B-8B13-0EB2BD93C956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3210-AAFC-4ADC-91D8-2B7E084C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4047-41CE-428E-8FC8-7BCD971B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23AB-F26E-4931-AAB8-8DE43F17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EA9D-F080-40B8-A027-B93C02EA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58E74-0010-46FD-91DD-B7262B54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1F4FA-B6E3-4D65-8F94-F16A8FED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AB36-2BE9-4435-9A8E-07B66613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F9E0-1C64-4B7A-A896-7A3DE141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8A0C-982E-44DF-B56D-6F19FBE6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8E37-451E-45E8-8C3A-C5C49FE8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33F8-6D68-45EB-B67F-5257794A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231E-497A-42AA-9844-7BC8DB2D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ad8f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c5a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d2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0D9E-29E0-4E9C-946A-7DC57CAC1BE0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3f2d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A758-834B-4100-99AD-7593457A8213}" type="datetime">
              <a:rPr b="0" lang="fr-FR" sz="1200" spc="-1" strike="noStrike">
                <a:solidFill>
                  <a:srgbClr val="f3f2dc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0" y="1029600"/>
            <a:ext cx="1447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8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360" y="54864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34"/>
                </a:solidFill>
                <a:latin typeface="Calibri"/>
              </a:rPr>
              <a:t>Situation des réfugiés de la République centrafricaine (RCA) - Réponse Régionale et Défis </a:t>
            </a:r>
            <a:r>
              <a:rPr b="1" lang="en-US" sz="28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92934"/>
                </a:solidFill>
                <a:latin typeface="Calibri"/>
              </a:rPr>
              <a:t>Statistiques des réfugiés dans la région</a:t>
            </a:r>
            <a:endParaRPr b="0" lang="en-US" sz="32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32D2-0DAD-4200-BD8F-8D06E4C6612F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295280"/>
            <a:ext cx="4756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92934"/>
                </a:solidFill>
                <a:latin typeface="Calibri"/>
                <a:ea typeface="Arial"/>
              </a:rPr>
              <a:t>Population de réfugiés</a:t>
            </a: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465,148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AMEROUN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47.245 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TCHAD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4.02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RDC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7.175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ONGO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6.70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3238560" cy="5841720"/>
          </a:xfrm>
          <a:prstGeom prst="rect">
            <a:avLst/>
          </a:prstGeom>
          <a:ln w="0">
            <a:noFill/>
          </a:ln>
        </p:spPr>
      </p:pic>
      <p:sp>
        <p:nvSpPr>
          <p:cNvPr id="57" name="Content Placeholder 2"/>
          <p:cNvSpPr/>
          <p:nvPr/>
        </p:nvSpPr>
        <p:spPr>
          <a:xfrm>
            <a:off x="76320" y="62485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292934"/>
                </a:solidFill>
                <a:latin typeface="Calibri"/>
                <a:ea typeface="Arial"/>
              </a:rPr>
              <a:t>* Au 1 Mai 2015</a:t>
            </a: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3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0" y="60948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92934"/>
                </a:solidFill>
                <a:latin typeface="Calibri"/>
              </a:rPr>
              <a:t>Stratégie et Réponse Régionale pour les Réfugiés </a:t>
            </a:r>
            <a:endParaRPr b="0" lang="en-US" sz="3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Modèle de coordination des réfugiés 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lan de Réponse Régionale pour les Réfugiés (PRRR)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olitique, planification, consultations et partage d'informations avec les partenaires de mise en œuvre et de financement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Réponse aux besoins des communautés hôtes impacté par la présence des réfugiés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Considération des questions transversales comme la protection, le genre et les préoccupations environnementales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1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55CE-9FBB-4A7E-823D-2234CFEA2C56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en </a:t>
            </a:r>
            <a:r>
              <a:rPr b="1" lang="fr-FR" sz="4000" spc="-1" strike="noStrike">
                <a:solidFill>
                  <a:srgbClr val="292934"/>
                </a:solidFill>
                <a:latin typeface="Calibri"/>
              </a:rPr>
              <a:t>Protection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8380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enregistrement de 462,015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elocalisation d’environ 195,000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fugiés de la frontière vers 14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livrance de documentation à 80%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es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Établissement des aires de jeux pour les enfants dans les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unifications familiales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Prévention et réponse aux cas de v</a:t>
            </a:r>
            <a:r>
              <a:rPr b="0" lang="fr-FR" sz="2500" spc="-1" strike="noStrike">
                <a:solidFill>
                  <a:srgbClr val="292934"/>
                </a:solidFill>
                <a:latin typeface="Calibri"/>
              </a:rPr>
              <a:t>iolence basée sur le genre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 (médicale, psychosociale et juridique)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assistance aux personnes ayant des besoins spécif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B218-94FB-4A88-B93F-0C50D00795CA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opérationnelles</a:t>
            </a:r>
            <a:br>
              <a:rPr sz="4000"/>
            </a:br>
            <a:r>
              <a:rPr b="1" lang="fr-CA" sz="2400" spc="-1" strike="noStrike">
                <a:solidFill>
                  <a:srgbClr val="292934"/>
                </a:solidFill>
                <a:latin typeface="Calibri"/>
              </a:rPr>
              <a:t>avec les partenaires de mise en œuvre et opérationnels</a:t>
            </a:r>
            <a:endParaRPr b="0" lang="en-US" sz="24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1426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ménagement de 14 sites et 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provision de 100%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'abris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’urgences en Cameroun, Tchad, RDC et Congo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s des structures d'eau et d'assainissement (forages, latrines et douches)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ssistance médicale et réponse aux cas de malnutrition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istribution mensuelle des vivres et non vivres pour environ 195,000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réfugiés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 des Espaces Temporaires d’Apprentissage et de Protection dans les sites et renforcement des capacités des écoles publiques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Réhabilitation des infrastructures locales</a:t>
            </a:r>
            <a:r>
              <a:rPr b="0" lang="en-CA" sz="2000" spc="-1" strike="noStrike">
                <a:solidFill>
                  <a:srgbClr val="292934"/>
                </a:solidFill>
                <a:latin typeface="Calibri"/>
              </a:rPr>
              <a:t>/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es services sociaux de bas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Établissements des comités pour la coexistence pacifiqu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3C23-FF7F-40D1-AEEC-56872DF1CD09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Solutions durable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24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majorité des réfugiés optent pour l’intégration locale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s conditions posées pour leur retour :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rétablissement de la sécurité en RCA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désarmement des groupes armés, la répartition et    l’indemnisation de biens pillés par les groupes armé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poursuite des auteurs de crim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non-discrimination des musulmans et leur reconnaissance àla citoyenneté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bonne gouvernance et la tenue des élections transparent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cohabitation pacifique inter-religieuse et communautaire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FB15-7BE4-4F2B-89C2-5C972A201080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Défi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La malnutrition chronique et l’insécurité aliment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capacité des infrastructures publiques (écoles, sanitaires, santé, etc.)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nsécurité pour les réfugiés à proximité des frontières et l'accès humanitaire limité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fis logist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Conflits entre les réfugiés et la communauté hôte liée au bois de chauffe, accès à l'eau et pâturage 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retour des ressortissants des pays tier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éducation des réfugiés au niveau secondaire et terti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Manque chronique de fonds, qui remet en cause la fourniture de l’assistance humanitaire selon les standard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3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B916-57D6-4517-AE27-0129D8DF5012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Niveau de financemen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0017-F5E3-4A69-BD8C-1DDD83CBF464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571500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alibri"/>
                <a:ea typeface="Arial"/>
              </a:rPr>
              <a:t>13% Financé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36520" y="7621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demandés pour la Réponse :</a:t>
            </a:r>
            <a:r>
              <a:rPr b="1" lang="en-US" sz="14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240.710.733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reçus au 19 Mai :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31.464.278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8840" y="3962520"/>
          <a:ext cx="8076960" cy="24955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240"/>
                <a:gridCol w="201924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soins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çu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é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ameroun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71.937.91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.046.43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C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1.415.8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8.620.46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Tchad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46.646.888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.443.64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ong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0.989.58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9.15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DC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7.036.3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937.584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29" descr=""/>
          <p:cNvPicPr/>
          <p:nvPr/>
        </p:nvPicPr>
        <p:blipFill>
          <a:blip r:embed="rId1"/>
          <a:stretch/>
        </p:blipFill>
        <p:spPr>
          <a:xfrm rot="5732400">
            <a:off x="2263320" y="103644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BF6E-1276-47E6-B1EF-C975102F7A5B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005520" cy="5943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536400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Calibri"/>
              </a:rPr>
              <a:t>Merci</a:t>
            </a:r>
            <a:endParaRPr b="0" lang="en-US" sz="8000" spc="-1" strike="noStrike">
              <a:solidFill>
                <a:srgbClr val="d2533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2:42:32Z</dcterms:created>
  <dc:creator>Martha Piper</dc:creator>
  <dc:description/>
  <dc:language>en-US</dc:language>
  <cp:lastModifiedBy>RIGOLLI Cristina (DEVCO)</cp:lastModifiedBy>
  <cp:lastPrinted>2015-05-21T11:59:53Z</cp:lastPrinted>
  <dcterms:modified xsi:type="dcterms:W3CDTF">2015-05-22T12:21:26Z</dcterms:modified>
  <cp:revision>257</cp:revision>
  <dc:subject/>
  <dc:title>PowerPoint Presentation</dc:title>
</cp:coreProperties>
</file>