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A982-D812-4F61-873D-B4DDDCC617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9EB1-901E-425A-ADEF-0BCB4E54AF57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F5A1-EE39-4894-93E2-DA9DD7E60A27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562A-0264-4BCA-842B-508C0603BA14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DCD6-C0D1-478E-965F-A13356226EDF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BA96-155C-4938-9EC6-E32F059897B0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B4D2-3D7B-4E2A-8D1C-B54E0A66F23E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88B1-1BFF-4759-A6B4-200C6413C90B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54C1-9305-4EC8-885B-3B0F0AB4148A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6DD2-DC0F-4DAD-AFA1-8278B539CEBD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5E52-6C69-4B38-B6A1-B2B753A5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8D9C-178C-4F65-9540-8DCDD14A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AC07-7E0D-4498-AC57-433C338E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C072-4DB8-4D15-B1D8-F5C1C36F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79C5-7646-4688-925A-C4B27BB4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46A6-31F0-4161-B990-5E1998CA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022A-58A8-4BBF-AE31-9F8E2651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B673-8438-476E-AFA5-02210A57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57F6-7635-492B-B605-4D54BDE1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6D01-8D30-4AB8-9CDD-04F52F6F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D805-4B17-4457-ABC5-B03DB343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00C3-F8EA-4D0A-A9EE-42A572C3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ad8f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c5a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d2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D017-BE8B-4509-B28C-E486FA09C7A3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3f2d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79F2-F3F3-49E0-8FF5-7B34B9083043}" type="datetime">
              <a:rPr b="0" lang="fr-FR" sz="1200" spc="-1" strike="noStrike">
                <a:solidFill>
                  <a:srgbClr val="f3f2dc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0" y="1029600"/>
            <a:ext cx="1447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54864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34"/>
                </a:solidFill>
                <a:latin typeface="Calibri"/>
              </a:rPr>
              <a:t>Situation des réfugiés de la République centrafricaine (RCA) - Réponse Régionale et Défis </a:t>
            </a:r>
            <a:r>
              <a:rPr b="1" lang="en-US" sz="28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92934"/>
                </a:solidFill>
                <a:latin typeface="Calibri"/>
              </a:rPr>
              <a:t>Statistiques des réfugiés dans la région</a:t>
            </a:r>
            <a:endParaRPr b="0" lang="en-US" sz="32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463F-F54B-4497-B24B-ECFDFE719345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295280"/>
            <a:ext cx="475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92934"/>
                </a:solidFill>
                <a:latin typeface="Calibri"/>
                <a:ea typeface="Arial"/>
              </a:rPr>
              <a:t>Population de réfugiés</a:t>
            </a: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465,148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AMEROUN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47.245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TCHAD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4.02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RDC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7.175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ONGO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6.70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3238560" cy="5841720"/>
          </a:xfrm>
          <a:prstGeom prst="rect">
            <a:avLst/>
          </a:prstGeom>
          <a:ln w="0">
            <a:noFill/>
          </a:ln>
        </p:spPr>
      </p:pic>
      <p:sp>
        <p:nvSpPr>
          <p:cNvPr id="57" name="Content Placeholder 2"/>
          <p:cNvSpPr/>
          <p:nvPr/>
        </p:nvSpPr>
        <p:spPr>
          <a:xfrm>
            <a:off x="76320" y="62485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292934"/>
                </a:solidFill>
                <a:latin typeface="Calibri"/>
                <a:ea typeface="Arial"/>
              </a:rPr>
              <a:t>* Au 1 Mai 2015</a:t>
            </a: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3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0" y="6094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92934"/>
                </a:solidFill>
                <a:latin typeface="Calibri"/>
              </a:rPr>
              <a:t>Stratégie et Réponse Régionale pour les Réfugiés </a:t>
            </a:r>
            <a:endParaRPr b="0" lang="en-US" sz="3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Modèle de coordination des réfugiés 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lan de Réponse Régionale pour les Réfugiés (PRRR)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olitique, planification, consultations et partage d'informations avec les partenaires de mise en œuvre et de financement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Réponse aux besoins des communautés hôtes impacté par la présence des réfugiés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Considération des questions transversales comme la protection, le genre et les préoccupations environnementales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1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5383-050F-4F73-BA42-CF9145F24D34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en </a:t>
            </a:r>
            <a:r>
              <a:rPr b="1" lang="fr-FR" sz="4000" spc="-1" strike="noStrike">
                <a:solidFill>
                  <a:srgbClr val="292934"/>
                </a:solidFill>
                <a:latin typeface="Calibri"/>
              </a:rPr>
              <a:t>Protection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8380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enregistrement de 462,015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elocalisation d’environ 195,000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fugiés de la frontière vers 14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livrance de documentation à 80%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es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Établissement des aires de jeux pour les enfants dans les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unifications familiales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Prévention et réponse aux cas de v</a:t>
            </a:r>
            <a:r>
              <a:rPr b="0" lang="fr-FR" sz="2500" spc="-1" strike="noStrike">
                <a:solidFill>
                  <a:srgbClr val="292934"/>
                </a:solidFill>
                <a:latin typeface="Calibri"/>
              </a:rPr>
              <a:t>iolence basée sur le genre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 (médicale, psychosociale et juridique)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assistance aux personnes ayant des besoins spécif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E4B8-58A0-4251-A9B7-E88ADF7ED944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opérationnelles</a:t>
            </a:r>
            <a:br>
              <a:rPr sz="4000"/>
            </a:br>
            <a:r>
              <a:rPr b="1" lang="fr-CA" sz="2400" spc="-1" strike="noStrike">
                <a:solidFill>
                  <a:srgbClr val="292934"/>
                </a:solidFill>
                <a:latin typeface="Calibri"/>
              </a:rPr>
              <a:t>avec les partenaires de mise en œuvre et opérationnels</a:t>
            </a:r>
            <a:endParaRPr b="0" lang="en-US" sz="24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1426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ménagement de 14 sites et 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provision de 100%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'abris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’urgences en Cameroun, Tchad, RDC et Congo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s des structures d'eau et d'assainissement (forages, latrines et douches)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ssistance médicale et réponse aux cas de malnutrition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istribution mensuelle des vivres et non vivres pour environ 195,000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réfugiés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 des Espaces Temporaires d’Apprentissage et de Protection dans les sites et renforcement des capacités des écoles publiques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Réhabilitation des infrastructures locales</a:t>
            </a:r>
            <a:r>
              <a:rPr b="0" lang="en-CA" sz="2000" spc="-1" strike="noStrike">
                <a:solidFill>
                  <a:srgbClr val="292934"/>
                </a:solidFill>
                <a:latin typeface="Calibri"/>
              </a:rPr>
              <a:t>/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es services sociaux de bas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Établissements des comités pour la coexistence pacifiqu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26BE-6C23-45C3-8D0D-A0E2EF604458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Solutions durable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24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majorité des réfugiés optent pour l’intégration locale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s conditions posées pour leur retour :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rétablissement de la sécurité en RCA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désarmement des groupes armés, la répartition et    l’indemnisation de biens pillés par les groupes armé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poursuite des auteurs de crim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non-discrimination des musulmans et leur reconnaissance àla citoyenneté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bonne gouvernance et la tenue des élections transparent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cohabitation pacifique inter-religieuse et communautaire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685D-9E83-4406-B407-A0818BBDFE79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Défi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La malnutrition chronique et l’insécurité aliment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capacité des infrastructures publiques (écoles, sanitaires, santé, etc.)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nsécurité pour les réfugiés à proximité des frontières et l'accès humanitaire limité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fis logist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Conflits entre les réfugiés et la communauté hôte liée au bois de chauffe, accès à l'eau et pâturage 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retour des ressortissants des pays tier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éducation des réfugiés au niveau secondaire et terti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Manque chronique de fonds, qui remet en cause la fourniture de l’assistance humanitaire selon les standard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9DE8-BBAC-4B75-92DC-2599B0C23EB6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Niveau de financemen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1CB5-CF11-4DE9-AD9F-8682F94D5810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71500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alibri"/>
                <a:ea typeface="Arial"/>
              </a:rPr>
              <a:t>13% Financé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36520" y="7621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demandés pour la Réponse :</a:t>
            </a:r>
            <a:r>
              <a:rPr b="1" lang="en-US" sz="14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240.710.733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reçus au 19 Mai 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31.464.278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8840" y="3962520"/>
          <a:ext cx="8076960" cy="24955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240"/>
                <a:gridCol w="20192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soins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çu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é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ameroun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71.937.91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.046.43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C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1.415.8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8.620.46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Tchad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46.646.888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.443.64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ong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0.989.58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9.15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DC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7.036.3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937.584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29" descr=""/>
          <p:cNvPicPr/>
          <p:nvPr/>
        </p:nvPicPr>
        <p:blipFill>
          <a:blip r:embed="rId1"/>
          <a:stretch/>
        </p:blipFill>
        <p:spPr>
          <a:xfrm rot="5732400">
            <a:off x="2263320" y="103644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6BC4-98D7-40DD-8FD9-BDDC56E3E66C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005520" cy="5943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536400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Calibri"/>
              </a:rPr>
              <a:t>Merci</a:t>
            </a:r>
            <a:endParaRPr b="0" lang="en-US" sz="8000" spc="-1" strike="noStrike">
              <a:solidFill>
                <a:srgbClr val="d2533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2:42:32Z</dcterms:created>
  <dc:creator>Martha Piper</dc:creator>
  <dc:description/>
  <dc:language>en-US</dc:language>
  <cp:lastModifiedBy>RIGOLLI Cristina (DEVCO)</cp:lastModifiedBy>
  <cp:lastPrinted>2015-05-21T11:59:53Z</cp:lastPrinted>
  <dcterms:modified xsi:type="dcterms:W3CDTF">2015-05-22T12:21:26Z</dcterms:modified>
  <cp:revision>257</cp:revision>
  <dc:subject/>
  <dc:title>PowerPoint Presentation</dc:title>
</cp:coreProperties>
</file>