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dt" idx="9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ftr" idx="10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 type="sldNum" idx="11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452A-1189-431A-AC2B-EFB4B5C43D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9159-866D-4D1D-ABD8-0C67878E1A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0733-B9A1-4B04-A9C8-5DE7C7AD5D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6888-3941-466A-BE39-259896D927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D837-EF29-44C4-9300-95B058CC4F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48DB-E02D-42F9-ABD7-2F652FADA0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6193-A09C-426D-A24D-CC74734838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610E-8CB7-4364-81E5-DE2E5EE367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C03E-6DA2-4EBA-9C55-8AA5D4B75E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AEE6-43CA-47A5-ACA9-511C8DCF5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53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259520"/>
            <a:ext cx="853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2824-A879-46CD-A6A7-2172608F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164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30480" y="1752120"/>
            <a:ext cx="4164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259520"/>
            <a:ext cx="4164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30480" y="4259520"/>
            <a:ext cx="4164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8EDE-5242-4FFC-8F2E-A1556FF49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42600" y="175212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28000" y="175212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25952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42600" y="425952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28000" y="425952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CE3F-1019-4DF9-906E-DDA0900F5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164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0480" y="1752120"/>
            <a:ext cx="4164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8534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164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0480" y="1752120"/>
            <a:ext cx="4164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59520"/>
            <a:ext cx="4164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A212-265C-4E2D-B427-D5D88E1A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164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0480" y="1752120"/>
            <a:ext cx="4164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0480" y="4259520"/>
            <a:ext cx="4164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164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0480" y="1752120"/>
            <a:ext cx="4164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259520"/>
            <a:ext cx="853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53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840" y="4259520"/>
            <a:ext cx="853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164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0480" y="1752120"/>
            <a:ext cx="4164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6840" y="4259520"/>
            <a:ext cx="4164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0480" y="4259520"/>
            <a:ext cx="4164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42600" y="175212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228000" y="175212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6840" y="425952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42600" y="425952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228000" y="425952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16C3-2103-4AEC-8D0B-E5B0BC2FB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CB8D-D9AF-4B1F-BC57-043395F2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C74D-04FB-492D-B096-CE17AAB5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164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30480" y="1752120"/>
            <a:ext cx="4164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218B-567B-45AD-8B0C-A9CA4B6B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425D-8446-4417-85A3-85BB4A7E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3CB9-4AF2-4216-9575-181B2706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8534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7CEA-4E8D-4D79-B738-2D3DA96B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164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0480" y="1752120"/>
            <a:ext cx="4164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6840" y="4259520"/>
            <a:ext cx="4164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C2F7-C055-464E-AA6E-D84FE105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164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30480" y="1752120"/>
            <a:ext cx="4164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830480" y="4259520"/>
            <a:ext cx="4164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FE47-3AA0-48AC-A098-C5F3064F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164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30480" y="1752120"/>
            <a:ext cx="4164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259520"/>
            <a:ext cx="853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5C23-BD5A-4F2A-835C-33AC23EB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53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6840" y="4259520"/>
            <a:ext cx="853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2481-D5B7-478E-91B2-28BCE692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164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30480" y="1752120"/>
            <a:ext cx="4164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4259520"/>
            <a:ext cx="4164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830480" y="4259520"/>
            <a:ext cx="4164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EC19-D00A-4BB4-8483-72D69D4C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42600" y="175212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28000" y="175212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6840" y="425952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42600" y="425952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228000" y="425952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F0CA-9773-45F7-A222-4B37C62E9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E4DAFE-2EC2-4279-BE29-684A97A4F8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D5EFE1-E924-494D-B034-33AD43DD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0D965F-1928-4349-9D9E-737BC607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164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0480" y="1752120"/>
            <a:ext cx="4164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4308-9E0E-4A50-B142-F47888AA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164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30480" y="1752120"/>
            <a:ext cx="4164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652DF0-5ED3-4178-B807-FF9005A9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5E8E3D-1E5F-4495-BCBF-626E42FD6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8534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053619-EF26-437B-B484-72F4C1E1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164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30480" y="1752120"/>
            <a:ext cx="4164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6840" y="4259520"/>
            <a:ext cx="4164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295C8E-B903-4BE6-B2EB-87EC8DC6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164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30480" y="1752120"/>
            <a:ext cx="4164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830480" y="4259520"/>
            <a:ext cx="4164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15DBAC-7FAE-4C5B-BED1-AF5D6FA5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164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30480" y="1752120"/>
            <a:ext cx="4164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6840" y="4259520"/>
            <a:ext cx="853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2C5029-7D2C-4EF0-8EF9-5D4D5112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53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6840" y="4259520"/>
            <a:ext cx="853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1FC58C-00FF-4EF0-A81A-D1B2AC6C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164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30480" y="1752120"/>
            <a:ext cx="4164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6840" y="4259520"/>
            <a:ext cx="4164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830480" y="4259520"/>
            <a:ext cx="4164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667E55-5555-48FD-B93D-5CF025AC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342600" y="175212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8000" y="175212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6840" y="425952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342600" y="425952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228000" y="425952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11A228-E969-4177-9248-5AC6CA103E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BFA9-0E92-4FAF-88D6-6330DBB9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8534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3E77-558B-4F1F-9CA4-E67AB409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164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30480" y="1752120"/>
            <a:ext cx="4164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259520"/>
            <a:ext cx="4164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12F4-E21A-4F90-AD49-4B25C491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164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30480" y="1752120"/>
            <a:ext cx="4164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30480" y="4259520"/>
            <a:ext cx="4164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579F-1F91-44D5-915F-56DA1AF1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164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30480" y="1752120"/>
            <a:ext cx="4164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259520"/>
            <a:ext cx="853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EB3C-4CC9-4CEE-9543-F47C32E0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0" y="5791320"/>
            <a:ext cx="9147240" cy="1066680"/>
            <a:chOff x="0" y="5791320"/>
            <a:chExt cx="9147240" cy="1066680"/>
          </a:xfrm>
        </p:grpSpPr>
        <p:sp>
          <p:nvSpPr>
            <p:cNvPr id="1" name="Freeform 18"/>
            <p:cNvSpPr/>
            <p:nvPr/>
          </p:nvSpPr>
          <p:spPr>
            <a:xfrm>
              <a:off x="824040" y="5973840"/>
              <a:ext cx="8319960" cy="884160"/>
            </a:xfrm>
            <a:custGeom>
              <a:avLst/>
              <a:gdLst>
                <a:gd name="textAreaLeft" fmla="*/ 0 w 8319960"/>
                <a:gd name="textAreaRight" fmla="*/ 8320320 w 8319960"/>
                <a:gd name="textAreaTop" fmla="*/ 0 h 884160"/>
                <a:gd name="textAreaBottom" fmla="*/ 884520 h 884160"/>
              </a:gdLst>
              <a:ahLst/>
              <a:rect l="textAreaLeft" t="textAreaTop" r="textAreaRight" b="textAreaBottom"/>
              <a:pathLst>
                <a:path w="2419" h="378">
                  <a:moveTo>
                    <a:pt x="2419" y="216"/>
                  </a:moveTo>
                  <a:cubicBezTo>
                    <a:pt x="2419" y="216"/>
                    <a:pt x="1051" y="0"/>
                    <a:pt x="0" y="378"/>
                  </a:cubicBezTo>
                </a:path>
              </a:pathLst>
            </a:custGeom>
            <a:noFill/>
            <a:ln w="12600">
              <a:solidFill>
                <a:srgbClr val="7e80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9"/>
            <p:cNvSpPr/>
            <p:nvPr/>
          </p:nvSpPr>
          <p:spPr>
            <a:xfrm>
              <a:off x="0" y="5791320"/>
              <a:ext cx="9147240" cy="1059120"/>
            </a:xfrm>
            <a:custGeom>
              <a:avLst/>
              <a:gdLst>
                <a:gd name="textAreaLeft" fmla="*/ 0 w 9147240"/>
                <a:gd name="textAreaRight" fmla="*/ 9147240 w 9147240"/>
                <a:gd name="textAreaTop" fmla="*/ 0 h 1059120"/>
                <a:gd name="textAreaBottom" fmla="*/ 1059480 h 1059120"/>
              </a:gdLst>
              <a:ahLst/>
              <a:rect l="textAreaLeft" t="textAreaTop" r="textAreaRight" b="textAreaBottom"/>
              <a:pathLst>
                <a:path w="2665" h="454">
                  <a:moveTo>
                    <a:pt x="2665" y="334"/>
                  </a:moveTo>
                  <a:cubicBezTo>
                    <a:pt x="2665" y="334"/>
                    <a:pt x="1093" y="0"/>
                    <a:pt x="0" y="454"/>
                  </a:cubicBezTo>
                </a:path>
              </a:pathLst>
            </a:custGeom>
            <a:noFill/>
            <a:ln w="12600">
              <a:solidFill>
                <a:srgbClr val="7e80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Freeform 7"/>
          <p:cNvSpPr/>
          <p:nvPr/>
        </p:nvSpPr>
        <p:spPr>
          <a:xfrm>
            <a:off x="0" y="-4680"/>
            <a:ext cx="9144000" cy="25369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536920"/>
              <a:gd name="textAreaBottom" fmla="*/ 2536920 h 2536920"/>
            </a:gdLst>
            <a:ahLst/>
            <a:rect l="textAreaLeft" t="textAreaTop" r="textAreaRight" b="textAreaBottom"/>
            <a:pathLst>
              <a:path w="2880" h="799">
                <a:moveTo>
                  <a:pt x="2880" y="799"/>
                </a:moveTo>
                <a:cubicBezTo>
                  <a:pt x="2880" y="799"/>
                  <a:pt x="2460" y="484"/>
                  <a:pt x="1442" y="406"/>
                </a:cubicBezTo>
                <a:cubicBezTo>
                  <a:pt x="423" y="327"/>
                  <a:pt x="0" y="440"/>
                  <a:pt x="0" y="440"/>
                </a:cubicBezTo>
                <a:cubicBezTo>
                  <a:pt x="0" y="0"/>
                  <a:pt x="0" y="0"/>
                  <a:pt x="0" y="0"/>
                </a:cubicBezTo>
                <a:cubicBezTo>
                  <a:pt x="2880" y="0"/>
                  <a:pt x="2880" y="0"/>
                  <a:pt x="2880" y="0"/>
                </a:cubicBezTo>
                <a:lnTo>
                  <a:pt x="2880" y="799"/>
                </a:lnTo>
                <a:close/>
              </a:path>
            </a:pathLst>
          </a:custGeom>
          <a:solidFill>
            <a:srgbClr val="ffe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8"/>
          <p:cNvSpPr/>
          <p:nvPr/>
        </p:nvSpPr>
        <p:spPr>
          <a:xfrm>
            <a:off x="0" y="-4680"/>
            <a:ext cx="9144000" cy="23842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384280"/>
              <a:gd name="textAreaBottom" fmla="*/ 2384640 h 2384280"/>
            </a:gdLst>
            <a:ahLst/>
            <a:rect l="textAreaLeft" t="textAreaTop" r="textAreaRight" b="textAreaBottom"/>
            <a:pathLst>
              <a:path w="2880" h="751">
                <a:moveTo>
                  <a:pt x="2880" y="751"/>
                </a:moveTo>
                <a:cubicBezTo>
                  <a:pt x="2880" y="751"/>
                  <a:pt x="2380" y="428"/>
                  <a:pt x="1442" y="374"/>
                </a:cubicBezTo>
                <a:cubicBezTo>
                  <a:pt x="503" y="319"/>
                  <a:pt x="0" y="424"/>
                  <a:pt x="0" y="424"/>
                </a:cubicBezTo>
                <a:cubicBezTo>
                  <a:pt x="0" y="0"/>
                  <a:pt x="0" y="0"/>
                  <a:pt x="0" y="0"/>
                </a:cubicBezTo>
                <a:cubicBezTo>
                  <a:pt x="2880" y="0"/>
                  <a:pt x="2880" y="0"/>
                  <a:pt x="2880" y="0"/>
                </a:cubicBezTo>
                <a:lnTo>
                  <a:pt x="2880" y="751"/>
                </a:lnTo>
                <a:close/>
              </a:path>
            </a:pathLst>
          </a:custGeom>
          <a:gradFill rotWithShape="0">
            <a:gsLst>
              <a:gs pos="0">
                <a:srgbClr val="0083a9"/>
              </a:gs>
              <a:gs pos="100000">
                <a:srgbClr val="0057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1717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1717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1717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276360" y="6613200"/>
            <a:ext cx="289548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85764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B5EA-BDBB-424E-A533-71F5FE491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2" descr="S:\1 International Development BU\1.3 CONTRACTS\0. Cluster Africa\47501464 - GCCA Climate change\5 Award\9 Communication\00 Logos\GCCA-logo-(3).png"/>
          <p:cNvPicPr/>
          <p:nvPr/>
        </p:nvPicPr>
        <p:blipFill>
          <a:blip r:embed="rId2"/>
          <a:stretch/>
        </p:blipFill>
        <p:spPr>
          <a:xfrm>
            <a:off x="7467480" y="152280"/>
            <a:ext cx="153540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7"/>
          <p:cNvSpPr/>
          <p:nvPr/>
        </p:nvSpPr>
        <p:spPr>
          <a:xfrm>
            <a:off x="0" y="3733920"/>
            <a:ext cx="9144000" cy="253656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536560"/>
              <a:gd name="textAreaBottom" fmla="*/ 2536920 h 2536560"/>
            </a:gdLst>
            <a:ahLst/>
            <a:rect l="textAreaLeft" t="textAreaTop" r="textAreaRight" b="textAreaBottom"/>
            <a:pathLst>
              <a:path w="2880" h="799">
                <a:moveTo>
                  <a:pt x="2880" y="799"/>
                </a:moveTo>
                <a:cubicBezTo>
                  <a:pt x="2880" y="799"/>
                  <a:pt x="2460" y="484"/>
                  <a:pt x="1442" y="406"/>
                </a:cubicBezTo>
                <a:cubicBezTo>
                  <a:pt x="423" y="327"/>
                  <a:pt x="0" y="440"/>
                  <a:pt x="0" y="440"/>
                </a:cubicBezTo>
                <a:cubicBezTo>
                  <a:pt x="0" y="0"/>
                  <a:pt x="0" y="0"/>
                  <a:pt x="0" y="0"/>
                </a:cubicBezTo>
                <a:cubicBezTo>
                  <a:pt x="2880" y="0"/>
                  <a:pt x="2880" y="0"/>
                  <a:pt x="2880" y="0"/>
                </a:cubicBezTo>
                <a:lnTo>
                  <a:pt x="2880" y="799"/>
                </a:lnTo>
                <a:close/>
              </a:path>
            </a:pathLst>
          </a:custGeom>
          <a:solidFill>
            <a:srgbClr val="ffe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24"/>
          <p:cNvGrpSpPr/>
          <p:nvPr/>
        </p:nvGrpSpPr>
        <p:grpSpPr>
          <a:xfrm>
            <a:off x="0" y="0"/>
            <a:ext cx="9144000" cy="6118200"/>
            <a:chOff x="0" y="0"/>
            <a:chExt cx="9144000" cy="6118200"/>
          </a:xfrm>
        </p:grpSpPr>
        <p:sp>
          <p:nvSpPr>
            <p:cNvPr id="49" name="Freeform 8"/>
            <p:cNvSpPr/>
            <p:nvPr/>
          </p:nvSpPr>
          <p:spPr>
            <a:xfrm>
              <a:off x="0" y="3733920"/>
              <a:ext cx="9144000" cy="23842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384280"/>
                <a:gd name="textAreaBottom" fmla="*/ 2384640 h 2384280"/>
              </a:gdLst>
              <a:ahLst/>
              <a:rect l="textAreaLeft" t="textAreaTop" r="textAreaRight" b="textAreaBottom"/>
              <a:pathLst>
                <a:path w="5766" h="1502">
                  <a:moveTo>
                    <a:pt x="5766" y="1502"/>
                  </a:moveTo>
                  <a:cubicBezTo>
                    <a:pt x="5766" y="1502"/>
                    <a:pt x="4765" y="856"/>
                    <a:pt x="2887" y="748"/>
                  </a:cubicBezTo>
                  <a:cubicBezTo>
                    <a:pt x="1007" y="638"/>
                    <a:pt x="0" y="848"/>
                    <a:pt x="0" y="84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5766" y="0"/>
                    <a:pt x="5766" y="0"/>
                  </a:cubicBezTo>
                  <a:cubicBezTo>
                    <a:pt x="5766" y="751"/>
                    <a:pt x="5766" y="1502"/>
                    <a:pt x="5766" y="150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3a9"/>
                </a:gs>
                <a:gs pos="100000">
                  <a:srgbClr val="00577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9"/>
            <p:cNvSpPr/>
            <p:nvPr/>
          </p:nvSpPr>
          <p:spPr>
            <a:xfrm>
              <a:off x="0" y="0"/>
              <a:ext cx="9144000" cy="3733920"/>
            </a:xfrm>
            <a:prstGeom prst="rect">
              <a:avLst/>
            </a:prstGeom>
            <a:solidFill>
              <a:srgbClr val="0083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14"/>
          <p:cNvGrpSpPr/>
          <p:nvPr/>
        </p:nvGrpSpPr>
        <p:grpSpPr>
          <a:xfrm>
            <a:off x="0" y="0"/>
            <a:ext cx="9147240" cy="2057040"/>
            <a:chOff x="0" y="0"/>
            <a:chExt cx="9147240" cy="2057040"/>
          </a:xfrm>
        </p:grpSpPr>
        <p:sp>
          <p:nvSpPr>
            <p:cNvPr id="52" name="Freeform 15"/>
            <p:cNvSpPr/>
            <p:nvPr/>
          </p:nvSpPr>
          <p:spPr>
            <a:xfrm flipV="1">
              <a:off x="824040" y="0"/>
              <a:ext cx="8319960" cy="1704960"/>
            </a:xfrm>
            <a:custGeom>
              <a:avLst/>
              <a:gdLst>
                <a:gd name="textAreaLeft" fmla="*/ 0 w 8319960"/>
                <a:gd name="textAreaRight" fmla="*/ 8320320 w 8319960"/>
                <a:gd name="textAreaTop" fmla="*/ 360 h 1704960"/>
                <a:gd name="textAreaBottom" fmla="*/ 1705680 h 1704960"/>
              </a:gdLst>
              <a:ahLst/>
              <a:rect l="textAreaLeft" t="textAreaTop" r="textAreaRight" b="textAreaBottom"/>
              <a:pathLst>
                <a:path w="2419" h="378">
                  <a:moveTo>
                    <a:pt x="2419" y="216"/>
                  </a:moveTo>
                  <a:cubicBezTo>
                    <a:pt x="2419" y="216"/>
                    <a:pt x="1051" y="0"/>
                    <a:pt x="0" y="37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6"/>
            <p:cNvSpPr/>
            <p:nvPr/>
          </p:nvSpPr>
          <p:spPr>
            <a:xfrm flipV="1">
              <a:off x="0" y="14040"/>
              <a:ext cx="9147240" cy="2042640"/>
            </a:xfrm>
            <a:custGeom>
              <a:avLst/>
              <a:gdLst>
                <a:gd name="textAreaLeft" fmla="*/ 0 w 9147240"/>
                <a:gd name="textAreaRight" fmla="*/ 9147240 w 9147240"/>
                <a:gd name="textAreaTop" fmla="*/ 360 h 2042640"/>
                <a:gd name="textAreaBottom" fmla="*/ 2043360 h 2042640"/>
              </a:gdLst>
              <a:ahLst/>
              <a:rect l="textAreaLeft" t="textAreaTop" r="textAreaRight" b="textAreaBottom"/>
              <a:pathLst>
                <a:path w="2665" h="454">
                  <a:moveTo>
                    <a:pt x="2665" y="334"/>
                  </a:moveTo>
                  <a:cubicBezTo>
                    <a:pt x="2665" y="334"/>
                    <a:pt x="1093" y="0"/>
                    <a:pt x="0" y="4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Line 23"/>
          <p:cNvSpPr/>
          <p:nvPr/>
        </p:nvSpPr>
        <p:spPr>
          <a:xfrm flipH="1">
            <a:off x="0" y="6477120"/>
            <a:ext cx="914400" cy="0"/>
          </a:xfrm>
          <a:prstGeom prst="line">
            <a:avLst/>
          </a:prstGeom>
          <a:ln w="9360">
            <a:solidFill>
              <a:srgbClr val="0083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Users\catherine\Pictures\GCCA\GCCA_Logo for dark background.png"/>
          <p:cNvPicPr/>
          <p:nvPr/>
        </p:nvPicPr>
        <p:blipFill>
          <a:blip r:embed="rId2"/>
          <a:stretch/>
        </p:blipFill>
        <p:spPr>
          <a:xfrm>
            <a:off x="7959600" y="0"/>
            <a:ext cx="1184400" cy="9381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2971800" y="152280"/>
            <a:ext cx="4876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novative and effective approaches to climate change: Experiences from the Global Climate Change All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russels 12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14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ptember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C:\Users\catherine\Pictures\European Commission\logo_ce-en-rvb-lr_2012-01.jpg"/>
          <p:cNvPicPr/>
          <p:nvPr/>
        </p:nvPicPr>
        <p:blipFill>
          <a:blip r:embed="rId3"/>
          <a:stretch/>
        </p:blipFill>
        <p:spPr>
          <a:xfrm>
            <a:off x="0" y="0"/>
            <a:ext cx="1655640" cy="11509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1717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1717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1717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0"/>
          <p:cNvGrpSpPr/>
          <p:nvPr/>
        </p:nvGrpSpPr>
        <p:grpSpPr>
          <a:xfrm>
            <a:off x="0" y="5791320"/>
            <a:ext cx="9147240" cy="1066680"/>
            <a:chOff x="0" y="5791320"/>
            <a:chExt cx="9147240" cy="1066680"/>
          </a:xfrm>
        </p:grpSpPr>
        <p:sp>
          <p:nvSpPr>
            <p:cNvPr id="97" name="Freeform 18"/>
            <p:cNvSpPr/>
            <p:nvPr/>
          </p:nvSpPr>
          <p:spPr>
            <a:xfrm>
              <a:off x="824040" y="5973840"/>
              <a:ext cx="8319960" cy="884160"/>
            </a:xfrm>
            <a:custGeom>
              <a:avLst/>
              <a:gdLst>
                <a:gd name="textAreaLeft" fmla="*/ 0 w 8319960"/>
                <a:gd name="textAreaRight" fmla="*/ 8320320 w 8319960"/>
                <a:gd name="textAreaTop" fmla="*/ 0 h 884160"/>
                <a:gd name="textAreaBottom" fmla="*/ 884520 h 884160"/>
              </a:gdLst>
              <a:ahLst/>
              <a:rect l="textAreaLeft" t="textAreaTop" r="textAreaRight" b="textAreaBottom"/>
              <a:pathLst>
                <a:path w="2419" h="378">
                  <a:moveTo>
                    <a:pt x="2419" y="216"/>
                  </a:moveTo>
                  <a:cubicBezTo>
                    <a:pt x="2419" y="216"/>
                    <a:pt x="1051" y="0"/>
                    <a:pt x="0" y="378"/>
                  </a:cubicBezTo>
                </a:path>
              </a:pathLst>
            </a:custGeom>
            <a:noFill/>
            <a:ln w="12600">
              <a:solidFill>
                <a:srgbClr val="7e80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0" y="5791320"/>
              <a:ext cx="9147240" cy="1059120"/>
            </a:xfrm>
            <a:custGeom>
              <a:avLst/>
              <a:gdLst>
                <a:gd name="textAreaLeft" fmla="*/ 0 w 9147240"/>
                <a:gd name="textAreaRight" fmla="*/ 9147240 w 9147240"/>
                <a:gd name="textAreaTop" fmla="*/ 0 h 1059120"/>
                <a:gd name="textAreaBottom" fmla="*/ 1059480 h 1059120"/>
              </a:gdLst>
              <a:ahLst/>
              <a:rect l="textAreaLeft" t="textAreaTop" r="textAreaRight" b="textAreaBottom"/>
              <a:pathLst>
                <a:path w="2665" h="454">
                  <a:moveTo>
                    <a:pt x="2665" y="334"/>
                  </a:moveTo>
                  <a:cubicBezTo>
                    <a:pt x="2665" y="334"/>
                    <a:pt x="1093" y="0"/>
                    <a:pt x="0" y="454"/>
                  </a:cubicBezTo>
                </a:path>
              </a:pathLst>
            </a:custGeom>
            <a:noFill/>
            <a:ln w="12600">
              <a:solidFill>
                <a:srgbClr val="7e80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Freeform 7"/>
          <p:cNvSpPr/>
          <p:nvPr/>
        </p:nvSpPr>
        <p:spPr>
          <a:xfrm>
            <a:off x="0" y="-4680"/>
            <a:ext cx="9144000" cy="25369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536920"/>
              <a:gd name="textAreaBottom" fmla="*/ 2536920 h 2536920"/>
            </a:gdLst>
            <a:ahLst/>
            <a:rect l="textAreaLeft" t="textAreaTop" r="textAreaRight" b="textAreaBottom"/>
            <a:pathLst>
              <a:path w="2880" h="799">
                <a:moveTo>
                  <a:pt x="2880" y="799"/>
                </a:moveTo>
                <a:cubicBezTo>
                  <a:pt x="2880" y="799"/>
                  <a:pt x="2460" y="484"/>
                  <a:pt x="1442" y="406"/>
                </a:cubicBezTo>
                <a:cubicBezTo>
                  <a:pt x="423" y="327"/>
                  <a:pt x="0" y="440"/>
                  <a:pt x="0" y="440"/>
                </a:cubicBezTo>
                <a:cubicBezTo>
                  <a:pt x="0" y="0"/>
                  <a:pt x="0" y="0"/>
                  <a:pt x="0" y="0"/>
                </a:cubicBezTo>
                <a:cubicBezTo>
                  <a:pt x="2880" y="0"/>
                  <a:pt x="2880" y="0"/>
                  <a:pt x="2880" y="0"/>
                </a:cubicBezTo>
                <a:lnTo>
                  <a:pt x="2880" y="799"/>
                </a:lnTo>
                <a:close/>
              </a:path>
            </a:pathLst>
          </a:custGeom>
          <a:solidFill>
            <a:srgbClr val="ffe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8"/>
          <p:cNvSpPr/>
          <p:nvPr/>
        </p:nvSpPr>
        <p:spPr>
          <a:xfrm>
            <a:off x="0" y="-4680"/>
            <a:ext cx="9144000" cy="23842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384280"/>
              <a:gd name="textAreaBottom" fmla="*/ 2384640 h 2384280"/>
            </a:gdLst>
            <a:ahLst/>
            <a:rect l="textAreaLeft" t="textAreaTop" r="textAreaRight" b="textAreaBottom"/>
            <a:pathLst>
              <a:path w="2880" h="751">
                <a:moveTo>
                  <a:pt x="2880" y="751"/>
                </a:moveTo>
                <a:cubicBezTo>
                  <a:pt x="2880" y="751"/>
                  <a:pt x="2380" y="428"/>
                  <a:pt x="1442" y="374"/>
                </a:cubicBezTo>
                <a:cubicBezTo>
                  <a:pt x="503" y="319"/>
                  <a:pt x="0" y="424"/>
                  <a:pt x="0" y="424"/>
                </a:cubicBezTo>
                <a:cubicBezTo>
                  <a:pt x="0" y="0"/>
                  <a:pt x="0" y="0"/>
                  <a:pt x="0" y="0"/>
                </a:cubicBezTo>
                <a:cubicBezTo>
                  <a:pt x="2880" y="0"/>
                  <a:pt x="2880" y="0"/>
                  <a:pt x="2880" y="0"/>
                </a:cubicBezTo>
                <a:lnTo>
                  <a:pt x="2880" y="751"/>
                </a:lnTo>
                <a:close/>
              </a:path>
            </a:pathLst>
          </a:custGeom>
          <a:gradFill rotWithShape="0">
            <a:gsLst>
              <a:gs pos="0">
                <a:srgbClr val="0083a9"/>
              </a:gs>
              <a:gs pos="100000">
                <a:srgbClr val="0057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S:\1 International Development BU\1.3 CONTRACTS\0. Cluster Africa\47501464 - GCCA Climate change\5 Award\9 Communication\00 Logos\GCCA-logo-(3).png"/>
          <p:cNvPicPr/>
          <p:nvPr/>
        </p:nvPicPr>
        <p:blipFill>
          <a:blip r:embed="rId2"/>
          <a:stretch/>
        </p:blipFill>
        <p:spPr>
          <a:xfrm>
            <a:off x="7467480" y="152280"/>
            <a:ext cx="1535400" cy="1219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1717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1717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1717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45684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3276360" y="6613200"/>
            <a:ext cx="289548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685764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AF0B-2742-414D-863B-35DEB8231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0"/>
          <p:cNvGrpSpPr/>
          <p:nvPr/>
        </p:nvGrpSpPr>
        <p:grpSpPr>
          <a:xfrm>
            <a:off x="0" y="5791320"/>
            <a:ext cx="9147240" cy="1066680"/>
            <a:chOff x="0" y="5791320"/>
            <a:chExt cx="9147240" cy="1066680"/>
          </a:xfrm>
        </p:grpSpPr>
        <p:sp>
          <p:nvSpPr>
            <p:cNvPr id="144" name="Freeform 18"/>
            <p:cNvSpPr/>
            <p:nvPr/>
          </p:nvSpPr>
          <p:spPr>
            <a:xfrm>
              <a:off x="824040" y="5973840"/>
              <a:ext cx="8319960" cy="884160"/>
            </a:xfrm>
            <a:custGeom>
              <a:avLst/>
              <a:gdLst>
                <a:gd name="textAreaLeft" fmla="*/ 0 w 8319960"/>
                <a:gd name="textAreaRight" fmla="*/ 8320320 w 8319960"/>
                <a:gd name="textAreaTop" fmla="*/ 0 h 884160"/>
                <a:gd name="textAreaBottom" fmla="*/ 884520 h 884160"/>
              </a:gdLst>
              <a:ahLst/>
              <a:rect l="textAreaLeft" t="textAreaTop" r="textAreaRight" b="textAreaBottom"/>
              <a:pathLst>
                <a:path w="2419" h="378">
                  <a:moveTo>
                    <a:pt x="2419" y="216"/>
                  </a:moveTo>
                  <a:cubicBezTo>
                    <a:pt x="2419" y="216"/>
                    <a:pt x="1051" y="0"/>
                    <a:pt x="0" y="378"/>
                  </a:cubicBezTo>
                </a:path>
              </a:pathLst>
            </a:custGeom>
            <a:noFill/>
            <a:ln w="12600">
              <a:solidFill>
                <a:srgbClr val="7e80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9"/>
            <p:cNvSpPr/>
            <p:nvPr/>
          </p:nvSpPr>
          <p:spPr>
            <a:xfrm>
              <a:off x="0" y="5791320"/>
              <a:ext cx="9147240" cy="1059120"/>
            </a:xfrm>
            <a:custGeom>
              <a:avLst/>
              <a:gdLst>
                <a:gd name="textAreaLeft" fmla="*/ 0 w 9147240"/>
                <a:gd name="textAreaRight" fmla="*/ 9147240 w 9147240"/>
                <a:gd name="textAreaTop" fmla="*/ 0 h 1059120"/>
                <a:gd name="textAreaBottom" fmla="*/ 1059480 h 1059120"/>
              </a:gdLst>
              <a:ahLst/>
              <a:rect l="textAreaLeft" t="textAreaTop" r="textAreaRight" b="textAreaBottom"/>
              <a:pathLst>
                <a:path w="2665" h="454">
                  <a:moveTo>
                    <a:pt x="2665" y="334"/>
                  </a:moveTo>
                  <a:cubicBezTo>
                    <a:pt x="2665" y="334"/>
                    <a:pt x="1093" y="0"/>
                    <a:pt x="0" y="454"/>
                  </a:cubicBezTo>
                </a:path>
              </a:pathLst>
            </a:custGeom>
            <a:noFill/>
            <a:ln w="12600">
              <a:solidFill>
                <a:srgbClr val="7e80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Freeform 7"/>
          <p:cNvSpPr/>
          <p:nvPr/>
        </p:nvSpPr>
        <p:spPr>
          <a:xfrm>
            <a:off x="0" y="-4680"/>
            <a:ext cx="9144000" cy="25369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536920"/>
              <a:gd name="textAreaBottom" fmla="*/ 2536920 h 2536920"/>
            </a:gdLst>
            <a:ahLst/>
            <a:rect l="textAreaLeft" t="textAreaTop" r="textAreaRight" b="textAreaBottom"/>
            <a:pathLst>
              <a:path w="2880" h="799">
                <a:moveTo>
                  <a:pt x="2880" y="799"/>
                </a:moveTo>
                <a:cubicBezTo>
                  <a:pt x="2880" y="799"/>
                  <a:pt x="2460" y="484"/>
                  <a:pt x="1442" y="406"/>
                </a:cubicBezTo>
                <a:cubicBezTo>
                  <a:pt x="423" y="327"/>
                  <a:pt x="0" y="440"/>
                  <a:pt x="0" y="440"/>
                </a:cubicBezTo>
                <a:cubicBezTo>
                  <a:pt x="0" y="0"/>
                  <a:pt x="0" y="0"/>
                  <a:pt x="0" y="0"/>
                </a:cubicBezTo>
                <a:cubicBezTo>
                  <a:pt x="2880" y="0"/>
                  <a:pt x="2880" y="0"/>
                  <a:pt x="2880" y="0"/>
                </a:cubicBezTo>
                <a:lnTo>
                  <a:pt x="2880" y="799"/>
                </a:lnTo>
                <a:close/>
              </a:path>
            </a:pathLst>
          </a:custGeom>
          <a:solidFill>
            <a:srgbClr val="ffe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8"/>
          <p:cNvSpPr/>
          <p:nvPr/>
        </p:nvSpPr>
        <p:spPr>
          <a:xfrm>
            <a:off x="0" y="-4680"/>
            <a:ext cx="9144000" cy="23842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384280"/>
              <a:gd name="textAreaBottom" fmla="*/ 2384640 h 2384280"/>
            </a:gdLst>
            <a:ahLst/>
            <a:rect l="textAreaLeft" t="textAreaTop" r="textAreaRight" b="textAreaBottom"/>
            <a:pathLst>
              <a:path w="2880" h="751">
                <a:moveTo>
                  <a:pt x="2880" y="751"/>
                </a:moveTo>
                <a:cubicBezTo>
                  <a:pt x="2880" y="751"/>
                  <a:pt x="2380" y="428"/>
                  <a:pt x="1442" y="374"/>
                </a:cubicBezTo>
                <a:cubicBezTo>
                  <a:pt x="503" y="319"/>
                  <a:pt x="0" y="424"/>
                  <a:pt x="0" y="424"/>
                </a:cubicBezTo>
                <a:cubicBezTo>
                  <a:pt x="0" y="0"/>
                  <a:pt x="0" y="0"/>
                  <a:pt x="0" y="0"/>
                </a:cubicBezTo>
                <a:cubicBezTo>
                  <a:pt x="2880" y="0"/>
                  <a:pt x="2880" y="0"/>
                  <a:pt x="2880" y="0"/>
                </a:cubicBezTo>
                <a:lnTo>
                  <a:pt x="2880" y="751"/>
                </a:lnTo>
                <a:close/>
              </a:path>
            </a:pathLst>
          </a:custGeom>
          <a:gradFill rotWithShape="0">
            <a:gsLst>
              <a:gs pos="0">
                <a:srgbClr val="0083a9"/>
              </a:gs>
              <a:gs pos="100000">
                <a:srgbClr val="00577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S:\1 International Development BU\1.3 CONTRACTS\0. Cluster Africa\47501464 - GCCA Climate change\5 Award\9 Communication\00 Logos\GCCA-logo-(3).png"/>
          <p:cNvPicPr/>
          <p:nvPr/>
        </p:nvPicPr>
        <p:blipFill>
          <a:blip r:embed="rId2"/>
          <a:stretch/>
        </p:blipFill>
        <p:spPr>
          <a:xfrm>
            <a:off x="7467480" y="152280"/>
            <a:ext cx="1535400" cy="12193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1717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1717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1717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8"/>
          </p:nvPr>
        </p:nvSpPr>
        <p:spPr>
          <a:xfrm>
            <a:off x="3733920" y="661320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73040" y="1905120"/>
            <a:ext cx="638496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bf0ff"/>
                </a:solidFill>
                <a:latin typeface="Arial Black"/>
              </a:rPr>
              <a:t>Thematic Presentation: </a:t>
            </a:r>
            <a:br>
              <a:rPr sz="2400"/>
            </a:br>
            <a:r>
              <a:rPr b="1" lang="en-GB" sz="2400" spc="-1" strike="noStrike">
                <a:solidFill>
                  <a:srgbClr val="bbf0ff"/>
                </a:solidFill>
                <a:latin typeface="Arial Black"/>
              </a:rPr>
              <a:t>“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dapting to climate change: agriculture, land and water management </a:t>
            </a:r>
            <a:r>
              <a:rPr b="1" lang="en-GB" sz="2400" spc="-1" strike="noStrike">
                <a:solidFill>
                  <a:srgbClr val="bbf0ff"/>
                </a:solidFill>
                <a:latin typeface="Arial Black"/>
              </a:rPr>
              <a:t>”</a:t>
            </a:r>
            <a:br>
              <a:rPr sz="2400"/>
            </a:b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Dr. Ian Noble, </a:t>
            </a:r>
            <a:br>
              <a:rPr sz="2000"/>
            </a:b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Chief Scientist, Global; Adaptation Institute (GAIN)</a:t>
            </a:r>
            <a:br>
              <a:rPr sz="1400"/>
            </a:b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Formerly Lead CC Specialist, World Bank</a:t>
            </a:r>
            <a:br>
              <a:rPr sz="1400"/>
            </a:b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533520" y="596268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27f"/>
                </a:solidFill>
                <a:latin typeface="Arial"/>
              </a:rPr>
              <a:t>Session 17, Day 2, 12</a:t>
            </a:r>
            <a:r>
              <a:rPr b="0" lang="en-US" sz="1200" spc="-1" strike="noStrike" baseline="30000">
                <a:solidFill>
                  <a:srgbClr val="00627f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627f"/>
                </a:solidFill>
                <a:latin typeface="Arial"/>
              </a:rPr>
              <a:t> September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aptation assessments / framewor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08548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your GCCA programm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build 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he NAPA or other national adaptation plans? If so, how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spcBef>
                <a:spcPts val="499"/>
              </a:spcBef>
              <a:buClr>
                <a:srgbClr val="0062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27f"/>
                </a:solidFill>
                <a:latin typeface="Arial"/>
              </a:rPr>
              <a:t>Are NAPAs appropriate?  </a:t>
            </a:r>
            <a:r>
              <a:rPr b="0" i="1" lang="en-GB" sz="2000" spc="-1" strike="noStrike">
                <a:solidFill>
                  <a:srgbClr val="00627f"/>
                </a:solidFill>
                <a:latin typeface="Arial"/>
              </a:rPr>
              <a:t>(“Urgent &amp; immediate needs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spcBef>
                <a:spcPts val="601"/>
              </a:spcBef>
              <a:buClr>
                <a:srgbClr val="0062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27f"/>
                </a:solidFill>
                <a:latin typeface="Arial"/>
              </a:rPr>
              <a:t>Do they need updat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spcBef>
                <a:spcPts val="451"/>
              </a:spcBef>
              <a:buClr>
                <a:srgbClr val="0062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27f"/>
                </a:solidFill>
                <a:latin typeface="Arial"/>
              </a:rPr>
              <a:t>Are they the right scale of ambition? </a:t>
            </a:r>
            <a:r>
              <a:rPr b="0" lang="en-GB" sz="1800" spc="-1" strike="noStrike">
                <a:solidFill>
                  <a:srgbClr val="00627f"/>
                </a:solidFill>
                <a:latin typeface="Arial"/>
              </a:rPr>
              <a:t>(c. $2B in total; GCF $10s billions per ye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spcBef>
                <a:spcPts val="601"/>
              </a:spcBef>
              <a:buClr>
                <a:srgbClr val="0062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27f"/>
                </a:solidFill>
                <a:latin typeface="Arial"/>
              </a:rPr>
              <a:t>Do we need the NAPs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spcBef>
                <a:spcPts val="601"/>
              </a:spcBef>
              <a:buClr>
                <a:srgbClr val="0062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27f"/>
                </a:solidFill>
                <a:latin typeface="Arial"/>
              </a:rPr>
              <a:t>Are “</a:t>
            </a:r>
            <a:r>
              <a:rPr b="0" lang="en-GB" sz="2400" spc="-1" strike="noStrike" u="sng">
                <a:solidFill>
                  <a:srgbClr val="00627f"/>
                </a:solidFill>
                <a:uFillTx/>
                <a:latin typeface="Arial"/>
              </a:rPr>
              <a:t>adaptation</a:t>
            </a:r>
            <a:r>
              <a:rPr b="0" lang="en-GB" sz="2400" spc="-1" strike="noStrike">
                <a:solidFill>
                  <a:srgbClr val="00627f"/>
                </a:solidFill>
                <a:latin typeface="Arial"/>
              </a:rPr>
              <a:t> strategies” counterproductive and / or time ineffici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spcBef>
                <a:spcPts val="601"/>
              </a:spcBef>
              <a:buClr>
                <a:srgbClr val="0062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27f"/>
                </a:solidFill>
                <a:latin typeface="Arial"/>
              </a:rPr>
              <a:t>Lessons from Mainstreaming session yester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62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6858000" y="661356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062B-2C29-462C-BFCC-63628F975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y Pilots?  Going to scal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6840" y="18284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es your GCCA programme include pilot or demonstration projects? Which issues do they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spcBef>
                <a:spcPts val="499"/>
              </a:spcBef>
              <a:buClr>
                <a:srgbClr val="0062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27f"/>
                </a:solidFill>
                <a:latin typeface="Arial"/>
              </a:rPr>
              <a:t>Why was a pilot necessary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228600">
              <a:spcBef>
                <a:spcPts val="451"/>
              </a:spcBef>
              <a:buClr>
                <a:srgbClr val="00627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27f"/>
                </a:solidFill>
                <a:latin typeface="Arial"/>
              </a:rPr>
              <a:t>Learning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228600">
              <a:spcBef>
                <a:spcPts val="451"/>
              </a:spcBef>
              <a:buClr>
                <a:srgbClr val="00627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27f"/>
                </a:solidFill>
                <a:latin typeface="Arial"/>
              </a:rPr>
              <a:t>Lack of funds/resources for a full program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228600">
              <a:spcBef>
                <a:spcPts val="451"/>
              </a:spcBef>
              <a:buClr>
                <a:srgbClr val="00627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27f"/>
                </a:solidFill>
                <a:latin typeface="Arial"/>
              </a:rPr>
              <a:t>Lack of conviction about need for, or effectiveness of, adap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spcBef>
                <a:spcPts val="499"/>
              </a:spcBef>
              <a:buClr>
                <a:srgbClr val="0062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27f"/>
                </a:solidFill>
                <a:latin typeface="Arial"/>
              </a:rPr>
              <a:t>Is the pilot testing different options or simply demonstrating feasibil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being put in place to support learning and dissemina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spcBef>
                <a:spcPts val="499"/>
              </a:spcBef>
              <a:buClr>
                <a:srgbClr val="0062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27f"/>
                </a:solidFill>
                <a:latin typeface="Arial"/>
              </a:rPr>
              <a:t>Are you ready to share some material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spcBef>
                <a:spcPts val="499"/>
              </a:spcBef>
              <a:buClr>
                <a:srgbClr val="0062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27f"/>
                </a:solidFill>
                <a:latin typeface="Arial"/>
              </a:rPr>
              <a:t>And less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62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6858000" y="661356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C6CA-4FB2-44C1-8ADD-75806710F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to avoid ‘stand-alone’ adapta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6840" y="17521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is your GCCA programme integrating into existing institutional structures (e.g. cross-sector coordination)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spcBef>
                <a:spcPts val="451"/>
              </a:spcBef>
              <a:buClr>
                <a:srgbClr val="0062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27f"/>
                </a:solidFill>
                <a:latin typeface="Arial"/>
              </a:rPr>
              <a:t>Why is adaptation so often a stand-alone activit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spcBef>
                <a:spcPts val="451"/>
              </a:spcBef>
              <a:buClr>
                <a:srgbClr val="0062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27f"/>
                </a:solidFill>
                <a:latin typeface="Arial"/>
              </a:rPr>
              <a:t>Is this ever appropriate?  Wh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es the programme include provisions to make new practices become standard and how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spcBef>
                <a:spcPts val="451"/>
              </a:spcBef>
              <a:buClr>
                <a:srgbClr val="0062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27f"/>
                </a:solidFill>
                <a:latin typeface="Arial"/>
              </a:rPr>
              <a:t>e.g. changes to administrative rules, procedure and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activities or approaches have proven most successful in strengthening capacities and institu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spcBef>
                <a:spcPts val="451"/>
              </a:spcBef>
              <a:buClr>
                <a:srgbClr val="0062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27f"/>
                </a:solidFill>
                <a:latin typeface="Arial"/>
              </a:rPr>
              <a:t>e.g. internal information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spcBef>
                <a:spcPts val="451"/>
              </a:spcBef>
              <a:buClr>
                <a:srgbClr val="0062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27f"/>
                </a:solidFill>
                <a:latin typeface="Arial"/>
              </a:rPr>
              <a:t>sensitising players to the differing goals and approach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spcBef>
                <a:spcPts val="451"/>
              </a:spcBef>
              <a:buClr>
                <a:srgbClr val="0062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27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627f"/>
                </a:solidFill>
                <a:latin typeface="Arial"/>
              </a:rPr>
              <a:t>in-country technical ass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spcBef>
                <a:spcPts val="451"/>
              </a:spcBef>
              <a:buClr>
                <a:srgbClr val="0062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27f"/>
                </a:solidFill>
                <a:latin typeface="Arial"/>
              </a:rPr>
              <a:t>South-south co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62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858000" y="661356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A249-FCB6-44BF-8ED9-04711DC05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ng stakeholder roles and responsibilit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6840" y="17521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are the major stakeholder grou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spcBef>
                <a:spcPts val="499"/>
              </a:spcBef>
              <a:buClr>
                <a:srgbClr val="0062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27f"/>
                </a:solidFill>
                <a:latin typeface="Arial"/>
              </a:rPr>
              <a:t>National &amp; Local Governments, NGOs, Private Sector, Local Communities, Technical Specialists (e.g. researchers), oth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ir roles overla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spcBef>
                <a:spcPts val="499"/>
              </a:spcBef>
              <a:buClr>
                <a:srgbClr val="0062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27f"/>
                </a:solidFill>
                <a:latin typeface="Arial"/>
              </a:rPr>
              <a:t>Is overlap useful or ineffici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leads and 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spcBef>
                <a:spcPts val="499"/>
              </a:spcBef>
              <a:buClr>
                <a:srgbClr val="0062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27f"/>
                </a:solidFill>
                <a:latin typeface="Arial"/>
              </a:rPr>
              <a:t>Role of ‘champion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spcBef>
                <a:spcPts val="499"/>
              </a:spcBef>
              <a:buClr>
                <a:srgbClr val="0062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27f"/>
                </a:solidFill>
                <a:latin typeface="Arial"/>
              </a:rPr>
              <a:t>What about opposing ‘champion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effectiv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path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858000" y="661356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B47E-94FE-47AA-B71B-972CE7034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33"/>
          <p:cNvGrpSpPr/>
          <p:nvPr/>
        </p:nvGrpSpPr>
        <p:grpSpPr>
          <a:xfrm>
            <a:off x="4800600" y="4952880"/>
            <a:ext cx="3657600" cy="1676160"/>
            <a:chOff x="4800600" y="4952880"/>
            <a:chExt cx="3657600" cy="1676160"/>
          </a:xfrm>
        </p:grpSpPr>
        <p:grpSp>
          <p:nvGrpSpPr>
            <p:cNvPr id="250" name="Group 4"/>
            <p:cNvGrpSpPr/>
            <p:nvPr/>
          </p:nvGrpSpPr>
          <p:grpSpPr>
            <a:xfrm>
              <a:off x="4800600" y="5790960"/>
              <a:ext cx="3657600" cy="838080"/>
              <a:chOff x="4800600" y="5790960"/>
              <a:chExt cx="3657600" cy="838080"/>
            </a:xfrm>
          </p:grpSpPr>
          <p:grpSp>
            <p:nvGrpSpPr>
              <p:cNvPr id="251" name="Group 5"/>
              <p:cNvGrpSpPr/>
              <p:nvPr/>
            </p:nvGrpSpPr>
            <p:grpSpPr>
              <a:xfrm>
                <a:off x="4800600" y="6118920"/>
                <a:ext cx="1990080" cy="145800"/>
                <a:chOff x="4800600" y="6118920"/>
                <a:chExt cx="1990080" cy="145800"/>
              </a:xfrm>
            </p:grpSpPr>
            <p:sp>
              <p:nvSpPr>
                <p:cNvPr id="252" name="Oval 16"/>
                <p:cNvSpPr/>
                <p:nvPr/>
              </p:nvSpPr>
              <p:spPr>
                <a:xfrm>
                  <a:off x="4800600" y="6118920"/>
                  <a:ext cx="214920" cy="14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a8f"/>
                    </a:gs>
                    <a:gs pos="100000">
                      <a:srgbClr val="008fc1"/>
                    </a:gs>
                  </a:gsLst>
                  <a:lin ang="16200000"/>
                </a:gradFill>
                <a:ln w="9360">
                  <a:solidFill>
                    <a:srgbClr val="0082a9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Oval 17"/>
                <p:cNvSpPr/>
                <p:nvPr/>
              </p:nvSpPr>
              <p:spPr>
                <a:xfrm>
                  <a:off x="5392080" y="6118920"/>
                  <a:ext cx="214920" cy="14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a8f"/>
                    </a:gs>
                    <a:gs pos="100000">
                      <a:srgbClr val="008fc1"/>
                    </a:gs>
                  </a:gsLst>
                  <a:lin ang="16200000"/>
                </a:gradFill>
                <a:ln w="9360">
                  <a:solidFill>
                    <a:srgbClr val="0082a9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Oval 18"/>
                <p:cNvSpPr/>
                <p:nvPr/>
              </p:nvSpPr>
              <p:spPr>
                <a:xfrm>
                  <a:off x="5983920" y="6118920"/>
                  <a:ext cx="214920" cy="14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a8f"/>
                    </a:gs>
                    <a:gs pos="100000">
                      <a:srgbClr val="008fc1"/>
                    </a:gs>
                  </a:gsLst>
                  <a:lin ang="16200000"/>
                </a:gradFill>
                <a:ln w="9360">
                  <a:solidFill>
                    <a:srgbClr val="0082a9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Oval 19"/>
                <p:cNvSpPr/>
                <p:nvPr/>
              </p:nvSpPr>
              <p:spPr>
                <a:xfrm>
                  <a:off x="6575760" y="6118920"/>
                  <a:ext cx="214920" cy="14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a8f"/>
                    </a:gs>
                    <a:gs pos="100000">
                      <a:srgbClr val="008fc1"/>
                    </a:gs>
                  </a:gsLst>
                  <a:lin ang="16200000"/>
                </a:gradFill>
                <a:ln w="9360">
                  <a:solidFill>
                    <a:srgbClr val="0082a9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56" name="Straight Arrow Connector 20"/>
                <p:cNvCxnSpPr>
                  <a:stCxn id="252" idx="6"/>
                  <a:endCxn id="253" idx="2"/>
                </p:cNvCxnSpPr>
                <p:nvPr/>
              </p:nvCxnSpPr>
              <p:spPr>
                <a:xfrm>
                  <a:off x="5015520" y="6191280"/>
                  <a:ext cx="377280" cy="1080"/>
                </a:xfrm>
                <a:prstGeom prst="straightConnector1">
                  <a:avLst/>
                </a:prstGeom>
                <a:ln w="25560">
                  <a:solidFill>
                    <a:srgbClr val="0083a9"/>
                  </a:solidFill>
                  <a:miter/>
                  <a:headEnd len="med" type="arrow" w="med"/>
                  <a:tailEnd len="med" type="arrow" w="med"/>
                </a:ln>
              </p:spPr>
            </p:cxnSp>
            <p:cxnSp>
              <p:nvCxnSpPr>
                <p:cNvPr id="257" name="Straight Arrow Connector 21"/>
                <p:cNvCxnSpPr/>
                <p:nvPr/>
              </p:nvCxnSpPr>
              <p:spPr>
                <a:xfrm>
                  <a:off x="5607360" y="6191280"/>
                  <a:ext cx="377280" cy="1080"/>
                </a:xfrm>
                <a:prstGeom prst="straightConnector1">
                  <a:avLst/>
                </a:prstGeom>
                <a:ln w="25560">
                  <a:solidFill>
                    <a:srgbClr val="0083a9"/>
                  </a:solidFill>
                  <a:miter/>
                  <a:headEnd len="med" type="arrow" w="med"/>
                  <a:tailEnd len="med" type="arrow" w="med"/>
                </a:ln>
              </p:spPr>
            </p:cxnSp>
            <p:cxnSp>
              <p:nvCxnSpPr>
                <p:cNvPr id="258" name="Straight Arrow Connector 22"/>
                <p:cNvCxnSpPr/>
                <p:nvPr/>
              </p:nvCxnSpPr>
              <p:spPr>
                <a:xfrm>
                  <a:off x="6199200" y="6191280"/>
                  <a:ext cx="377280" cy="1080"/>
                </a:xfrm>
                <a:prstGeom prst="straightConnector1">
                  <a:avLst/>
                </a:prstGeom>
                <a:ln w="25560">
                  <a:solidFill>
                    <a:srgbClr val="0083a9"/>
                  </a:solidFill>
                  <a:miter/>
                  <a:headEnd len="med" type="arrow" w="med"/>
                  <a:tailEnd len="med" type="arrow" w="med"/>
                </a:ln>
              </p:spPr>
            </p:cxnSp>
          </p:grpSp>
          <p:grpSp>
            <p:nvGrpSpPr>
              <p:cNvPr id="259" name="Group 6"/>
              <p:cNvGrpSpPr/>
              <p:nvPr/>
            </p:nvGrpSpPr>
            <p:grpSpPr>
              <a:xfrm>
                <a:off x="7382520" y="5790960"/>
                <a:ext cx="1075680" cy="838080"/>
                <a:chOff x="7382520" y="5790960"/>
                <a:chExt cx="1075680" cy="838080"/>
              </a:xfrm>
            </p:grpSpPr>
            <p:sp>
              <p:nvSpPr>
                <p:cNvPr id="260" name="Oval 7"/>
                <p:cNvSpPr/>
                <p:nvPr/>
              </p:nvSpPr>
              <p:spPr>
                <a:xfrm>
                  <a:off x="7382520" y="5790960"/>
                  <a:ext cx="214920" cy="14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a8f"/>
                    </a:gs>
                    <a:gs pos="100000">
                      <a:srgbClr val="008fc1"/>
                    </a:gs>
                  </a:gsLst>
                  <a:lin ang="16200000"/>
                </a:gradFill>
                <a:ln w="9360">
                  <a:solidFill>
                    <a:srgbClr val="0082a9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Oval 8"/>
                <p:cNvSpPr/>
                <p:nvPr/>
              </p:nvSpPr>
              <p:spPr>
                <a:xfrm>
                  <a:off x="7382520" y="6483240"/>
                  <a:ext cx="214920" cy="14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a8f"/>
                    </a:gs>
                    <a:gs pos="100000">
                      <a:srgbClr val="008fc1"/>
                    </a:gs>
                  </a:gsLst>
                  <a:lin ang="16200000"/>
                </a:gradFill>
                <a:ln w="9360">
                  <a:solidFill>
                    <a:srgbClr val="0082a9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9"/>
                <p:cNvSpPr/>
                <p:nvPr/>
              </p:nvSpPr>
              <p:spPr>
                <a:xfrm>
                  <a:off x="8243280" y="6446880"/>
                  <a:ext cx="214920" cy="14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a8f"/>
                    </a:gs>
                    <a:gs pos="100000">
                      <a:srgbClr val="008fc1"/>
                    </a:gs>
                  </a:gsLst>
                  <a:lin ang="16200000"/>
                </a:gradFill>
                <a:ln w="9360">
                  <a:solidFill>
                    <a:srgbClr val="0082a9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Oval 10"/>
                <p:cNvSpPr/>
                <p:nvPr/>
              </p:nvSpPr>
              <p:spPr>
                <a:xfrm>
                  <a:off x="8243280" y="5790960"/>
                  <a:ext cx="214920" cy="14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a8f"/>
                    </a:gs>
                    <a:gs pos="100000">
                      <a:srgbClr val="008fc1"/>
                    </a:gs>
                  </a:gsLst>
                  <a:lin ang="16200000"/>
                </a:gradFill>
                <a:ln w="9360">
                  <a:solidFill>
                    <a:srgbClr val="0082a9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Donut 11"/>
                <p:cNvSpPr/>
                <p:nvPr/>
              </p:nvSpPr>
              <p:spPr>
                <a:xfrm>
                  <a:off x="7705080" y="6082560"/>
                  <a:ext cx="376560" cy="254880"/>
                </a:xfrm>
                <a:custGeom>
                  <a:avLst/>
                  <a:gdLst>
                    <a:gd name="textAreaLeft" fmla="*/ 55080 w 376560"/>
                    <a:gd name="textAreaRight" fmla="*/ 321480 w 376560"/>
                    <a:gd name="textAreaTop" fmla="*/ 37080 h 254880"/>
                    <a:gd name="textAreaBottom" fmla="*/ 217800 h 254880"/>
                  </a:gdLst>
                  <a:ahLst/>
                  <a:rect l="textAreaLeft" t="textAreaTop" r="textAreaRight" b="textAreaBottom"/>
                  <a:pathLst>
                    <a:path w="533400" h="533400">
                      <a:moveTo>
                        <a:pt x="0" y="266700"/>
                      </a:moveTo>
                      <a:lnTo>
                        <a:pt x="0" y="266700"/>
                      </a:lnTo>
                      <a:arcTo wR="266700" hR="266700" stAng="10800000" swAng="5400000"/>
                      <a:lnTo>
                        <a:pt x="266700" y="0"/>
                      </a:lnTo>
                      <a:arcTo wR="266700" hR="266700" stAng="-5400000" swAng="5400000"/>
                      <a:lnTo>
                        <a:pt x="533400" y="266700"/>
                      </a:lnTo>
                      <a:arcTo wR="266700" hR="266700" stAng="0" swAng="5400000"/>
                      <a:lnTo>
                        <a:pt x="266700" y="533400"/>
                      </a:lnTo>
                      <a:arcTo wR="266700" hR="266700" stAng="5400000" swAng="5400000"/>
                      <a:close/>
                      <a:moveTo>
                        <a:pt x="133350" y="266700"/>
                      </a:moveTo>
                      <a:lnTo>
                        <a:pt x="133350" y="266700"/>
                      </a:lnTo>
                      <a:arcTo wR="133350" hR="133350" stAng="10800000" swAng="-5400000"/>
                      <a:lnTo>
                        <a:pt x="266700" y="400050"/>
                      </a:lnTo>
                      <a:arcTo wR="133350" hR="133350" stAng="5400000" swAng="-5400000"/>
                      <a:lnTo>
                        <a:pt x="400050" y="266700"/>
                      </a:lnTo>
                      <a:arcTo wR="133350" hR="133350" stAng="0" swAng="-5400000"/>
                      <a:lnTo>
                        <a:pt x="266700" y="133350"/>
                      </a:lnTo>
                      <a:arcTo wR="133350" hR="133350" stAng="-540000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006a8f"/>
                    </a:gs>
                    <a:gs pos="100000">
                      <a:srgbClr val="008fc1"/>
                    </a:gs>
                  </a:gsLst>
                  <a:lin ang="16200000"/>
                </a:gradFill>
                <a:ln w="9360">
                  <a:solidFill>
                    <a:srgbClr val="0082a9"/>
                  </a:solidFill>
                  <a:round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65" name="Straight Arrow Connector 12"/>
                <p:cNvCxnSpPr>
                  <a:stCxn id="263" idx="3"/>
                  <a:endCxn id="264" idx="7"/>
                </p:cNvCxnSpPr>
                <p:nvPr/>
              </p:nvCxnSpPr>
              <p:spPr>
                <a:xfrm flipH="1">
                  <a:off x="8025840" y="5915160"/>
                  <a:ext cx="248760" cy="205200"/>
                </a:xfrm>
                <a:prstGeom prst="straightConnector1">
                  <a:avLst/>
                </a:prstGeom>
                <a:ln w="25560">
                  <a:solidFill>
                    <a:srgbClr val="0083a9"/>
                  </a:solidFill>
                  <a:miter/>
                  <a:headEnd len="med" type="arrow" w="med"/>
                  <a:tailEnd len="med" type="arrow" w="med"/>
                </a:ln>
              </p:spPr>
            </p:cxnSp>
            <p:cxnSp>
              <p:nvCxnSpPr>
                <p:cNvPr id="266" name="Straight Arrow Connector 13"/>
                <p:cNvCxnSpPr/>
                <p:nvPr/>
              </p:nvCxnSpPr>
              <p:spPr>
                <a:xfrm flipH="1">
                  <a:off x="7543080" y="6301080"/>
                  <a:ext cx="248760" cy="205200"/>
                </a:xfrm>
                <a:prstGeom prst="straightConnector1">
                  <a:avLst/>
                </a:prstGeom>
                <a:ln w="25560">
                  <a:solidFill>
                    <a:srgbClr val="0083a9"/>
                  </a:solidFill>
                  <a:miter/>
                  <a:headEnd len="med" type="arrow" w="med"/>
                  <a:tailEnd len="med" type="arrow" w="med"/>
                </a:ln>
              </p:spPr>
            </p:cxnSp>
            <p:cxnSp>
              <p:nvCxnSpPr>
                <p:cNvPr id="267" name="Straight Arrow Connector 14"/>
                <p:cNvCxnSpPr>
                  <a:endCxn id="262" idx="1"/>
                </p:cNvCxnSpPr>
                <p:nvPr/>
              </p:nvCxnSpPr>
              <p:spPr>
                <a:xfrm>
                  <a:off x="8027640" y="6301080"/>
                  <a:ext cx="247320" cy="167760"/>
                </a:xfrm>
                <a:prstGeom prst="straightConnector1">
                  <a:avLst/>
                </a:prstGeom>
                <a:ln w="25560">
                  <a:solidFill>
                    <a:srgbClr val="0083a9"/>
                  </a:solidFill>
                  <a:miter/>
                  <a:headEnd len="med" type="arrow" w="med"/>
                  <a:tailEnd len="med" type="arrow" w="med"/>
                </a:ln>
              </p:spPr>
            </p:cxnSp>
            <p:cxnSp>
              <p:nvCxnSpPr>
                <p:cNvPr id="268" name="Straight Arrow Connector 15"/>
                <p:cNvCxnSpPr/>
                <p:nvPr/>
              </p:nvCxnSpPr>
              <p:spPr>
                <a:xfrm>
                  <a:off x="7543440" y="5936760"/>
                  <a:ext cx="247320" cy="167760"/>
                </a:xfrm>
                <a:prstGeom prst="straightConnector1">
                  <a:avLst/>
                </a:prstGeom>
                <a:ln w="25560">
                  <a:solidFill>
                    <a:srgbClr val="0083a9"/>
                  </a:solidFill>
                  <a:miter/>
                  <a:headEnd len="med" type="arrow" w="med"/>
                  <a:tailEnd len="med" type="arrow" w="med"/>
                </a:ln>
              </p:spPr>
            </p:cxnSp>
          </p:grpSp>
        </p:grpSp>
        <p:grpSp>
          <p:nvGrpSpPr>
            <p:cNvPr id="269" name="Group 23"/>
            <p:cNvGrpSpPr/>
            <p:nvPr/>
          </p:nvGrpSpPr>
          <p:grpSpPr>
            <a:xfrm>
              <a:off x="5867280" y="4952880"/>
              <a:ext cx="1295280" cy="838080"/>
              <a:chOff x="5867280" y="4952880"/>
              <a:chExt cx="1295280" cy="838080"/>
            </a:xfrm>
          </p:grpSpPr>
          <p:sp>
            <p:nvSpPr>
              <p:cNvPr id="270" name="Oval 24"/>
              <p:cNvSpPr/>
              <p:nvPr/>
            </p:nvSpPr>
            <p:spPr>
              <a:xfrm>
                <a:off x="5867280" y="4952880"/>
                <a:ext cx="225000" cy="186120"/>
              </a:xfrm>
              <a:prstGeom prst="ellipse">
                <a:avLst/>
              </a:prstGeom>
              <a:gradFill rotWithShape="0">
                <a:gsLst>
                  <a:gs pos="0">
                    <a:srgbClr val="006a8f"/>
                  </a:gs>
                  <a:gs pos="100000">
                    <a:srgbClr val="008fc1"/>
                  </a:gs>
                </a:gsLst>
                <a:lin ang="16200000"/>
              </a:gradFill>
              <a:ln w="9360">
                <a:solidFill>
                  <a:srgbClr val="0082a9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Oval 25"/>
              <p:cNvSpPr/>
              <p:nvPr/>
            </p:nvSpPr>
            <p:spPr>
              <a:xfrm>
                <a:off x="6036120" y="5604840"/>
                <a:ext cx="225000" cy="186120"/>
              </a:xfrm>
              <a:prstGeom prst="ellipse">
                <a:avLst/>
              </a:prstGeom>
              <a:gradFill rotWithShape="0">
                <a:gsLst>
                  <a:gs pos="0">
                    <a:srgbClr val="006a8f"/>
                  </a:gs>
                  <a:gs pos="100000">
                    <a:srgbClr val="008fc1"/>
                  </a:gs>
                </a:gsLst>
                <a:lin ang="16200000"/>
              </a:gradFill>
              <a:ln w="9360">
                <a:solidFill>
                  <a:srgbClr val="0082a9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Oval 26"/>
              <p:cNvSpPr/>
              <p:nvPr/>
            </p:nvSpPr>
            <p:spPr>
              <a:xfrm>
                <a:off x="6712200" y="4999320"/>
                <a:ext cx="225000" cy="186120"/>
              </a:xfrm>
              <a:prstGeom prst="ellipse">
                <a:avLst/>
              </a:prstGeom>
              <a:gradFill rotWithShape="0">
                <a:gsLst>
                  <a:gs pos="0">
                    <a:srgbClr val="006a8f"/>
                  </a:gs>
                  <a:gs pos="100000">
                    <a:srgbClr val="008fc1"/>
                  </a:gs>
                </a:gsLst>
                <a:lin ang="16200000"/>
              </a:gradFill>
              <a:ln w="9360">
                <a:solidFill>
                  <a:srgbClr val="0082a9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Oval 27"/>
              <p:cNvSpPr/>
              <p:nvPr/>
            </p:nvSpPr>
            <p:spPr>
              <a:xfrm>
                <a:off x="6937560" y="5325480"/>
                <a:ext cx="225000" cy="186120"/>
              </a:xfrm>
              <a:prstGeom prst="ellipse">
                <a:avLst/>
              </a:prstGeom>
              <a:gradFill rotWithShape="0">
                <a:gsLst>
                  <a:gs pos="0">
                    <a:srgbClr val="006a8f"/>
                  </a:gs>
                  <a:gs pos="100000">
                    <a:srgbClr val="008fc1"/>
                  </a:gs>
                </a:gsLst>
                <a:lin ang="16200000"/>
              </a:gradFill>
              <a:ln w="9360">
                <a:solidFill>
                  <a:srgbClr val="0082a9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74" name="Straight Arrow Connector 28"/>
              <p:cNvCxnSpPr>
                <a:stCxn id="270" idx="4"/>
                <a:endCxn id="271" idx="0"/>
              </p:cNvCxnSpPr>
              <p:nvPr/>
            </p:nvCxnSpPr>
            <p:spPr>
              <a:xfrm>
                <a:off x="5979240" y="5138640"/>
                <a:ext cx="169560" cy="466200"/>
              </a:xfrm>
              <a:prstGeom prst="straightConnector1">
                <a:avLst/>
              </a:prstGeom>
              <a:ln w="25560">
                <a:solidFill>
                  <a:srgbClr val="0083a9"/>
                </a:solidFill>
                <a:miter/>
                <a:headEnd len="med" type="arrow" w="med"/>
                <a:tailEnd len="med" type="arrow" w="med"/>
              </a:ln>
            </p:spPr>
          </p:cxnSp>
          <p:cxnSp>
            <p:nvCxnSpPr>
              <p:cNvPr id="275" name="Straight Arrow Connector 29"/>
              <p:cNvCxnSpPr>
                <a:stCxn id="271" idx="6"/>
                <a:endCxn id="273" idx="3"/>
              </p:cNvCxnSpPr>
              <p:nvPr/>
            </p:nvCxnSpPr>
            <p:spPr>
              <a:xfrm flipV="1">
                <a:off x="6261120" y="5483520"/>
                <a:ext cx="709560" cy="214200"/>
              </a:xfrm>
              <a:prstGeom prst="straightConnector1">
                <a:avLst/>
              </a:prstGeom>
              <a:ln w="25560">
                <a:solidFill>
                  <a:srgbClr val="0083a9"/>
                </a:solidFill>
                <a:miter/>
                <a:headEnd len="med" type="arrow" w="med"/>
                <a:tailEnd len="med" type="arrow" w="med"/>
              </a:ln>
            </p:spPr>
          </p:cxnSp>
          <p:cxnSp>
            <p:nvCxnSpPr>
              <p:cNvPr id="276" name="Straight Arrow Connector 30"/>
              <p:cNvCxnSpPr>
                <a:stCxn id="270" idx="6"/>
                <a:endCxn id="272" idx="2"/>
              </p:cNvCxnSpPr>
              <p:nvPr/>
            </p:nvCxnSpPr>
            <p:spPr>
              <a:xfrm>
                <a:off x="6091920" y="5045400"/>
                <a:ext cx="620280" cy="47160"/>
              </a:xfrm>
              <a:prstGeom prst="straightConnector1">
                <a:avLst/>
              </a:prstGeom>
              <a:ln w="25560">
                <a:solidFill>
                  <a:srgbClr val="0083a9"/>
                </a:solidFill>
                <a:miter/>
                <a:headEnd len="med" type="arrow" w="med"/>
                <a:tailEnd len="med" type="arrow" w="med"/>
              </a:ln>
            </p:spPr>
          </p:cxnSp>
          <p:cxnSp>
            <p:nvCxnSpPr>
              <p:cNvPr id="277" name="Straight Arrow Connector 31"/>
              <p:cNvCxnSpPr>
                <a:stCxn id="271" idx="7"/>
                <a:endCxn id="272" idx="4"/>
              </p:cNvCxnSpPr>
              <p:nvPr/>
            </p:nvCxnSpPr>
            <p:spPr>
              <a:xfrm flipV="1">
                <a:off x="6228360" y="5185080"/>
                <a:ext cx="596880" cy="447120"/>
              </a:xfrm>
              <a:prstGeom prst="straightConnector1">
                <a:avLst/>
              </a:prstGeom>
              <a:ln w="25560">
                <a:solidFill>
                  <a:srgbClr val="0083a9"/>
                </a:solidFill>
                <a:miter/>
                <a:headEnd len="med" type="arrow" w="med"/>
                <a:tailEnd len="med" type="arrow" w="med"/>
              </a:ln>
            </p:spPr>
          </p:cxnSp>
          <p:cxnSp>
            <p:nvCxnSpPr>
              <p:cNvPr id="278" name="Straight Arrow Connector 32"/>
              <p:cNvCxnSpPr>
                <a:stCxn id="270" idx="5"/>
                <a:endCxn id="273" idx="2"/>
              </p:cNvCxnSpPr>
              <p:nvPr/>
            </p:nvCxnSpPr>
            <p:spPr>
              <a:xfrm>
                <a:off x="6059520" y="5111640"/>
                <a:ext cx="878400" cy="307440"/>
              </a:xfrm>
              <a:prstGeom prst="straightConnector1">
                <a:avLst/>
              </a:prstGeom>
              <a:ln w="25560">
                <a:solidFill>
                  <a:srgbClr val="0083a9"/>
                </a:solidFill>
                <a:miter/>
                <a:headEnd len="med" type="arrow" w="med"/>
                <a:tailEnd len="med" type="arrow" w="med"/>
              </a:ln>
            </p:spPr>
          </p:cxnSp>
        </p:grpSp>
      </p:grpSp>
      <p:pic>
        <p:nvPicPr>
          <p:cNvPr id="279" name="Picture 34" descr="Dispute.jpg"/>
          <p:cNvPicPr/>
          <p:nvPr/>
        </p:nvPicPr>
        <p:blipFill>
          <a:blip r:embed="rId1"/>
          <a:stretch/>
        </p:blipFill>
        <p:spPr>
          <a:xfrm>
            <a:off x="4952880" y="2971800"/>
            <a:ext cx="328464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aptation, Disaster Risk Reduction, Development – the boundaries?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7521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s and cons of full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00627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27f"/>
                </a:solidFill>
                <a:latin typeface="Arial"/>
              </a:rPr>
              <a:t>Skill sharing; shared data collection; avoidance of ‘silos’;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00627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27f"/>
                </a:solidFill>
                <a:latin typeface="Arial"/>
              </a:rPr>
              <a:t>Differing goals and operating modes; domination by most powerful partner; stakeholder confusion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ding si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00627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27f"/>
                </a:solidFill>
                <a:latin typeface="Arial"/>
              </a:rPr>
              <a:t>Contributor and recipient driv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the “adaptation component” be identif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spcBef>
                <a:spcPts val="601"/>
              </a:spcBef>
              <a:buClr>
                <a:srgbClr val="0062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27f"/>
                </a:solidFill>
                <a:latin typeface="Arial"/>
              </a:rPr>
              <a:t>Need it be identifi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228600">
              <a:spcBef>
                <a:spcPts val="499"/>
              </a:spcBef>
              <a:buClr>
                <a:srgbClr val="00627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858000" y="661356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7743-A4CA-49A1-8802-74467708A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re we missing something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858000" y="661356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0772-A5B5-4393-82F5-10E15BA76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7" descr="Hidden 3.jpg"/>
          <p:cNvPicPr/>
          <p:nvPr/>
        </p:nvPicPr>
        <p:blipFill>
          <a:blip r:embed="rId1"/>
          <a:stretch/>
        </p:blipFill>
        <p:spPr>
          <a:xfrm>
            <a:off x="380880" y="1628640"/>
            <a:ext cx="5639040" cy="461988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6095880" y="2437920"/>
            <a:ext cx="28195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&amp; damage versus adaptation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?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80880" y="1447920"/>
            <a:ext cx="46483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verview of the GCCA experience of adaptation in the agriculture, land and water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y issues from the Background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mentary issues and questions from global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comments on the Working Group discussion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6858000" y="661356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137B-5124-40F7-90C7-01073E694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C:\Users\catherine\Pictures\GCCA_TPs\Agroforestry1_Mali.JPG"/>
          <p:cNvPicPr/>
          <p:nvPr/>
        </p:nvPicPr>
        <p:blipFill>
          <a:blip r:embed="rId1"/>
          <a:stretch/>
        </p:blipFill>
        <p:spPr>
          <a:xfrm>
            <a:off x="4952880" y="2362320"/>
            <a:ext cx="3886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n overview of GCCA experien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28600" y="17521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CCA has 21adaptation activities in 19 countries and in 7 regional progr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st country programmes are at an early stage of implementation starting in 2012 or 2013,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about half of the regional programmes started in 2011 or b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62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627f"/>
                </a:solidFill>
                <a:latin typeface="Arial"/>
              </a:rPr>
              <a:t>So, this is the critical time for sharing experience and less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62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6858000" y="661356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0997-0C27-40BB-8F9F-B32646644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5943600" y="2362320"/>
            <a:ext cx="2798640" cy="37335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n overview of adaptation related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CCA experience 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6858000" y="661356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22DA-C2CF-491F-9FE4-724A0DFAD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5960" y="1218960"/>
            <a:ext cx="55623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from Bhutan, the programme aims to support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paration and endorsement of a Climate Change Adaptation Action Plan for the Renewable Natural Resources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streaming of the Action Plan into the 11th Five-Year Plan (11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Y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ation of actions reflected in the 11th FYP (focus on the agricultural secto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ment of an institutional framework allowing a multi-sectoral approach to CC adap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Key issues from the GCCA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daptation related technical pap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6858000" y="661356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07E0-AB49-4E98-AC37-2753D4C03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4"/>
          <p:cNvSpPr/>
          <p:nvPr/>
        </p:nvSpPr>
        <p:spPr>
          <a:xfrm>
            <a:off x="457200" y="1752480"/>
            <a:ext cx="7086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nderstanding and addressing vuln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CCA adaptation design and interventions frequently build on already available vulnerability diagnoses and assessment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533520" y="3581280"/>
            <a:ext cx="480060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sting and demonstrating concrete, ‘appropriate’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 demonstration of adaptation practices and technologies in the field is a powerful means of evaluating and demonstrating the ‘appropriateness’ of measu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Cow Dung Fuel India.jpg"/>
          <p:cNvPicPr/>
          <p:nvPr/>
        </p:nvPicPr>
        <p:blipFill>
          <a:blip r:embed="rId1"/>
          <a:stretch/>
        </p:blipFill>
        <p:spPr>
          <a:xfrm>
            <a:off x="5238720" y="3809880"/>
            <a:ext cx="390528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Key issues from the GCCA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daptation related technical pap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4"/>
          <p:cNvSpPr/>
          <p:nvPr/>
        </p:nvSpPr>
        <p:spPr>
          <a:xfrm>
            <a:off x="6858000" y="661356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2B4C-BB81-43D1-8606-3E8DC0189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457200" y="2057400"/>
            <a:ext cx="8229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ilding on NAPAs and other adaptation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ajority of countries receiving GCCA support have been through a process of reflection on climate change adaptation priorities in the context of NAPA preparation and these can provide valuable insigh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533520" y="4191120"/>
            <a:ext cx="5029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pporting adaptation at a strategic, sector-wid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 for adaptation at a sector-wide level can usefully complement support for specific activities or pilot projects within the sect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" descr="Scissors paper stone in climate talks.jpg"/>
          <p:cNvPicPr/>
          <p:nvPr/>
        </p:nvPicPr>
        <p:blipFill>
          <a:blip r:embed="rId1"/>
          <a:stretch/>
        </p:blipFill>
        <p:spPr>
          <a:xfrm>
            <a:off x="5867280" y="3962520"/>
            <a:ext cx="327672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Key issues from the GCCA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daptation related technical pap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6858000" y="661356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8A24-0137-4BFB-9CF5-110B9DA9F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457200" y="1676520"/>
            <a:ext cx="7391520" cy="30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volving local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aptation measures, in particular those related to agriculture, water resources management and sustainable land management, are usually implemented at the local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ing local communities creates ownership and contributes to the overall success of initiativ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7"/>
          <p:cNvSpPr/>
          <p:nvPr/>
        </p:nvSpPr>
        <p:spPr>
          <a:xfrm>
            <a:off x="380880" y="4495680"/>
            <a:ext cx="556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gaging the 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vate sector actors, whether operating in the informal or formal sector, have a role to play in adaptation to climate chan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" descr="Mangrove planting Kiribati.jpg"/>
          <p:cNvPicPr/>
          <p:nvPr/>
        </p:nvPicPr>
        <p:blipFill>
          <a:blip r:embed="rId1"/>
          <a:stretch/>
        </p:blipFill>
        <p:spPr>
          <a:xfrm>
            <a:off x="5740560" y="3962520"/>
            <a:ext cx="34034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Key issues from the GCCA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daptation related technical pap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4"/>
          <p:cNvSpPr/>
          <p:nvPr/>
        </p:nvSpPr>
        <p:spPr>
          <a:xfrm>
            <a:off x="6858000" y="661356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8086-A6B5-4E25-ACA9-2F37F4BFB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609480" y="1676520"/>
            <a:ext cx="5791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stering environmental sustainability and resource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vironmental sustainability and resource efficiency are key to the resilience of agriculture and the sustainability of water supply system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8"/>
          <p:cNvSpPr/>
          <p:nvPr/>
        </p:nvSpPr>
        <p:spPr>
          <a:xfrm>
            <a:off x="533520" y="4038480"/>
            <a:ext cx="5105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vesting in research, data collection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iable data and a good understanding of on-going processes are required to support all stages of implementing adap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9" descr="Agricultural research Kenya.jpg"/>
          <p:cNvPicPr/>
          <p:nvPr/>
        </p:nvPicPr>
        <p:blipFill>
          <a:blip r:embed="rId1"/>
          <a:stretch/>
        </p:blipFill>
        <p:spPr>
          <a:xfrm>
            <a:off x="6216480" y="4038480"/>
            <a:ext cx="292752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me suggested issues for the Working Grou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6858000" y="661356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D3C2-7997-4865-A1C2-C22F45468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Nothing Stairs.jpg"/>
          <p:cNvPicPr/>
          <p:nvPr/>
        </p:nvPicPr>
        <p:blipFill>
          <a:blip r:embed="rId1"/>
          <a:stretch/>
        </p:blipFill>
        <p:spPr>
          <a:xfrm>
            <a:off x="0" y="1371600"/>
            <a:ext cx="4038480" cy="5014800"/>
          </a:xfrm>
          <a:prstGeom prst="rect">
            <a:avLst/>
          </a:prstGeom>
          <a:ln w="0">
            <a:noFill/>
          </a:ln>
        </p:spPr>
      </p:pic>
      <p:sp>
        <p:nvSpPr>
          <p:cNvPr id="236" name="TextBox 5"/>
          <p:cNvSpPr/>
          <p:nvPr/>
        </p:nvSpPr>
        <p:spPr>
          <a:xfrm>
            <a:off x="4419720" y="2286000"/>
            <a:ext cx="3733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our basic concepts about implementing s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re some that are illus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ve you been learning from the GCCA and other ac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4T15:24:32Z</dcterms:created>
  <dc:creator>MWH Global, Inc.</dc:creator>
  <dc:description/>
  <dc:language>en-US</dc:language>
  <cp:lastModifiedBy>Catherine</cp:lastModifiedBy>
  <cp:lastPrinted>2012-09-13T05:37:40Z</cp:lastPrinted>
  <dcterms:modified xsi:type="dcterms:W3CDTF">2012-09-26T07:56:41Z</dcterms:modified>
  <cp:revision>258</cp:revision>
  <dc:subject/>
  <dc:title>Slide 1</dc:title>
</cp:coreProperties>
</file>