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08E0C-BBD2-4A11-8EAC-1BFB3993A83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D975B-2819-4700-AD7D-20B42B468CF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75A2-27CB-40A3-A4F9-DC218EC5DFCC}" type="datetime">
              <a:rPr b="0" lang="en-US" sz="1200" spc="-1" strike="noStrike">
                <a:solidFill>
                  <a:srgbClr val="ffffff"/>
                </a:solidFill>
                <a:latin typeface="Verdana"/>
              </a:rPr>
              <a:t>07/30/26</a:t>
            </a:fld>
            <a:r>
              <a:rPr b="0" lang="en-US" sz="1200" spc="-1" strike="noStrike">
                <a:solidFill>
                  <a:srgbClr val="ffffff"/>
                </a:solidFill>
                <a:latin typeface="Verdana"/>
              </a:rPr>
              <a:t> </a:t>
            </a:r>
            <a:fld id="{C51C74F5-D9FD-4F04-BFD4-89772C4C5942}"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B703-C4B1-44CF-AC03-A664CC24919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4BA1-7260-4EE7-AB6C-6E8F40AFDBDB}" type="datetime">
              <a:rPr b="0" lang="en-US" sz="1200" spc="-1" strike="noStrike">
                <a:solidFill>
                  <a:srgbClr val="ffffff"/>
                </a:solidFill>
                <a:latin typeface="Verdana"/>
              </a:rPr>
              <a:t>07/30/26</a:t>
            </a:fld>
            <a:r>
              <a:rPr b="0" lang="en-US" sz="1200" spc="-1" strike="noStrike">
                <a:solidFill>
                  <a:srgbClr val="ffffff"/>
                </a:solidFill>
                <a:latin typeface="Verdana"/>
              </a:rPr>
              <a:t> </a:t>
            </a:r>
            <a:fld id="{92EA1F59-F3EF-4CF1-A357-5A7890097437}"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271E-66DF-4BD0-8598-E2650B8DB89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8F7A-800C-4B68-9D81-44AC26198B4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814EA-E041-4671-8A3B-43366FBB1DF8}" type="datetime">
              <a:rPr b="0" lang="en-US" sz="1200" spc="-1" strike="noStrike">
                <a:solidFill>
                  <a:srgbClr val="ffffff"/>
                </a:solidFill>
                <a:latin typeface="Verdana"/>
              </a:rPr>
              <a:t>07/30/26</a:t>
            </a:fld>
            <a:r>
              <a:rPr b="0" lang="en-US" sz="1200" spc="-1" strike="noStrike">
                <a:solidFill>
                  <a:srgbClr val="ffffff"/>
                </a:solidFill>
                <a:latin typeface="Verdana"/>
              </a:rPr>
              <a:t> </a:t>
            </a:r>
            <a:fld id="{CA1955F8-3B68-4F53-B7A1-2405AB2F131A}"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2F8F-FB42-4B6D-B267-7163F2E3CAF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76D7-2EFD-4528-8814-DEB4A7B283DF}" type="datetime">
              <a:rPr b="0" lang="en-US" sz="1200" spc="-1" strike="noStrike">
                <a:solidFill>
                  <a:srgbClr val="ffffff"/>
                </a:solidFill>
                <a:latin typeface="Verdana"/>
              </a:rPr>
              <a:t>07/30/26</a:t>
            </a:fld>
            <a:r>
              <a:rPr b="0" lang="en-US" sz="1200" spc="-1" strike="noStrike">
                <a:solidFill>
                  <a:srgbClr val="ffffff"/>
                </a:solidFill>
                <a:latin typeface="Verdana"/>
              </a:rPr>
              <a:t> </a:t>
            </a:r>
            <a:fld id="{B9B7D6A5-A3F4-4392-B46E-53FB63A762B1}"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141ED-E47A-4828-B9EE-E670B38F3A3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EFF6-CF14-4450-A5BF-155D131EEBA8}" type="datetime">
              <a:rPr b="0" lang="en-US" sz="1200" spc="-1" strike="noStrike">
                <a:solidFill>
                  <a:srgbClr val="ffffff"/>
                </a:solidFill>
                <a:latin typeface="Verdana"/>
              </a:rPr>
              <a:t>07/30/26</a:t>
            </a:fld>
            <a:r>
              <a:rPr b="0" lang="en-US" sz="1200" spc="-1" strike="noStrike">
                <a:solidFill>
                  <a:srgbClr val="ffffff"/>
                </a:solidFill>
                <a:latin typeface="Verdana"/>
              </a:rPr>
              <a:t> </a:t>
            </a:r>
            <a:fld id="{F79C645E-3F00-4DC7-AC5E-F7279257B504}"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005E-509D-4598-9E4F-95BFAD59758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3947-924D-47B4-A2D8-2F618BE67CB6}" type="datetime">
              <a:rPr b="0" lang="en-US" sz="1200" spc="-1" strike="noStrike">
                <a:solidFill>
                  <a:srgbClr val="ffffff"/>
                </a:solidFill>
                <a:latin typeface="Verdana"/>
              </a:rPr>
              <a:t>07/30/26</a:t>
            </a:fld>
            <a:r>
              <a:rPr b="0" lang="en-US" sz="1200" spc="-1" strike="noStrike">
                <a:solidFill>
                  <a:srgbClr val="ffffff"/>
                </a:solidFill>
                <a:latin typeface="Verdana"/>
              </a:rPr>
              <a:t> </a:t>
            </a:r>
            <a:fld id="{439D89B6-6DEF-4FA9-BF73-A4DCFEF6E9BA}"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18B8-4D22-4E50-AA24-7F52CC8883F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CDE54-95DF-4442-B742-16F60E249B38}" type="datetime">
              <a:rPr b="0" lang="en-US" sz="1200" spc="-1" strike="noStrike">
                <a:solidFill>
                  <a:srgbClr val="ffffff"/>
                </a:solidFill>
                <a:latin typeface="Verdana"/>
              </a:rPr>
              <a:t>07/30/26</a:t>
            </a:fld>
            <a:r>
              <a:rPr b="0" lang="en-US" sz="1200" spc="-1" strike="noStrike">
                <a:solidFill>
                  <a:srgbClr val="ffffff"/>
                </a:solidFill>
                <a:latin typeface="Verdana"/>
              </a:rPr>
              <a:t> </a:t>
            </a:r>
            <a:fld id="{DC597A4F-42F6-4CFE-8D09-D730C03DF0BB}"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A129-4912-4A7A-AFED-8EFA788C8CB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C022-4FA0-4688-B474-413A85CD0A7F}" type="datetime">
              <a:rPr b="0" lang="en-US" sz="1200" spc="-1" strike="noStrike">
                <a:solidFill>
                  <a:srgbClr val="ffffff"/>
                </a:solidFill>
                <a:latin typeface="Verdana"/>
              </a:rPr>
              <a:t>07/30/26</a:t>
            </a:fld>
            <a:r>
              <a:rPr b="0" lang="en-US" sz="1200" spc="-1" strike="noStrike">
                <a:solidFill>
                  <a:srgbClr val="ffffff"/>
                </a:solidFill>
                <a:latin typeface="Verdana"/>
              </a:rPr>
              <a:t> </a:t>
            </a:r>
            <a:fld id="{623201FA-DABC-4D57-A9C1-E5B9D0F19B0A}"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99C1A-019D-4F47-8B0D-58B118FC3E0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9809D-B00D-447F-9054-424A28AD453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C8F15-51D8-477C-9C93-2A8CF18139D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AA46-1E90-47B6-BC9D-952B939F6E8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9DD73-B120-4BB8-BA8F-A26C7EDD97B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9F9A7-3306-4C5A-9141-A3C46B9B11CC}" type="datetime">
              <a:rPr b="0" lang="en-US" sz="1200" spc="-1" strike="noStrike">
                <a:solidFill>
                  <a:srgbClr val="ffffff"/>
                </a:solidFill>
                <a:latin typeface="Verdana"/>
              </a:rPr>
              <a:t>07/30/26</a:t>
            </a:fld>
            <a:r>
              <a:rPr b="0" lang="en-US" sz="1200" spc="-1" strike="noStrike">
                <a:solidFill>
                  <a:srgbClr val="ffffff"/>
                </a:solidFill>
                <a:latin typeface="Verdana"/>
              </a:rPr>
              <a:t> </a:t>
            </a:r>
            <a:fld id="{076A8D99-FBDF-4E27-902D-626E96E198DC}"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6ABE6-8203-46A2-A5B3-83952FA2F45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BCFDD-ACCC-4916-8571-182CEDB511F1}" type="datetime">
              <a:rPr b="0" lang="en-US" sz="1200" spc="-1" strike="noStrike">
                <a:solidFill>
                  <a:srgbClr val="ffffff"/>
                </a:solidFill>
                <a:latin typeface="Verdana"/>
              </a:rPr>
              <a:t>07/30/26</a:t>
            </a:fld>
            <a:r>
              <a:rPr b="0" lang="en-US" sz="1200" spc="-1" strike="noStrike">
                <a:solidFill>
                  <a:srgbClr val="ffffff"/>
                </a:solidFill>
                <a:latin typeface="Verdana"/>
              </a:rPr>
              <a:t> </a:t>
            </a:r>
            <a:fld id="{6D442108-3E93-47C4-A9EC-583B8FA642A4}"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9512-D183-4A7F-9A11-DF385567D06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AFF1-B3E3-4083-A184-8485F5C6B73A}" type="datetime">
              <a:rPr b="0" lang="en-US" sz="1200" spc="-1" strike="noStrike">
                <a:solidFill>
                  <a:srgbClr val="ffffff"/>
                </a:solidFill>
                <a:latin typeface="Verdana"/>
              </a:rPr>
              <a:t>07/30/26</a:t>
            </a:fld>
            <a:r>
              <a:rPr b="0" lang="en-US" sz="1200" spc="-1" strike="noStrike">
                <a:solidFill>
                  <a:srgbClr val="ffffff"/>
                </a:solidFill>
                <a:latin typeface="Verdana"/>
              </a:rPr>
              <a:t> </a:t>
            </a:r>
            <a:fld id="{39D6EF1D-724B-474A-83E5-5ABC062E1F71}"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41FA-CB5C-4BC1-8FA9-38CF332B6EE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793A7-D811-4830-92DF-FBEB553A2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3804D-ABF7-4B66-B9C1-08EF134E2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B9BCA-90B2-4771-844B-48FE5CD9D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5586D-4D65-41D6-9D3B-D794FA4CD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D0AA6D-67C0-4CA6-9817-E067376DF9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26014-CC08-421B-B0B1-E32493ADA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C1555-C807-4FD5-99D3-C0E3975FB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86DF6-25E1-4755-92B9-787815C69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2B9AB-0332-4ACD-A35E-6C3BB8920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D5338-F785-4B10-9BEA-9710D2A9A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A5929-95A2-4082-A79F-663613FA4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27CF7-7188-4B26-9400-A3CA7AAAC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3C890-29B9-4913-87F4-17E7A45BC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833E3-AF5E-48D9-A3AD-0CC056B38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1BE92-9A98-479D-8EF9-8C03FAEB1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D279C-4100-4028-8DFE-638F7989C2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4AB97-5C78-4E69-8512-0CC6E3EC7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E963A-D38F-4423-84A0-CE3D9E204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E6C7A-B15C-413B-942F-D03D77CC9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D110E-C2A2-4771-AA9B-976224650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6A535-F181-401F-AAC2-DACEF99A7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2A220-EE39-4CF5-9D84-604BC5B82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2789B-5605-46A2-9A52-B86800B74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B8FA7-FCF1-4C7D-95F9-374CC507E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70724-0C53-44D8-AC41-1630E8A097A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A2B8-F4C4-47A4-882F-2579B4C1E80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C8B7-13B2-4F7E-9978-33B9CE3CFAD7}"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