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F7C8-BB34-4630-B713-7BCECE057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A984-EF2D-49EB-879C-38959408E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100F-FB0D-460E-AEC5-756EF564E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1F95-722F-42F0-BF33-3F7703BCB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A5381-DC50-4D04-BF00-347FA750F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9C491-A8E4-47E9-92AA-5B96201F4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ECCD6-B008-4BB7-8C26-93FB28B16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596A5-7F88-44D7-B73F-AFD02EB78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F985D-B96C-47B2-9630-13ABA5860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2E407-55DA-460B-9280-A088E7369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2CFF1-F589-4D5F-9824-A47499454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D104-5047-4CF3-B4DB-E4E98EF4C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68F40-FCF0-451A-A618-6D361CDFC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F7D1D-5D7D-4779-BD28-D46E6C67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FCE30-217E-4146-8435-42AA5203C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0CA4E-6D08-4FA4-8655-397B14FCE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812EF-8659-4472-9159-E5EC34D03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896BF-F800-43AD-98F5-E279A950A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957C8-A1EB-4186-A441-8D6A9C4E3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A03DA-8F07-47AE-B97E-0624FEB63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5204D-7E2E-4883-A47F-97501C1A2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8C5FA-FEAE-4E00-8D34-D6DF50D55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FE81-167C-4E81-94BA-E39929A49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BB826-08A5-4E8F-8EF7-5C908ED5D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3E833-9A48-4A4F-9485-36C630CD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1F437-640E-46AA-9610-D94B8170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D0D44-BAC3-4782-9245-74D07DE5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3AE74-250D-4991-83A9-6A92808BA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7A80E-26E1-4C92-8B78-2F40E1AB7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0D70B-55E1-4785-9953-8CE77D3C3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B104E-6480-4DCA-8DE2-A74E771D9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691EF-1E28-442D-B392-FB47DF81D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67597-4D3B-4EBE-96F2-B91A302EF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B1D4-0546-42B5-BD2D-052286497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1B293-80A1-43A4-8C90-5E66319D9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ACA09-7008-4198-B3FE-31C1D77AE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0AB8E-2FEF-4F27-BB6B-39B1A8EE8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EE846-A647-4029-9990-03AEB317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78540-50D3-471C-BF76-EDB0C54AA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649B1-0EBD-4F9D-BEAA-C43640CD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310CD-E7E0-4540-97AA-837849C8C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37283-9F96-4288-84BC-3DA558413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7C035-4F2D-406F-89E8-2C3E49419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1AE0-D87E-42E3-9247-C043EAE6A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664C-2312-4005-A869-89B9A9E68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4046-F728-4906-AE8D-61ED015D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C0D9-D524-487B-93EE-A2AF86862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ECED-50AF-4671-9F66-A84C1938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E45E8-3291-46C0-AF76-EB6546BFF5D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4B290-FDB6-4987-9999-63375DC19164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CA52A-167C-4D24-B89B-14C63BA1104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C605A-3CAA-48B5-9357-2EF460472FD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701640"/>
            <a:ext cx="7832520" cy="25052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03280" y="3142800"/>
            <a:ext cx="6383520" cy="21430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Presentation at the Workshop Held  on  the 07</a:t>
            </a:r>
            <a:r>
              <a:rPr b="0" lang="en-US" sz="2000" spc="-1" strike="noStrike" baseline="30000">
                <a:solidFill>
                  <a:srgbClr val="ffffff"/>
                </a:solidFill>
                <a:latin typeface="Constantia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 April 2011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Lisema Lekhooana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Calibri"/>
              </a:rPr>
              <a:t>PAF OBJECTIV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serve as a tool to measure sector performance on selected indicators which represents key sector performance are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provide evidence that investments are actually achieving the intended development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influence Government and donors in deciding on priority areas for suppor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STRATEGIC PRIORITY AREAS FOR 2010-2012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rban Domestic Wat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ural Water Suppl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mestic Sanit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stitutional and Capacity Develop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ff"/>
                </a:solidFill>
                <a:latin typeface="Calibri"/>
              </a:rPr>
              <a:t>SECTOR PERFOMANCE INDICATOR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CCESS TO RURAL WATER SUPPLY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: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portion of the rural households using piped water and public boreholes as their main source of drinking wat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CCESS TO URBAN WATER SUPPLY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   Proportion of the urban households using piped water as their main source of drinking wat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ff"/>
                </a:solidFill>
                <a:latin typeface="Calibri"/>
              </a:rPr>
              <a:t>SECTOR PERFOMANCE INDICATORS (cont.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CCESS TO RURAL SANITATION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: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Proportion of the rural households using in their place of residence a sewage system, septic tank, own VIP or own latrin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CCESS TO URBAN SANITATION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: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Proportion of the rural households using in their place of residence a sewage system, septic tank, own VIP or own latrin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Calibri"/>
              </a:rPr>
              <a:t>BASELINE AND TARGE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571680" y="1785960"/>
            <a:ext cx="833256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Calibri"/>
              </a:rPr>
              <a:t>INFORMATION FLOW CHAR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8" name="Content Placeholder 3" descr=""/>
          <p:cNvPicPr/>
          <p:nvPr/>
        </p:nvPicPr>
        <p:blipFill>
          <a:blip r:embed="rId1"/>
          <a:stretch/>
        </p:blipFill>
        <p:spPr>
          <a:xfrm>
            <a:off x="728640" y="2082960"/>
            <a:ext cx="7686720" cy="40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ff"/>
                </a:solidFill>
                <a:latin typeface="Calibri"/>
              </a:rPr>
              <a:t>CHALLENGES and POTENTIAL CONSTRAINT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armonization of Sector Information and analy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akeholder Capacity for Monitoring and Evaluation especially key sector departments and agenci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akeholder information flow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nor Coordination and agreement to common approach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Rectangle 2" descr=""/>
          <p:cNvPicPr/>
          <p:nvPr/>
        </p:nvPicPr>
        <p:blipFill>
          <a:blip r:embed="rId1"/>
          <a:stretch/>
        </p:blipFill>
        <p:spPr>
          <a:xfrm>
            <a:off x="420840" y="414360"/>
            <a:ext cx="83214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0:04:22Z</dcterms:created>
  <dc:creator> </dc:creator>
  <dc:description/>
  <dc:language>en-US</dc:language>
  <cp:lastModifiedBy>user</cp:lastModifiedBy>
  <dcterms:modified xsi:type="dcterms:W3CDTF">2011-04-06T14:05:57Z</dcterms:modified>
  <cp:revision>110</cp:revision>
  <dc:subject/>
  <dc:title>MONITORING AND EVALUATION</dc:title>
</cp:coreProperties>
</file>