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F592-821C-4D3F-AD2E-A0D23ADDF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1370-02E3-4918-A2EF-FD5C4F68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3B4C-B58C-4F7F-8CCB-111CE07AE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1008-95BA-4657-B4D7-B5C0FBB8D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F052-3CA5-4AE3-AF8F-F5BD27A73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0DF0-2F93-43F9-BB54-B1C584E0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20E4-4C17-4A8E-8115-9F8C8582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D7B5-EE3B-40DC-BFAB-D9908B78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8ED2-A53B-4122-B8BD-91B8AA9C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1714-ED43-462C-99A9-218A69F3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CF108-731D-49CB-AFE1-5CFED011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2A70-D335-41C6-8467-7BEBA067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CEA71-98E7-4B30-BA33-F5EC22E5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1A8F-815F-4222-98E7-745AD702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EF53F-07FE-4C14-8EAB-EFEEC145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941FF-404C-4D88-AA2D-E3AB9453F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CE1A-4161-4855-AF99-402A1F323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99616-37E4-41F1-8DAB-59F3ABA0C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00566-0D5A-4EF5-91CD-49BF4579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97F32-12B3-468A-8710-8BB81FE44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3B26D-7F56-4663-BA4C-7583ECA0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B6D1B-67B5-4192-AD1F-9F18BBE6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4EAA-762F-4413-8D71-2947E73A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3B638-AE84-4DD4-98A2-017E0532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45133-F2FF-4DD5-BC25-A748334D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2E317-E0A3-4CA4-87A6-65137D97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70FF1-DEBF-4AA9-B450-0C89DD3E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AFA94-B46D-43CF-A8D0-3394C16E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AD327-5A95-473D-B814-16B298270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10BD1-9A73-4695-A472-8AB9B637E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5512B-B944-435A-85CF-6F3C0F239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A098E-617C-4CFD-BE72-26A54E21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79FA3-606A-4E35-A85C-B5EF86DE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338C-51D5-4ECE-8BEA-C9BCE163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B27F6-11B0-489B-A631-BE758421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B2B55-6F7A-4896-B381-94DCE534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4B7C9-6D61-49C6-B650-ECFB85C8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65940-9119-43E6-BB1D-F47343FA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59717-8FC9-46D4-B749-74E1E15A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04F89-98E4-42F2-AF2E-F645E0CE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6C0C3-8C0E-4AF1-BFDE-047DA843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BE488-5AA7-42EB-AB02-030AC4F9D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1A145-D231-487D-A136-650632485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BE24-F7F9-44A9-9A71-1E504D47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622C-63D9-4FF8-A835-109444FD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45AE-E6B6-45B9-BB5D-0C32C63B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DE0D-EECA-46B4-A8A0-7ECB0B81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3C05-30C0-46CE-8EE0-8D90DD4B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450F-23E6-4384-B1BB-49647DB68DA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6239-0022-4317-AB45-0CC5C9F995F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B8B8-2397-4616-9A11-F7FA81FCDF6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5F3B-CDE3-4176-8482-57EB5266CDD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7832520" cy="2505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03280" y="3142800"/>
            <a:ext cx="6383520" cy="214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Presentation at the Workshop Held  on  the 07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nstantia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April 2011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Lisema Lekhooan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PAF OBJECTIV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serve as a tool to measure sector performance on selected indicators which represents key sector performance are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provide evidence that investments are actually achieving the intended developmen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influence Government and donors in deciding on priority areas for suppor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STRATEGIC PRIORITY AREAS FOR 2010-2012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rban Domestic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ural Water Supp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mestic Sani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stitutional and Capacity Develop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SECTOR PERFOMANCE INDICATO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RURAL WATER SUPPLY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: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portion of the rural households using piped water and public boreholes as their main source of drinking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URBAN WATER SUPPL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   Proportion of the urban households using piped water as their main source of drinking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SECTOR PERFOMANCE INDICATORS (cont.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RURAL SANITATION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: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Proportion of the rural households using in their place of residence a sewage system, septic tank, own VIP or own lat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URBAN SANITATION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: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Proportion of the rural households using in their place of residence a sewage system, septic tank, own VIP or own lat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BASELINE AND TARGE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3325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Content Placeholder 3" descr=""/>
          <p:cNvPicPr/>
          <p:nvPr/>
        </p:nvPicPr>
        <p:blipFill>
          <a:blip r:embed="rId1"/>
          <a:stretch/>
        </p:blipFill>
        <p:spPr>
          <a:xfrm>
            <a:off x="728640" y="2082960"/>
            <a:ext cx="76867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CHALLENGES and POTENTIAL CONSTRAINT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rmonization of Sector Information and analy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keholder Capacity for Monitoring and Evaluation especially key sector departments and agenc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keholder information flow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nor Coordination and agreement to common approach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ectangle 2" descr=""/>
          <p:cNvPicPr/>
          <p:nvPr/>
        </p:nvPicPr>
        <p:blipFill>
          <a:blip r:embed="rId1"/>
          <a:stretch/>
        </p:blipFill>
        <p:spPr>
          <a:xfrm>
            <a:off x="420840" y="414360"/>
            <a:ext cx="83214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0:04:22Z</dcterms:created>
  <dc:creator> </dc:creator>
  <dc:description/>
  <dc:language>en-US</dc:language>
  <cp:lastModifiedBy>user</cp:lastModifiedBy>
  <dcterms:modified xsi:type="dcterms:W3CDTF">2011-04-06T14:05:57Z</dcterms:modified>
  <cp:revision>110</cp:revision>
  <dc:subject/>
  <dc:title>MONITORING AND EVALUATION</dc:title>
</cp:coreProperties>
</file>