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D70F0-F9F6-4A77-9233-D9CA7248D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3AA53-80D8-47BA-994C-01695CB97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A5982-484D-4B47-812B-F94379058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45C5F-E324-4CF4-8525-0BD4EDF18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123AA-9A2B-40D9-AEB8-5450C8CDE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D1C3A-CEB3-42EB-A7F7-C6FD6C8F4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2CC33-3325-462D-990A-DBD86C022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438B5-E78F-48B0-BA0A-48D877AEC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D6600-3F1D-4FD9-8127-6FC76EFF0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DA3DF-8F01-4D9E-A109-24856B5F8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7BA26-FE73-4B36-A089-21C3B42C7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945E3-22B3-4406-B61A-2A931E83E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1A303-0E80-4CE2-B9EA-B08C6E44DF8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22145-ACB8-4033-95FD-772AD1E0D4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ter Week 2011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llenges of Urbanization for Water and Sanitation Infrastruc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Cost Effects of a Lack of Spatial Plann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World Ban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CCBD8-6F02-421C-B81D-78B37D2478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nancing Infrastruc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How is new infrastructure financed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oes the larger community pay (taxes on existing residents to provide services to new residents)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o residents of the new community pay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evelopment Charges = entry fee for urban servi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asiest when you have greenfield and organized developm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till possible when there are multiple own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ven still possible for servicing in-situ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3D67B-53C1-4E18-B3C9-C03D21B442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0" dur="500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500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5" dur="500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osts, Choices, and Trade-Off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velopment charges make explicit the cost of providing servi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o expensive?  There is a choic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ait another 10 or 20 years for someone else to pay for servi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ize and pay for services that you can enjoy now and that increases the value of the proper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54E13-7DED-4707-BE07-70C43A45B6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7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2" dur="5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7" dur="5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he Case of Water Suppl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ter and sanitation is the most difficult and expensive infrastructure to prov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SCo is one of the better utilities in Africa, but it doesn’t generate enough excess funds through existing tariffs to pay for major network extens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can’t “pre-invest” in new development areas without up-front capit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5DAAD-15CF-4C91-A39E-F8953F54E1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4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4" dur="5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urces of funding for water infrastruc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entral government or local authority – to service a specific industrial or residential developmen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utside donors – to provide services to underserved areas, at concessional rat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ormal real estate developers?  Effectively paying development charges to pay for the cost of extending servi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rganized communities?  Pooling or raising funds to pay for the cost of extending servi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71F08-B73C-406F-8681-219697D16D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1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6" dur="5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" dur="5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Question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DA5E1-EED5-4371-A72B-2677A5C997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3" dur="5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42300-86D4-42EB-BF4F-2048ACDEEE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5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Introduction and Characteristics of Urban Developmen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wnership characteristi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perty marketability and transferabi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tail financial sector / willingness to le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ate of urban servi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= characteristics of urban develop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71A8A-790A-4AD8-AC1A-2C7F75A7EC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1000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Impressions of Maseru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ifficult to draw conclusions about Maseru and environ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ome limited planning; some haphazard growth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ome “leapfrog” developmen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ix of housing qualit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Variable road qualit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Variable servi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F5EE3-3657-43D0-A963-7BC73E4DA0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Urbaniza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mal definition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nsific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version of u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practice: the addition of new resid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praw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oth a cause and consequence of a lack of plann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951EB-DF73-4AE5-AF53-ABA6B11B15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Urban Servic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cope of service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re:  roads and paths, water and sanitation, solid waste management, public light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ocial:  schools, health clinics, space for places of worshi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menities: parks, places for civic gathering, playgroun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Provision of (and financing of) service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direct tax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irect tax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37E21-A68E-4866-B8C0-4D9EED447A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osts of Unplanned Spraw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dditional costs to resident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ime and monetary costs for transportation and for wa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educed mobili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oor safety and securi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(unclear costs with respect to electricity and solid waste management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dditional costs to service providers for later retrofittin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articularly high for water and sanitation servic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A0E54-A9ED-43B5-80B7-835E678940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ome incidental benefits of spraw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nsity (or lack of density) means that existing sanitation is accept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ealth effects of poor sanitation are relatively min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visible mix in the quality of housing = neighborhoods are not limited to a single incom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65CA6-A231-4972-809B-D67FFFB3FE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Measuring the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Value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of Servic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asure the value of serviced land vs. unserviced l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 a competitive property market, this is the value that society places on those servi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may or may not be a good approximation of th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cos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f providing those servi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Maseru, cost &gt; valu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ccept the state of affairs (and wait…), 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ork to reduce the costs of providing servi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F8DCE-4E84-4CD3-8252-7ED39EF574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500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Planning for Growth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lanning ahead for growth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t eas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ood human capac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ransparent, enforceable land-use regul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redible and transparent way to convert land from non-urban to urban u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asily transferable land righ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C0C04-B7C0-4DA4-80FF-2CEF2F2FF2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50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5T02:43:31Z</dcterms:created>
  <dc:creator>wb112884</dc:creator>
  <dc:description/>
  <dc:language>en-US</dc:language>
  <cp:lastModifiedBy>new</cp:lastModifiedBy>
  <dcterms:modified xsi:type="dcterms:W3CDTF">2011-04-05T09:09:27Z</dcterms:modified>
  <cp:revision>16</cp:revision>
  <dc:subject/>
  <dc:title>Slide 1</dc:title>
</cp:coreProperties>
</file>