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5561-8588-4E5F-A71D-04D05A15948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5673-5F2C-4C2C-938A-133DA762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4E29-F441-41A8-8881-8AA59E5D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5D9A-4E1D-494A-8702-3AB2B225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44F-5171-4FBF-8CFC-64C1B7F2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818F-FCC2-4250-AF36-A11964D0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5D0-C726-4712-ABAE-95322F56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43D-C3A1-423A-BA6C-CBDA0C82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1CB6-75EA-4923-B11C-DC09C2DF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5865-E7EF-41DC-8A23-830D4F3D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78AD-2FBB-4BD3-B8D5-6931D939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7ECC-8F6D-4EDB-9E8A-A700916B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FBF-41A8-41D4-8724-CC62391C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FFAF-DF52-47B9-B158-6C920FFD1E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Delegation of the European Union to Al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Arial"/>
              </a:rPr>
              <a:t>Economic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ing Sector Budget Support on Sanitation in Alge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y challe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PI REGIONAL WATER SEMINAR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MMAN 21-24 M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7821720" y="0"/>
            <a:ext cx="132876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891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Temporary resul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Better ownership and involvment through the national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stablishing a common platform for a policy dialogue between the line minis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better understanding of the financing modality (SB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trategic discussion from operational to policy level (Cabine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Understanding the rationale behind a logical frame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sitive side effects on PFM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Succesful PEFA with participative approach and acceptation by th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F of the weak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A new EC programme (€ 5 mln) on a strategic reform of budget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ystem (minister level), crucial because public expenditure is the main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 of growth in 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..those results before disbursing the first tranch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BS plays the role of cat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imulates policy dialogue: EC/Algerian partner and between line minis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pens new opportunities on PFM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etter ownership and effectiveness using national system (State bud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ot to be dogmatic but sector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ney is not the issue… but the strategic vision, level of dialogue and quality of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40464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Context in Alg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95280" y="1258920"/>
            <a:ext cx="820908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 macroeconomic stability, huge reserve funds, repayment of external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conomy based on hydrocarb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dependant of external sh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losed economy (large state sector, including financial sector), limited impact of the financial crisis, move towards protectionist policies (Complementary financial law 2009-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has massive investment plan: USD 286 bn for the next 5 year P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ublic expenditures as the main source of growth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with marginal role for the private secto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, no incentive for re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nusual context to promote budget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Problems with EU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geria not part of EC Neighbourhood Policy, but using Neighbourhood 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Key policy context is the Association Agreement (signed in 2005), very controversial, institutional set-up exists (sub-committe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evelopment cooperation with EU covering all sectors, smaller amount than with Morocco and Tunisia (about 54 mio per year), instruments limited to technical assistance (twinning started in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imited absorption capacity leading to recoveries of old programmes, important cuts decided in the 2008 and 2009 programming (about 50 mio eu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olitical stability: no real revolution expected until d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Arial"/>
              </a:rPr>
              <a:t>Challenges to implement the first S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budget support in a wealthy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limited financial leverage on Algeria (20 mio for 286 b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 critcism of some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mission is the only donor pushing for budget support, others not present or without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plexity of involving different ministries (Foreign Affairs, Finance,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Foreign Affairs is favorable but for the wrong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ack of understanding by Water ministry of the full contents and implications of sector budge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Not an easy start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in Algeri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mited absorption capacity for TA and important de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em of coordination: need for a common platform between line ministries (MRE, National Office on Sanitation, MoF, MAE, et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hy Algeria is the lone partner not benefitting from this financial modality (Marocco, Tunisia, Egypt, etc.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prove ownership and deliver aid through national system (Aid effective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pgrade policy dialogue at a higher decis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ligible criteria are met in this particular sect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ut is not systematic/dogmatic (Cf Transport II: sector not mature for S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ney is not the problem …but the strategic vision and quality of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Challenges in the WS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links between the ministries (Water and Fin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economic (cost/benefit analysis) approach in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fficulties to evaluate and perform state programme on costly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stainability of budget resources to cover the sanitation office (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eak management of Human Resources and level of training for the executive and middle management on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imited management and planning tools to organize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 participation of users, or consu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cc00"/>
                </a:solidFill>
                <a:latin typeface="Arial"/>
              </a:rPr>
              <a:t>Why a SBS on water and sani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 key priority in the 5 years stat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tinuity in the EC programming (EAU I = 20 mln Eur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vely good institutional capacity in the Ministry and in the National Sanitation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olid legal framework (Water law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ector strategy exists although scattered, incomplete and not well formalised (Plan National de l’Eau, Schema Directeur de l’Ea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ery few donors in th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ocus on investment but not on services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inistry of water resources pilot for sector MT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Priorities of the SBS EAU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renghten a strategic integrated approach on sanitation in the water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management and services (regulatory function) instead of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 management skills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lement mid term budget planning based on performance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rove quality of water and impact on public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000"/>
                </a:solidFill>
                <a:latin typeface="Arial"/>
              </a:rPr>
              <a:t>Hybrid SBS with TA (€30 ml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Budget sector support: €2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Validation of the national strategy and budget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With indicators focused on qualitative changes in the sanitation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Improved sanitation investments, including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Key public finance management issues in the water sector (cost recovery for the Sanitation Office, performance audit, MTEF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6600"/>
                </a:solidFill>
                <a:latin typeface="Arial"/>
              </a:rPr>
              <a:t>Technical assistance: €10 mi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Preparation of a strategic Sani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Technical training center for sanitation (national training cen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ffffff"/>
                </a:solidFill>
                <a:latin typeface="Arial"/>
              </a:rPr>
              <a:t>Specialised equipment for laboratories (Quality of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8:48:46Z</dcterms:created>
  <dc:creator>elstane</dc:creator>
  <dc:description/>
  <dc:language>en-US</dc:language>
  <cp:lastModifiedBy>philippe</cp:lastModifiedBy>
  <dcterms:modified xsi:type="dcterms:W3CDTF">2011-03-21T12:01:02Z</dcterms:modified>
  <cp:revision>268</cp:revision>
  <dc:subject/>
  <dc:title>Diapositive 1</dc:title>
</cp:coreProperties>
</file>