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BECD6-3B6A-44F7-8405-21CBEFE98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82CE7-FABC-4480-967D-F5D02C04D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3F779-437C-47CF-949A-916A119FE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B5450-BB8A-430E-9235-D9775989D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E09A8-E010-449B-81CD-FC1EFEC39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59C30-5396-4E04-A2F4-81F40EE27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88B89-28AE-460D-8F0F-45373E087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F9E57-17A6-4E8A-8B9A-50F4B358B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24BAD-8BB1-4134-A617-620063190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180B7-AA75-44D0-88F6-05616D408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863B7-31D8-48B9-ADC1-6ED1248F5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C6535-2183-4922-BFBE-8854C9D42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E5F38-2516-4BA0-BEDD-548D0C2225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000" spc="-1" strike="noStrike">
                <a:solidFill>
                  <a:srgbClr val="000000"/>
                </a:solidFill>
                <a:latin typeface="Arial"/>
              </a:rPr>
              <a:t>Water seminar</a:t>
            </a:r>
            <a:br>
              <a:rPr sz="4000"/>
            </a:b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Brussels, July 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Water, sanitation and the other MD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Arial"/>
              </a:rPr>
              <a:t>A. Liebaert, DG DEV/B/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12-POINT EU ACTION PLAN</a:t>
            </a:r>
            <a:br>
              <a:rPr sz="3200"/>
            </a:br>
            <a:r>
              <a:rPr b="0" lang="en-GB" sz="3200" spc="-1" strike="noStrike">
                <a:solidFill>
                  <a:srgbClr val="009999"/>
                </a:solidFill>
                <a:latin typeface="Arial"/>
              </a:rPr>
              <a:t>6.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Making other EU policies coherent for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011240" y="2266920"/>
            <a:ext cx="6851520" cy="27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global challenge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de/finance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mate change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od security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gration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10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1000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284720" y="1628640"/>
            <a:ext cx="3905280" cy="452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39640" y="2124000"/>
            <a:ext cx="3600720" cy="42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the current rate of progress, Sub-Saharan Africa will miss the Millennium Development Goals of halving by 2015 the proportion of people without access to safe water &amp; sanitation by an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entire genera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or Water and by more than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two generations for Sanita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851280" y="6237360"/>
            <a:ext cx="475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84720" y="4653000"/>
            <a:ext cx="4032360" cy="5763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3000"/>
                            </p:stCondLst>
                            <p:childTnLst>
                              <p:par>
                                <p:cTn id="13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793800" y="2111400"/>
            <a:ext cx="7421400" cy="2659320"/>
            <a:chOff x="793800" y="2111400"/>
            <a:chExt cx="7421400" cy="2659320"/>
          </a:xfrm>
        </p:grpSpPr>
        <p:grpSp>
          <p:nvGrpSpPr>
            <p:cNvPr id="48" name=""/>
            <p:cNvGrpSpPr/>
            <p:nvPr/>
          </p:nvGrpSpPr>
          <p:grpSpPr>
            <a:xfrm>
              <a:off x="1012320" y="2111400"/>
              <a:ext cx="7202880" cy="2659320"/>
              <a:chOff x="1012320" y="2111400"/>
              <a:chExt cx="7202880" cy="2659320"/>
            </a:xfrm>
          </p:grpSpPr>
          <p:grpSp>
            <p:nvGrpSpPr>
              <p:cNvPr id="49" name=""/>
              <p:cNvGrpSpPr/>
              <p:nvPr/>
            </p:nvGrpSpPr>
            <p:grpSpPr>
              <a:xfrm>
                <a:off x="1395360" y="2197080"/>
                <a:ext cx="6819840" cy="2228760"/>
                <a:chOff x="1395360" y="2197080"/>
                <a:chExt cx="6819840" cy="2228760"/>
              </a:xfrm>
            </p:grpSpPr>
            <p:sp>
              <p:nvSpPr>
                <p:cNvPr id="50" name=""/>
                <p:cNvSpPr/>
                <p:nvPr/>
              </p:nvSpPr>
              <p:spPr>
                <a:xfrm>
                  <a:off x="1395360" y="442584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5360" y="417852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1395360" y="393084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1395360" y="368316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1395360" y="343548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1395360" y="318780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1395360" y="294012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" name=""/>
                <p:cNvSpPr/>
                <p:nvPr/>
              </p:nvSpPr>
              <p:spPr>
                <a:xfrm>
                  <a:off x="1395360" y="269244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" name=""/>
                <p:cNvSpPr/>
                <p:nvPr/>
              </p:nvSpPr>
              <p:spPr>
                <a:xfrm>
                  <a:off x="1395360" y="244476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" name=""/>
                <p:cNvSpPr/>
                <p:nvPr/>
              </p:nvSpPr>
              <p:spPr>
                <a:xfrm>
                  <a:off x="1395360" y="219708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0" name=""/>
              <p:cNvGrpSpPr/>
              <p:nvPr/>
            </p:nvGrpSpPr>
            <p:grpSpPr>
              <a:xfrm>
                <a:off x="1012320" y="2111400"/>
                <a:ext cx="258840" cy="2659320"/>
                <a:chOff x="1012320" y="2111400"/>
                <a:chExt cx="258840" cy="26593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1185120" y="4587840"/>
                  <a:ext cx="860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1098720" y="4340160"/>
                  <a:ext cx="1713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1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1098720" y="4092480"/>
                  <a:ext cx="1713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2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1098720" y="3844800"/>
                  <a:ext cx="1713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3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1098720" y="3597480"/>
                  <a:ext cx="1713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4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" name=""/>
                <p:cNvSpPr/>
                <p:nvPr/>
              </p:nvSpPr>
              <p:spPr>
                <a:xfrm>
                  <a:off x="1098720" y="3349800"/>
                  <a:ext cx="1713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5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" name=""/>
                <p:cNvSpPr/>
                <p:nvPr/>
              </p:nvSpPr>
              <p:spPr>
                <a:xfrm>
                  <a:off x="1098720" y="3102120"/>
                  <a:ext cx="1713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6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>
                  <a:off x="1098720" y="2854440"/>
                  <a:ext cx="1713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7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1098720" y="2606760"/>
                  <a:ext cx="1713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8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>
                  <a:off x="1098720" y="2359080"/>
                  <a:ext cx="1713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9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1012320" y="2111400"/>
                  <a:ext cx="2566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10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2" name=""/>
            <p:cNvSpPr/>
            <p:nvPr/>
          </p:nvSpPr>
          <p:spPr>
            <a:xfrm rot="16200000">
              <a:off x="544320" y="3333960"/>
              <a:ext cx="681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a19b7f"/>
                  </a:solidFill>
                  <a:latin typeface="Arial"/>
                  <a:ea typeface="Arial"/>
                </a:rPr>
                <a:t>% of goal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"/>
          <p:cNvGrpSpPr/>
          <p:nvPr/>
        </p:nvGrpSpPr>
        <p:grpSpPr>
          <a:xfrm>
            <a:off x="1643040" y="2195640"/>
            <a:ext cx="6315120" cy="2477880"/>
            <a:chOff x="1643040" y="2195640"/>
            <a:chExt cx="6315120" cy="2477880"/>
          </a:xfrm>
        </p:grpSpPr>
        <p:sp>
          <p:nvSpPr>
            <p:cNvPr id="74" name=""/>
            <p:cNvSpPr/>
            <p:nvPr/>
          </p:nvSpPr>
          <p:spPr>
            <a:xfrm>
              <a:off x="1643040" y="2195640"/>
              <a:ext cx="352440" cy="2477880"/>
            </a:xfrm>
            <a:prstGeom prst="rect">
              <a:avLst/>
            </a:prstGeom>
            <a:solidFill>
              <a:srgbClr val="cdca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494080" y="2195640"/>
              <a:ext cx="352440" cy="2477880"/>
            </a:xfrm>
            <a:prstGeom prst="rect">
              <a:avLst/>
            </a:prstGeom>
            <a:solidFill>
              <a:srgbClr val="cdca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346560" y="2195640"/>
              <a:ext cx="352440" cy="2477880"/>
            </a:xfrm>
            <a:prstGeom prst="rect">
              <a:avLst/>
            </a:prstGeom>
            <a:solidFill>
              <a:srgbClr val="cdca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197240" y="2195640"/>
              <a:ext cx="352440" cy="2477880"/>
            </a:xfrm>
            <a:prstGeom prst="rect">
              <a:avLst/>
            </a:prstGeom>
            <a:solidFill>
              <a:srgbClr val="cdca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49720" y="2195640"/>
              <a:ext cx="352440" cy="2477880"/>
            </a:xfrm>
            <a:prstGeom prst="rect">
              <a:avLst/>
            </a:prstGeom>
            <a:solidFill>
              <a:srgbClr val="cdca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900760" y="2195640"/>
              <a:ext cx="352440" cy="2477880"/>
            </a:xfrm>
            <a:prstGeom prst="rect">
              <a:avLst/>
            </a:prstGeom>
            <a:solidFill>
              <a:srgbClr val="cdca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53240" y="2195640"/>
              <a:ext cx="352440" cy="2477880"/>
            </a:xfrm>
            <a:prstGeom prst="rect">
              <a:avLst/>
            </a:prstGeom>
            <a:solidFill>
              <a:srgbClr val="cdca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5720" y="2195640"/>
              <a:ext cx="352440" cy="2477880"/>
            </a:xfrm>
            <a:prstGeom prst="rect">
              <a:avLst/>
            </a:prstGeom>
            <a:solidFill>
              <a:srgbClr val="cdca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1643040" y="2444760"/>
            <a:ext cx="6315120" cy="2228760"/>
            <a:chOff x="1643040" y="2444760"/>
            <a:chExt cx="6315120" cy="2228760"/>
          </a:xfrm>
        </p:grpSpPr>
        <p:sp>
          <p:nvSpPr>
            <p:cNvPr id="83" name=""/>
            <p:cNvSpPr/>
            <p:nvPr/>
          </p:nvSpPr>
          <p:spPr>
            <a:xfrm>
              <a:off x="2500200" y="2835360"/>
              <a:ext cx="343080" cy="18381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348000" y="3111480"/>
              <a:ext cx="352440" cy="15620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052960" y="2683080"/>
              <a:ext cx="352440" cy="19904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0120" y="2759040"/>
              <a:ext cx="343080" cy="19144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615080" y="2882880"/>
              <a:ext cx="343080" cy="17906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643040" y="2692440"/>
              <a:ext cx="352440" cy="19810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205160" y="3063960"/>
              <a:ext cx="343080" cy="16095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757920" y="2444760"/>
              <a:ext cx="352440" cy="22287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LOBAL PROGRESS ON MDG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835280" y="6527520"/>
            <a:ext cx="684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ource: World Bank Global Monitoring Repor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1947960" y="5891040"/>
            <a:ext cx="1576800" cy="213480"/>
            <a:chOff x="1947960" y="5891040"/>
            <a:chExt cx="1576800" cy="213480"/>
          </a:xfrm>
        </p:grpSpPr>
        <p:sp>
          <p:nvSpPr>
            <p:cNvPr id="94" name=""/>
            <p:cNvSpPr/>
            <p:nvPr/>
          </p:nvSpPr>
          <p:spPr>
            <a:xfrm>
              <a:off x="1947960" y="5938920"/>
              <a:ext cx="113760" cy="114120"/>
            </a:xfrm>
            <a:prstGeom prst="rect">
              <a:avLst/>
            </a:prstGeom>
            <a:solidFill>
              <a:srgbClr val="005a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103840" y="5891040"/>
              <a:ext cx="1420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chieved by 200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1947960" y="5654520"/>
            <a:ext cx="3790800" cy="213480"/>
            <a:chOff x="1947960" y="5654520"/>
            <a:chExt cx="3790800" cy="213480"/>
          </a:xfrm>
        </p:grpSpPr>
        <p:sp>
          <p:nvSpPr>
            <p:cNvPr id="97" name=""/>
            <p:cNvSpPr/>
            <p:nvPr/>
          </p:nvSpPr>
          <p:spPr>
            <a:xfrm>
              <a:off x="1947960" y="5702400"/>
              <a:ext cx="105480" cy="1141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080440" y="5654520"/>
              <a:ext cx="3658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eeded to be achieved by 2007 to be on track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"/>
          <p:cNvGrpSpPr/>
          <p:nvPr/>
        </p:nvGrpSpPr>
        <p:grpSpPr>
          <a:xfrm>
            <a:off x="1508760" y="4816440"/>
            <a:ext cx="6679800" cy="547920"/>
            <a:chOff x="1508760" y="4816440"/>
            <a:chExt cx="6679800" cy="547920"/>
          </a:xfrm>
        </p:grpSpPr>
        <p:sp>
          <p:nvSpPr>
            <p:cNvPr id="100" name=""/>
            <p:cNvSpPr/>
            <p:nvPr/>
          </p:nvSpPr>
          <p:spPr>
            <a:xfrm>
              <a:off x="2319840" y="4816440"/>
              <a:ext cx="61200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DG 1.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Hun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150720" y="4816440"/>
              <a:ext cx="72144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DG 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ima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edu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082040" y="4816440"/>
              <a:ext cx="53568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DG 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Gend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ari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883760" y="4816440"/>
              <a:ext cx="64548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DG 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Chil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ortali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737680" y="4816440"/>
              <a:ext cx="64548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DG 5.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tern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ortali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551640" y="4816440"/>
              <a:ext cx="74916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DG 7.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DG 7.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fe wat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424280" y="4816440"/>
              <a:ext cx="76428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DG 7.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ccess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nit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508760" y="4816440"/>
              <a:ext cx="61200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DG 1.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Extrem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over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1643040" y="2444760"/>
            <a:ext cx="6315120" cy="2228760"/>
            <a:chOff x="1643040" y="2444760"/>
            <a:chExt cx="6315120" cy="2228760"/>
          </a:xfrm>
        </p:grpSpPr>
        <p:sp>
          <p:nvSpPr>
            <p:cNvPr id="109" name=""/>
            <p:cNvSpPr/>
            <p:nvPr/>
          </p:nvSpPr>
          <p:spPr>
            <a:xfrm>
              <a:off x="1643040" y="2692440"/>
              <a:ext cx="352440" cy="1981080"/>
            </a:xfrm>
            <a:prstGeom prst="rect">
              <a:avLst/>
            </a:prstGeom>
            <a:solidFill>
              <a:srgbClr val="005a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500200" y="3092400"/>
              <a:ext cx="343080" cy="1581120"/>
            </a:xfrm>
            <a:prstGeom prst="rect">
              <a:avLst/>
            </a:prstGeom>
            <a:solidFill>
              <a:srgbClr val="005a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348000" y="3854520"/>
              <a:ext cx="352440" cy="819000"/>
            </a:xfrm>
            <a:prstGeom prst="rect">
              <a:avLst/>
            </a:prstGeom>
            <a:solidFill>
              <a:srgbClr val="005a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205160" y="3063960"/>
              <a:ext cx="343080" cy="1609560"/>
            </a:xfrm>
            <a:prstGeom prst="rect">
              <a:avLst/>
            </a:prstGeom>
            <a:solidFill>
              <a:srgbClr val="005a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052960" y="3683160"/>
              <a:ext cx="352440" cy="990360"/>
            </a:xfrm>
            <a:prstGeom prst="rect">
              <a:avLst/>
            </a:prstGeom>
            <a:solidFill>
              <a:srgbClr val="005a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910120" y="4521240"/>
              <a:ext cx="343080" cy="152280"/>
            </a:xfrm>
            <a:prstGeom prst="rect">
              <a:avLst/>
            </a:prstGeom>
            <a:solidFill>
              <a:srgbClr val="005a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757920" y="2444760"/>
              <a:ext cx="352440" cy="2228760"/>
            </a:xfrm>
            <a:prstGeom prst="rect">
              <a:avLst/>
            </a:prstGeom>
            <a:solidFill>
              <a:srgbClr val="005a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615080" y="3683160"/>
              <a:ext cx="343080" cy="990360"/>
            </a:xfrm>
            <a:prstGeom prst="rect">
              <a:avLst/>
            </a:prstGeom>
            <a:solidFill>
              <a:srgbClr val="005a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"/>
          <p:cNvSpPr/>
          <p:nvPr/>
        </p:nvSpPr>
        <p:spPr>
          <a:xfrm>
            <a:off x="1395360" y="4673520"/>
            <a:ext cx="6819840" cy="0"/>
          </a:xfrm>
          <a:prstGeom prst="line">
            <a:avLst/>
          </a:prstGeom>
          <a:ln w="28440">
            <a:solidFill>
              <a:srgbClr val="a19b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1947960" y="6127920"/>
            <a:ext cx="1188360" cy="213480"/>
            <a:chOff x="1947960" y="6127920"/>
            <a:chExt cx="1188360" cy="213480"/>
          </a:xfrm>
        </p:grpSpPr>
        <p:sp>
          <p:nvSpPr>
            <p:cNvPr id="119" name=""/>
            <p:cNvSpPr/>
            <p:nvPr/>
          </p:nvSpPr>
          <p:spPr>
            <a:xfrm>
              <a:off x="1947960" y="6175440"/>
              <a:ext cx="105480" cy="113760"/>
            </a:xfrm>
            <a:prstGeom prst="rect">
              <a:avLst/>
            </a:prstGeom>
            <a:solidFill>
              <a:srgbClr val="cdca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091600" y="6127920"/>
              <a:ext cx="1044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15 targets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3317760" y="1655640"/>
            <a:ext cx="314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Variation in progress by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2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200"/>
                            </p:stCondLst>
                            <p:childTnLst>
                              <p:par>
                                <p:cTn id="2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1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200"/>
                            </p:stCondLst>
                            <p:childTnLst>
                              <p:par>
                                <p:cTn id="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220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3200"/>
                            </p:stCondLst>
                            <p:childTnLst>
                              <p:par>
                                <p:cTn id="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793800" y="2111400"/>
            <a:ext cx="7421400" cy="2675880"/>
            <a:chOff x="793800" y="2111400"/>
            <a:chExt cx="7421400" cy="2675880"/>
          </a:xfrm>
        </p:grpSpPr>
        <p:grpSp>
          <p:nvGrpSpPr>
            <p:cNvPr id="123" name=""/>
            <p:cNvGrpSpPr/>
            <p:nvPr/>
          </p:nvGrpSpPr>
          <p:grpSpPr>
            <a:xfrm>
              <a:off x="1012320" y="2111400"/>
              <a:ext cx="7202880" cy="2675880"/>
              <a:chOff x="1012320" y="2111400"/>
              <a:chExt cx="7202880" cy="2675880"/>
            </a:xfrm>
          </p:grpSpPr>
          <p:grpSp>
            <p:nvGrpSpPr>
              <p:cNvPr id="124" name=""/>
              <p:cNvGrpSpPr/>
              <p:nvPr/>
            </p:nvGrpSpPr>
            <p:grpSpPr>
              <a:xfrm>
                <a:off x="1395360" y="2193120"/>
                <a:ext cx="6819840" cy="2493000"/>
                <a:chOff x="1395360" y="2193120"/>
                <a:chExt cx="6819840" cy="249300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1395360" y="468612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1395360" y="447660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1395360" y="406728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1395360" y="385776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1395360" y="364896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1395360" y="343944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395360" y="322992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395360" y="302112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395360" y="281160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1395360" y="261144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1395360" y="240228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1395360" y="2193120"/>
                  <a:ext cx="6819840" cy="0"/>
                </a:xfrm>
                <a:prstGeom prst="line">
                  <a:avLst/>
                </a:prstGeom>
                <a:ln w="0">
                  <a:solidFill>
                    <a:srgbClr val="a19b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7" name=""/>
              <p:cNvGrpSpPr/>
              <p:nvPr/>
            </p:nvGrpSpPr>
            <p:grpSpPr>
              <a:xfrm>
                <a:off x="1012320" y="2111400"/>
                <a:ext cx="260640" cy="2675880"/>
                <a:chOff x="1012320" y="2111400"/>
                <a:chExt cx="260640" cy="2675880"/>
              </a:xfrm>
            </p:grpSpPr>
            <p:sp>
              <p:nvSpPr>
                <p:cNvPr id="138" name=""/>
                <p:cNvSpPr/>
                <p:nvPr/>
              </p:nvSpPr>
              <p:spPr>
                <a:xfrm>
                  <a:off x="1051200" y="4604400"/>
                  <a:ext cx="2217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-2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051200" y="4395240"/>
                  <a:ext cx="2217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-1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185120" y="4186080"/>
                  <a:ext cx="860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1098720" y="3985560"/>
                  <a:ext cx="1713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1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1098720" y="3776400"/>
                  <a:ext cx="1713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2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1098720" y="3566880"/>
                  <a:ext cx="1713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3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1098720" y="3357720"/>
                  <a:ext cx="1713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4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1098720" y="3150000"/>
                  <a:ext cx="1713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5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1098720" y="2939400"/>
                  <a:ext cx="1713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6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098720" y="2729880"/>
                  <a:ext cx="1713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7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1098720" y="2529720"/>
                  <a:ext cx="1713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8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1098720" y="2320560"/>
                  <a:ext cx="1713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9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1012320" y="2111400"/>
                  <a:ext cx="2566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a19b7f"/>
                      </a:solidFill>
                      <a:latin typeface="Arial"/>
                      <a:ea typeface="Arial"/>
                    </a:rPr>
                    <a:t>10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1" name=""/>
            <p:cNvSpPr/>
            <p:nvPr/>
          </p:nvSpPr>
          <p:spPr>
            <a:xfrm rot="16200000">
              <a:off x="-292320" y="3349800"/>
              <a:ext cx="2355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a19b7f"/>
                  </a:solidFill>
                  <a:latin typeface="Arial"/>
                  <a:ea typeface="Arial"/>
                </a:rPr>
                <a:t>Progress toward goal by 2007 (%)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LOBAL PROGRESS ON MD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835280" y="6527520"/>
            <a:ext cx="684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ource: World Bank Global Monitoring Repor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1728720" y="3276720"/>
            <a:ext cx="6153120" cy="990360"/>
            <a:chOff x="1728720" y="3276720"/>
            <a:chExt cx="6153120" cy="990360"/>
          </a:xfrm>
        </p:grpSpPr>
        <p:sp>
          <p:nvSpPr>
            <p:cNvPr id="155" name=""/>
            <p:cNvSpPr/>
            <p:nvPr/>
          </p:nvSpPr>
          <p:spPr>
            <a:xfrm>
              <a:off x="5996160" y="4230360"/>
              <a:ext cx="18072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728720" y="3503520"/>
              <a:ext cx="190440" cy="763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585880" y="3458160"/>
              <a:ext cx="181080" cy="808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433680" y="3749040"/>
              <a:ext cx="190440" cy="517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290840" y="3276720"/>
              <a:ext cx="181080" cy="990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138640" y="3421800"/>
              <a:ext cx="190440" cy="844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843600" y="3313080"/>
              <a:ext cx="190440" cy="953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701120" y="3485160"/>
              <a:ext cx="180720" cy="781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6176880" y="4267080"/>
            <a:ext cx="190440" cy="292320"/>
          </a:xfrm>
          <a:prstGeom prst="rect">
            <a:avLst/>
          </a:prstGeom>
          <a:solidFill>
            <a:srgbClr val="9537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1538280" y="2193840"/>
            <a:ext cx="6162840" cy="2073240"/>
            <a:chOff x="1538280" y="2193840"/>
            <a:chExt cx="6162840" cy="2073240"/>
          </a:xfrm>
        </p:grpSpPr>
        <p:sp>
          <p:nvSpPr>
            <p:cNvPr id="165" name=""/>
            <p:cNvSpPr/>
            <p:nvPr/>
          </p:nvSpPr>
          <p:spPr>
            <a:xfrm>
              <a:off x="1538280" y="2193840"/>
              <a:ext cx="190440" cy="20732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395440" y="2939400"/>
              <a:ext cx="190440" cy="13273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243240" y="2939400"/>
              <a:ext cx="190440" cy="13273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100400" y="2530080"/>
              <a:ext cx="190440" cy="17366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948200" y="2903040"/>
              <a:ext cx="190440" cy="13636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805360" y="3666600"/>
              <a:ext cx="190800" cy="6001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653160" y="2193840"/>
              <a:ext cx="190440" cy="20732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510320" y="3312360"/>
              <a:ext cx="190800" cy="9543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1952280" y="1655640"/>
            <a:ext cx="587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Arial"/>
                <a:ea typeface="Arial"/>
              </a:rPr>
              <a:t>Fragile states have made least progress towards MDG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1947960" y="5891040"/>
            <a:ext cx="1891800" cy="213480"/>
            <a:chOff x="1947960" y="5891040"/>
            <a:chExt cx="1891800" cy="213480"/>
          </a:xfrm>
        </p:grpSpPr>
        <p:sp>
          <p:nvSpPr>
            <p:cNvPr id="175" name=""/>
            <p:cNvSpPr/>
            <p:nvPr/>
          </p:nvSpPr>
          <p:spPr>
            <a:xfrm>
              <a:off x="1947960" y="5938920"/>
              <a:ext cx="113760" cy="114120"/>
            </a:xfrm>
            <a:prstGeom prst="rect">
              <a:avLst/>
            </a:prstGeom>
            <a:solidFill>
              <a:srgbClr val="005a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103120" y="5891040"/>
              <a:ext cx="1736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w-income countri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1947960" y="5654520"/>
            <a:ext cx="2077200" cy="213480"/>
            <a:chOff x="1947960" y="5654520"/>
            <a:chExt cx="2077200" cy="213480"/>
          </a:xfrm>
        </p:grpSpPr>
        <p:sp>
          <p:nvSpPr>
            <p:cNvPr id="178" name=""/>
            <p:cNvSpPr/>
            <p:nvPr/>
          </p:nvSpPr>
          <p:spPr>
            <a:xfrm>
              <a:off x="1947960" y="5702400"/>
              <a:ext cx="105480" cy="1141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090520" y="5654520"/>
              <a:ext cx="1934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Middle-income countri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947960" y="6127920"/>
            <a:ext cx="1217880" cy="213480"/>
            <a:chOff x="1947960" y="6127920"/>
            <a:chExt cx="1217880" cy="213480"/>
          </a:xfrm>
        </p:grpSpPr>
        <p:sp>
          <p:nvSpPr>
            <p:cNvPr id="181" name=""/>
            <p:cNvSpPr/>
            <p:nvPr/>
          </p:nvSpPr>
          <p:spPr>
            <a:xfrm>
              <a:off x="1947960" y="6175440"/>
              <a:ext cx="105480" cy="113760"/>
            </a:xfrm>
            <a:prstGeom prst="rect">
              <a:avLst/>
            </a:prstGeom>
            <a:solidFill>
              <a:srgbClr val="953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092320" y="6127920"/>
              <a:ext cx="1073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ragile stat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1919160" y="3421080"/>
            <a:ext cx="6153120" cy="846000"/>
            <a:chOff x="1919160" y="3421080"/>
            <a:chExt cx="6153120" cy="846000"/>
          </a:xfrm>
        </p:grpSpPr>
        <p:sp>
          <p:nvSpPr>
            <p:cNvPr id="184" name=""/>
            <p:cNvSpPr/>
            <p:nvPr/>
          </p:nvSpPr>
          <p:spPr>
            <a:xfrm>
              <a:off x="1919160" y="3857400"/>
              <a:ext cx="190800" cy="409320"/>
            </a:xfrm>
            <a:prstGeom prst="rect">
              <a:avLst/>
            </a:prstGeom>
            <a:solidFill>
              <a:srgbClr val="953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766960" y="3857400"/>
              <a:ext cx="190440" cy="409320"/>
            </a:xfrm>
            <a:prstGeom prst="rect">
              <a:avLst/>
            </a:prstGeom>
            <a:solidFill>
              <a:srgbClr val="953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624120" y="3957480"/>
              <a:ext cx="190800" cy="309240"/>
            </a:xfrm>
            <a:prstGeom prst="rect">
              <a:avLst/>
            </a:prstGeom>
            <a:solidFill>
              <a:srgbClr val="953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471920" y="3630240"/>
              <a:ext cx="190440" cy="636480"/>
            </a:xfrm>
            <a:prstGeom prst="rect">
              <a:avLst/>
            </a:prstGeom>
            <a:solidFill>
              <a:srgbClr val="953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329080" y="3684600"/>
              <a:ext cx="190800" cy="582120"/>
            </a:xfrm>
            <a:prstGeom prst="rect">
              <a:avLst/>
            </a:prstGeom>
            <a:solidFill>
              <a:srgbClr val="953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034040" y="3666240"/>
              <a:ext cx="190800" cy="600480"/>
            </a:xfrm>
            <a:prstGeom prst="rect">
              <a:avLst/>
            </a:prstGeom>
            <a:solidFill>
              <a:srgbClr val="953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881840" y="3421080"/>
              <a:ext cx="190440" cy="846000"/>
            </a:xfrm>
            <a:prstGeom prst="rect">
              <a:avLst/>
            </a:prstGeom>
            <a:solidFill>
              <a:srgbClr val="953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538280" y="2193840"/>
            <a:ext cx="6343560" cy="2073240"/>
            <a:chOff x="1538280" y="2193840"/>
            <a:chExt cx="6343560" cy="2073240"/>
          </a:xfrm>
        </p:grpSpPr>
        <p:grpSp>
          <p:nvGrpSpPr>
            <p:cNvPr id="192" name=""/>
            <p:cNvGrpSpPr/>
            <p:nvPr/>
          </p:nvGrpSpPr>
          <p:grpSpPr>
            <a:xfrm>
              <a:off x="1538280" y="2193840"/>
              <a:ext cx="6162840" cy="2073240"/>
              <a:chOff x="1538280" y="2193840"/>
              <a:chExt cx="6162840" cy="2073240"/>
            </a:xfrm>
          </p:grpSpPr>
          <p:sp>
            <p:nvSpPr>
              <p:cNvPr id="193" name=""/>
              <p:cNvSpPr/>
              <p:nvPr/>
            </p:nvSpPr>
            <p:spPr>
              <a:xfrm>
                <a:off x="1538280" y="2193840"/>
                <a:ext cx="190440" cy="2073240"/>
              </a:xfrm>
              <a:prstGeom prst="rect">
                <a:avLst/>
              </a:prstGeom>
              <a:solidFill>
                <a:srgbClr val="eae9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2395440" y="2939400"/>
                <a:ext cx="190440" cy="1327320"/>
              </a:xfrm>
              <a:prstGeom prst="rect">
                <a:avLst/>
              </a:prstGeom>
              <a:solidFill>
                <a:srgbClr val="eae9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3243240" y="2939400"/>
                <a:ext cx="190440" cy="1327320"/>
              </a:xfrm>
              <a:prstGeom prst="rect">
                <a:avLst/>
              </a:prstGeom>
              <a:solidFill>
                <a:srgbClr val="eae9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4100400" y="2530080"/>
                <a:ext cx="190440" cy="1736640"/>
              </a:xfrm>
              <a:prstGeom prst="rect">
                <a:avLst/>
              </a:prstGeom>
              <a:solidFill>
                <a:srgbClr val="eae9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4948200" y="2903040"/>
                <a:ext cx="190440" cy="1363680"/>
              </a:xfrm>
              <a:prstGeom prst="rect">
                <a:avLst/>
              </a:prstGeom>
              <a:solidFill>
                <a:srgbClr val="eae9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5805360" y="3666600"/>
                <a:ext cx="190800" cy="600120"/>
              </a:xfrm>
              <a:prstGeom prst="rect">
                <a:avLst/>
              </a:prstGeom>
              <a:solidFill>
                <a:srgbClr val="eae9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6653160" y="2193840"/>
                <a:ext cx="190440" cy="2073240"/>
              </a:xfrm>
              <a:prstGeom prst="rect">
                <a:avLst/>
              </a:prstGeom>
              <a:solidFill>
                <a:srgbClr val="eae9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7510320" y="3312360"/>
                <a:ext cx="190800" cy="954360"/>
              </a:xfrm>
              <a:prstGeom prst="rect">
                <a:avLst/>
              </a:prstGeom>
              <a:solidFill>
                <a:srgbClr val="eae9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1" name=""/>
            <p:cNvGrpSpPr/>
            <p:nvPr/>
          </p:nvGrpSpPr>
          <p:grpSpPr>
            <a:xfrm>
              <a:off x="1728720" y="3276720"/>
              <a:ext cx="6153120" cy="990360"/>
              <a:chOff x="1728720" y="3276720"/>
              <a:chExt cx="6153120" cy="990360"/>
            </a:xfrm>
          </p:grpSpPr>
          <p:sp>
            <p:nvSpPr>
              <p:cNvPr id="202" name=""/>
              <p:cNvSpPr/>
              <p:nvPr/>
            </p:nvSpPr>
            <p:spPr>
              <a:xfrm>
                <a:off x="5996160" y="4230360"/>
                <a:ext cx="180720" cy="3636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1728720" y="3503520"/>
                <a:ext cx="190440" cy="76320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2585880" y="3458160"/>
                <a:ext cx="181080" cy="80856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3433680" y="3749040"/>
                <a:ext cx="190440" cy="51768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4290840" y="3276720"/>
                <a:ext cx="181080" cy="99036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5138640" y="3421800"/>
                <a:ext cx="190440" cy="84492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6843600" y="3313080"/>
                <a:ext cx="190440" cy="95364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7701120" y="3485160"/>
                <a:ext cx="180720" cy="78156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10" name=""/>
          <p:cNvGrpSpPr/>
          <p:nvPr/>
        </p:nvGrpSpPr>
        <p:grpSpPr>
          <a:xfrm>
            <a:off x="1947960" y="5702400"/>
            <a:ext cx="114120" cy="350640"/>
            <a:chOff x="1947960" y="5702400"/>
            <a:chExt cx="114120" cy="350640"/>
          </a:xfrm>
        </p:grpSpPr>
        <p:sp>
          <p:nvSpPr>
            <p:cNvPr id="211" name=""/>
            <p:cNvSpPr/>
            <p:nvPr/>
          </p:nvSpPr>
          <p:spPr>
            <a:xfrm>
              <a:off x="1947960" y="5702400"/>
              <a:ext cx="106200" cy="114120"/>
            </a:xfrm>
            <a:prstGeom prst="rect">
              <a:avLst/>
            </a:prstGeom>
            <a:solidFill>
              <a:srgbClr val="eae9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947960" y="5938920"/>
              <a:ext cx="114120" cy="11412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"/>
          <p:cNvSpPr/>
          <p:nvPr/>
        </p:nvSpPr>
        <p:spPr>
          <a:xfrm>
            <a:off x="1395360" y="4267080"/>
            <a:ext cx="6819840" cy="0"/>
          </a:xfrm>
          <a:prstGeom prst="line">
            <a:avLst/>
          </a:prstGeom>
          <a:ln w="28440">
            <a:solidFill>
              <a:srgbClr val="a19b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1508760" y="4816440"/>
            <a:ext cx="6679800" cy="547920"/>
            <a:chOff x="1508760" y="4816440"/>
            <a:chExt cx="6679800" cy="547920"/>
          </a:xfrm>
        </p:grpSpPr>
        <p:sp>
          <p:nvSpPr>
            <p:cNvPr id="215" name=""/>
            <p:cNvSpPr/>
            <p:nvPr/>
          </p:nvSpPr>
          <p:spPr>
            <a:xfrm>
              <a:off x="2319840" y="4816440"/>
              <a:ext cx="61200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DG 1.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Hun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150720" y="4816440"/>
              <a:ext cx="72144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DG 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ima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edu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082040" y="4816440"/>
              <a:ext cx="53568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DG 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Gend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ari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883760" y="4816440"/>
              <a:ext cx="64548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DG 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Chil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ortali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737680" y="4816440"/>
              <a:ext cx="64548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DG 5.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tern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ortali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551640" y="4816440"/>
              <a:ext cx="74916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DG 7.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DG 7.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fe wat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424280" y="4816440"/>
              <a:ext cx="76428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DG 7.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ccess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nit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508760" y="4816440"/>
              <a:ext cx="61200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DG 1.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Extrem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over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2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200"/>
                            </p:stCondLst>
                            <p:childTnLst>
                              <p:par>
                                <p:cTn id="7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1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"/>
                            </p:stCondLst>
                            <p:childTnLst>
                              <p:par>
                                <p:cTn id="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3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3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8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3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"/>
                            </p:stCondLst>
                            <p:childTnLst>
                              <p:par>
                                <p:cTn id="1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2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53735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000" spc="-1" strike="noStrike">
                <a:solidFill>
                  <a:srgbClr val="000000"/>
                </a:solidFill>
                <a:latin typeface="Arial"/>
              </a:rPr>
              <a:t>Water, sanitation and other MDG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000000"/>
                </a:solidFill>
                <a:latin typeface="Arial"/>
              </a:rPr>
              <a:t>Poverty </a:t>
            </a:r>
            <a:r>
              <a:rPr b="0" i="1" lang="fr-BE" sz="2800" spc="-1" strike="noStrike">
                <a:solidFill>
                  <a:srgbClr val="000000"/>
                </a:solidFill>
                <a:latin typeface="Arial"/>
              </a:rPr>
              <a:t>: W&amp;S brings health, productive time, economic opportunities and direct savings to the poor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000000"/>
                </a:solidFill>
                <a:latin typeface="Arial"/>
              </a:rPr>
              <a:t>Hunger</a:t>
            </a:r>
            <a:r>
              <a:rPr b="0" i="1" lang="fr-BE" sz="2800" spc="-1" strike="noStrike">
                <a:solidFill>
                  <a:srgbClr val="000000"/>
                </a:solidFill>
                <a:latin typeface="Arial"/>
              </a:rPr>
              <a:t> : W&amp;S improves nutrient uptake and allows for increased agricultural outp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000000"/>
                </a:solidFill>
                <a:latin typeface="Arial"/>
              </a:rPr>
              <a:t>Primary Education</a:t>
            </a:r>
            <a:r>
              <a:rPr b="0" i="1" lang="fr-BE" sz="2800" spc="-1" strike="noStrike">
                <a:solidFill>
                  <a:srgbClr val="000000"/>
                </a:solidFill>
                <a:latin typeface="Arial"/>
              </a:rPr>
              <a:t> : W&amp;S in schools greatly improves school attendance, especially for adolescent gir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000000"/>
                </a:solidFill>
                <a:latin typeface="Arial"/>
              </a:rPr>
              <a:t>Gender Equality</a:t>
            </a:r>
            <a:r>
              <a:rPr b="0" i="1" lang="fr-BE" sz="2800" spc="-1" strike="noStrike">
                <a:solidFill>
                  <a:srgbClr val="000000"/>
                </a:solidFill>
                <a:latin typeface="Arial"/>
              </a:rPr>
              <a:t> : W&amp;S helps empower wome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Arial"/>
              </a:rPr>
              <a:t>W&amp;S and other MDG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000000"/>
                </a:solidFill>
                <a:latin typeface="Arial"/>
              </a:rPr>
              <a:t>Child Mortality</a:t>
            </a: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i="1" lang="fr-BE" sz="2800" spc="-1" strike="noStrike">
                <a:solidFill>
                  <a:srgbClr val="000000"/>
                </a:solidFill>
                <a:latin typeface="Arial"/>
              </a:rPr>
              <a:t>W&amp;S greatly reduces diarrhea – the single biggest killer of children in the developing wor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000000"/>
                </a:solidFill>
                <a:latin typeface="Arial"/>
              </a:rPr>
              <a:t>Maternal Mortality</a:t>
            </a: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i="1" lang="fr-BE" sz="2800" spc="-1" strike="noStrike">
                <a:solidFill>
                  <a:srgbClr val="000000"/>
                </a:solidFill>
                <a:latin typeface="Arial"/>
              </a:rPr>
              <a:t>W&amp;S during pregnancy and at maternal facility diminish maternal mort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000000"/>
                </a:solidFill>
                <a:latin typeface="Arial"/>
              </a:rPr>
              <a:t>Major Diseases</a:t>
            </a: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i="1" lang="fr-BE" sz="2800" spc="-1" strike="noStrike">
                <a:solidFill>
                  <a:srgbClr val="000000"/>
                </a:solidFill>
                <a:latin typeface="Arial"/>
              </a:rPr>
              <a:t>W&amp;S is the foundation of health and therefore a perequisite for addressing major dis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000000"/>
                </a:solidFill>
                <a:latin typeface="Arial"/>
              </a:rPr>
              <a:t>Environmental Sustainability</a:t>
            </a: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i="1" lang="fr-BE" sz="2800" spc="-1" strike="noStrike">
                <a:solidFill>
                  <a:srgbClr val="000000"/>
                </a:solidFill>
                <a:latin typeface="Arial"/>
              </a:rPr>
              <a:t>Water is the natural recipient of most poll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Council conclusions on MDGs 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(14 June 2010) </a:t>
            </a:r>
            <a:br>
              <a:rPr sz="2400"/>
            </a:b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Preparing for UN MDG Summit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000000"/>
                </a:solidFill>
                <a:latin typeface="Arial"/>
              </a:rPr>
              <a:t>Focusing efforts</a:t>
            </a: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 : Special attention to countries most off-track, and developing countries that make firm commitments through their development policies and pl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EU recognises interdependence of progress on the different MDGs and the impact of off-track MDGs such as hunger, child and maternal health, and </a:t>
            </a:r>
            <a:r>
              <a:rPr b="1" lang="fr-BE" sz="2800" spc="-1" strike="noStrike">
                <a:solidFill>
                  <a:srgbClr val="000000"/>
                </a:solidFill>
                <a:latin typeface="Arial"/>
              </a:rPr>
              <a:t>sanitation</a:t>
            </a: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12-POINT EU ACTION PL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id promises – a pathway to 20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effective aid means better value for 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f-track countries and “fragile first", starting with Hait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DGs in key sectors: hunger, heath, education, gen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"donorship" to ownership – with countries and with Afr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king other EU policies coherent for 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omestic taxation capac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lobal and regional trade capac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novative financ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limate change: a test c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evelopment and secu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forming global govern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12-POINT EU ACTION PLAN</a:t>
            </a:r>
            <a:br>
              <a:rPr sz="3200"/>
            </a:br>
            <a:r>
              <a:rPr b="0" lang="en-GB" sz="3200" spc="-1" strike="noStrike">
                <a:solidFill>
                  <a:srgbClr val="009999"/>
                </a:solidFill>
                <a:latin typeface="Arial"/>
              </a:rPr>
              <a:t>4.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MDGs in key sectors: hunger, heath, education, gen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68360" y="2133360"/>
            <a:ext cx="8229600" cy="438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lth - national health systems and GFAT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ucation – focus on quality – with governments and through Fast Track Initia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od security – sustainable smallholde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der – apply OECD’s ‘policy marker’ to all MDG 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earch  - priority funding for health and food security in EU program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29T06:20:02Z</dcterms:created>
  <dc:creator>liebaan</dc:creator>
  <dc:description/>
  <dc:language>en-US</dc:language>
  <cp:lastModifiedBy>liebaan</cp:lastModifiedBy>
  <dcterms:modified xsi:type="dcterms:W3CDTF">2010-07-07T05:57:13Z</dcterms:modified>
  <cp:revision>7</cp:revision>
  <dc:subject/>
  <dc:title>Slide 1</dc:title>
</cp:coreProperties>
</file>