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E9CF3-C592-49BD-AADF-1682D9607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C2E6A-3859-496D-BC21-0594C5B9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74AF5-7CE3-43BF-8D86-2037BD83A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D4EAC-8924-4E77-9AAB-6D080A714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8555E9-7C50-4FA1-86C7-904F68A13E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4E50B-4EFD-4EE6-AF12-AB9CC1DF20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26A32-B9CE-4B9C-A324-2A87205BFF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BEC44-AB60-4A60-BEC1-B91C908134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2E79D-9D0A-49FF-85C4-7D42287BB7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4BD9F-32A1-458C-BD25-F3A64CB6E3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DEE14-79FF-4EA1-9F20-3DB70271AF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50942-0179-4326-A644-3C13416B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88D4D-AEFC-461B-A73D-4A327DB223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89F91-4FF9-4ACE-9409-F4BD6BCD45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CB633-16B4-4B67-A086-D7C7FECCDE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92E35-7979-421B-8E03-73316B1CBC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5FF972-D540-4643-8E7F-A1389B1BFF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FCEE-ABC1-4E2E-8CA1-FEE33A7D9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8ADAD-A2ED-4FA8-AC2E-BC7DD3894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88A1-F10F-4972-8E21-E63E55E9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3A1AE-CB3F-4E40-B34D-EBE7EF1E5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AB27-DC00-4743-9DE3-BFBDFDD1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FA57D-555E-4CF9-B631-C68A6870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FD07F-F628-47FE-BA92-4C8FDA4B6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C0D14926-F3A0-47D3-AB5F-9C0309D0E2ED}" type="datetime11">
              <a:rPr b="0" lang="en-US" sz="1400" spc="-1" strike="noStrike">
                <a:solidFill>
                  <a:srgbClr val="ffffff"/>
                </a:solidFill>
                <a:latin typeface="Times New Roman"/>
              </a:rPr>
              <a:t>17:51:5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74A5-7A3C-49BF-BD00-72CB640D88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746E-FB0E-4CC9-9DDC-8BFB557B15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FEF88DBC-2117-4DA2-AAD0-EF43C55B03CA}" type="datetime11">
              <a:rPr b="0" lang="en-US" sz="1400" spc="-1" strike="noStrike">
                <a:solidFill>
                  <a:srgbClr val="ffffff"/>
                </a:solidFill>
                <a:latin typeface="Times New Roman"/>
              </a:rPr>
              <a:t>17:51:58</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1AEAA22-4AA2-4337-A00B-44EAB5850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A1B8700-FF8E-482F-94BF-5ADFDCBD6D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6359FF3-D65C-4F2A-959C-3EAB7AA949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12AAA8F-D4F1-4E31-AE7C-FB39770BBF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2D1FE15E-677C-44EF-8527-668B7EC616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6383D61-A39A-4484-95DA-E94D5FA2E9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9CAF11F-2B9A-42B8-BF8E-3076A89B9A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827A4EA-3641-4DD3-9B23-CD968A5EC0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A0148423-C55B-4D0E-BF47-132502ED0F5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7C60C66-B777-4EC7-B644-DED98162F3C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CE34A71-C0C8-4140-B9DE-7A8DE6F7A1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F9A9569-6C67-4846-A049-5FFA39B96C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B4BDAB0-55C1-4529-9B5F-F2A79B5C4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74FDC03-A8B0-4EB9-AC4C-AE91E38867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276302C-9919-4AFB-85C4-DC83D612B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97C2DDF-6CF6-4847-805C-5F70695A3B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A9439DC-14C1-47ED-A833-75349312FE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