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7423A-8A54-4515-8845-C8C52FBCE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DF1DE-4186-4123-AA60-4B0D0A56D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6EE61-51A8-4611-BA63-79C6942A5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7F389-1F4E-4681-8BFD-30D567712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ED3126-98BF-476D-9731-09014CFF83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D0B8F-C7BA-4A61-8901-B8EAAA867C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F1E3A-7ED1-4451-A549-EEF9AA0BDD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2450C-0F7B-481B-A498-F95C3169EB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CD327-0543-4531-9FF6-2B19985E7C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55926A-39CE-4431-8CF8-31F1A2F452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7DF02-6991-44FB-B574-74DB000407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BB4FD-ED78-4FBE-BD1C-1D6E552C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AD425-9591-40F8-8231-C3BC1CEE44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24AD7-913D-44E1-B972-6CED6EE549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5F8D1-F623-4090-9E88-F06200571C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B37770-E1C3-4EA5-AB56-7C38D49D00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66A22E-26DA-4E7F-8E59-EB316E16C75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C560-554F-425E-A7F3-E8B803E4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DEF0-7085-42D8-9581-E60808EE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C5C27-1EDD-4F84-AD8A-EE253FFF8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5E4B-42AC-47D4-B4B7-82270B8C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5FC1F-EE93-43AE-9D4E-B7FBD78E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B0070-4A94-4202-B03E-82908D321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76D1-41FA-428B-8B90-7A80015B1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6839A6C1-4179-450F-BACB-78C2D7E0417C}" type="datetime11">
              <a:rPr b="0" lang="en-US" sz="1400" spc="-1" strike="noStrike">
                <a:solidFill>
                  <a:srgbClr val="ffffff"/>
                </a:solidFill>
                <a:latin typeface="Times New Roman"/>
              </a:rPr>
              <a:t>17:54:1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54AF-0F77-435C-8707-4690B948CB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CB1F-8F5E-423D-BA10-5FFED38171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DE78D1F4-59C5-4655-BE2E-D0DA14215A6B}" type="datetime11">
              <a:rPr b="0" lang="en-US" sz="1400" spc="-1" strike="noStrike">
                <a:solidFill>
                  <a:srgbClr val="ffffff"/>
                </a:solidFill>
                <a:latin typeface="Times New Roman"/>
              </a:rPr>
              <a:t>17:54:16</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65D6C7E-9E62-44CE-95E2-67D0D4BAC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4E2EC27-0E60-45BA-A678-565D51FB6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3B07699-641D-4EA4-8920-04E071343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561BBBA-D252-4637-951D-D15C4F4F15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FF770D22-6C79-4272-A38E-F9927D922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3EB123E-1289-4079-9F9F-C0899C2A21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9365339-4CFC-4C0D-A249-1BB6F35992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80BC76A-61DE-41AE-83B9-C08A4C5FF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F249F112-4046-4378-B0F5-DFA99AB1D0E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2FDF8DE-B30A-4F57-A506-3154C903577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AF4EAD4-748F-4068-B99F-531941C2AF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F26A85F-E70D-4476-9A76-9E79B6BF3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305535F-314E-4488-AA69-7B7AEC768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4E123F1-CA33-489B-9FAA-C9423C8C4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FAD2799-8FC4-4F92-BBE1-1F723D3722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15431A0-B674-4CF7-A2DD-F430E99C3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369BD26-F226-4747-A46C-533BB7D48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