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013A5-9A5C-4871-BC8C-B9311255088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D5B9-536A-4010-A088-D3B89532340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8FB8-D186-4181-BEC6-30B61F60866A}" type="datetime">
              <a:rPr b="0" lang="en-US" sz="1200" spc="-1" strike="noStrike">
                <a:solidFill>
                  <a:srgbClr val="ffffff"/>
                </a:solidFill>
                <a:latin typeface="Verdana"/>
              </a:rPr>
              <a:t>07/30/26</a:t>
            </a:fld>
            <a:r>
              <a:rPr b="0" lang="en-US" sz="1200" spc="-1" strike="noStrike">
                <a:solidFill>
                  <a:srgbClr val="ffffff"/>
                </a:solidFill>
                <a:latin typeface="Verdana"/>
              </a:rPr>
              <a:t> </a:t>
            </a:r>
            <a:fld id="{0259CC11-5B42-4034-AAA4-387CEE0648C0}"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10D1-B76C-4DC3-BBC5-76B6B8A26CA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8EA6C-6FF4-4362-B9B2-AC0A0FDF1C34}" type="datetime">
              <a:rPr b="0" lang="en-US" sz="1200" spc="-1" strike="noStrike">
                <a:solidFill>
                  <a:srgbClr val="ffffff"/>
                </a:solidFill>
                <a:latin typeface="Verdana"/>
              </a:rPr>
              <a:t>07/30/26</a:t>
            </a:fld>
            <a:r>
              <a:rPr b="0" lang="en-US" sz="1200" spc="-1" strike="noStrike">
                <a:solidFill>
                  <a:srgbClr val="ffffff"/>
                </a:solidFill>
                <a:latin typeface="Verdana"/>
              </a:rPr>
              <a:t> </a:t>
            </a:r>
            <a:fld id="{5819DFCD-27A5-40F4-8801-C35F338A9F67}"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A6DAD-8DB9-4D72-AC68-64C6488F446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789EE-3A18-4B1A-A688-AF6DFF41F89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40C1F-2CDD-419F-8871-494A3D3737F6}" type="datetime">
              <a:rPr b="0" lang="en-US" sz="1200" spc="-1" strike="noStrike">
                <a:solidFill>
                  <a:srgbClr val="ffffff"/>
                </a:solidFill>
                <a:latin typeface="Verdana"/>
              </a:rPr>
              <a:t>07/30/26</a:t>
            </a:fld>
            <a:r>
              <a:rPr b="0" lang="en-US" sz="1200" spc="-1" strike="noStrike">
                <a:solidFill>
                  <a:srgbClr val="ffffff"/>
                </a:solidFill>
                <a:latin typeface="Verdana"/>
              </a:rPr>
              <a:t> </a:t>
            </a:r>
            <a:fld id="{3E51B390-4CA4-42E2-9A04-79253EE94DE1}"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3C89-D777-4314-98FE-5131E833455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0392-AC52-43FF-89FF-9BCF58FD121A}" type="datetime">
              <a:rPr b="0" lang="en-US" sz="1200" spc="-1" strike="noStrike">
                <a:solidFill>
                  <a:srgbClr val="ffffff"/>
                </a:solidFill>
                <a:latin typeface="Verdana"/>
              </a:rPr>
              <a:t>07/30/26</a:t>
            </a:fld>
            <a:r>
              <a:rPr b="0" lang="en-US" sz="1200" spc="-1" strike="noStrike">
                <a:solidFill>
                  <a:srgbClr val="ffffff"/>
                </a:solidFill>
                <a:latin typeface="Verdana"/>
              </a:rPr>
              <a:t> </a:t>
            </a:r>
            <a:fld id="{C269AD49-5590-4556-BE2F-F889CD3D265F}"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0818A-5420-48EC-B6F1-BCA5AAC9229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E166-7471-4DF4-A115-28AF3F84713E}" type="datetime">
              <a:rPr b="0" lang="en-US" sz="1200" spc="-1" strike="noStrike">
                <a:solidFill>
                  <a:srgbClr val="ffffff"/>
                </a:solidFill>
                <a:latin typeface="Verdana"/>
              </a:rPr>
              <a:t>07/30/26</a:t>
            </a:fld>
            <a:r>
              <a:rPr b="0" lang="en-US" sz="1200" spc="-1" strike="noStrike">
                <a:solidFill>
                  <a:srgbClr val="ffffff"/>
                </a:solidFill>
                <a:latin typeface="Verdana"/>
              </a:rPr>
              <a:t> </a:t>
            </a:r>
            <a:fld id="{F53F57FC-3A6F-4916-934F-F8EF2E92EA2A}"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B2E4-3C50-4E7A-87E6-5DD298089D6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7C263-8598-4FBC-83F4-126B7F42F075}" type="datetime">
              <a:rPr b="0" lang="en-US" sz="1200" spc="-1" strike="noStrike">
                <a:solidFill>
                  <a:srgbClr val="ffffff"/>
                </a:solidFill>
                <a:latin typeface="Verdana"/>
              </a:rPr>
              <a:t>07/30/26</a:t>
            </a:fld>
            <a:r>
              <a:rPr b="0" lang="en-US" sz="1200" spc="-1" strike="noStrike">
                <a:solidFill>
                  <a:srgbClr val="ffffff"/>
                </a:solidFill>
                <a:latin typeface="Verdana"/>
              </a:rPr>
              <a:t> </a:t>
            </a:r>
            <a:fld id="{CFD9EAE1-D5AC-4F35-9E62-109DD1580C1C}"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D40E3-9CB8-4866-8B52-7B56A0FD96F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ADD3D-03BC-4EDF-84C4-FC828777544F}" type="datetime">
              <a:rPr b="0" lang="en-US" sz="1200" spc="-1" strike="noStrike">
                <a:solidFill>
                  <a:srgbClr val="ffffff"/>
                </a:solidFill>
                <a:latin typeface="Verdana"/>
              </a:rPr>
              <a:t>07/30/26</a:t>
            </a:fld>
            <a:r>
              <a:rPr b="0" lang="en-US" sz="1200" spc="-1" strike="noStrike">
                <a:solidFill>
                  <a:srgbClr val="ffffff"/>
                </a:solidFill>
                <a:latin typeface="Verdana"/>
              </a:rPr>
              <a:t> </a:t>
            </a:r>
            <a:fld id="{85279614-CF55-4407-8786-F29E99069605}"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32C01-872D-451F-AB00-3C92201B877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B58C7-8709-4468-8934-F9339C0A4A34}" type="datetime">
              <a:rPr b="0" lang="en-US" sz="1200" spc="-1" strike="noStrike">
                <a:solidFill>
                  <a:srgbClr val="ffffff"/>
                </a:solidFill>
                <a:latin typeface="Verdana"/>
              </a:rPr>
              <a:t>07/30/26</a:t>
            </a:fld>
            <a:r>
              <a:rPr b="0" lang="en-US" sz="1200" spc="-1" strike="noStrike">
                <a:solidFill>
                  <a:srgbClr val="ffffff"/>
                </a:solidFill>
                <a:latin typeface="Verdana"/>
              </a:rPr>
              <a:t> </a:t>
            </a:r>
            <a:fld id="{0BC59BE0-7729-4ED5-860C-7B8729F1036E}"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6B7AE-8F68-4990-B18A-F5BB72E0726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75F3-9D64-4AA2-AFE8-15EE75E0BC0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725B-36AD-41F3-9C11-D38B11694C7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8CBCE-E37D-4E31-B012-37953845951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A009E-AA1B-49EE-A4CF-6AE2A85C802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67EA-1593-45E4-8739-AA2F49A53A06}" type="datetime">
              <a:rPr b="0" lang="en-US" sz="1200" spc="-1" strike="noStrike">
                <a:solidFill>
                  <a:srgbClr val="ffffff"/>
                </a:solidFill>
                <a:latin typeface="Verdana"/>
              </a:rPr>
              <a:t>07/30/26</a:t>
            </a:fld>
            <a:r>
              <a:rPr b="0" lang="en-US" sz="1200" spc="-1" strike="noStrike">
                <a:solidFill>
                  <a:srgbClr val="ffffff"/>
                </a:solidFill>
                <a:latin typeface="Verdana"/>
              </a:rPr>
              <a:t> </a:t>
            </a:r>
            <a:fld id="{F023BF3B-D450-4FCA-A77A-12458245741D}"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3271-5B4E-4B9B-83DF-6BAFC677645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1141-1FF3-43ED-A292-71FDC540EDFA}" type="datetime">
              <a:rPr b="0" lang="en-US" sz="1200" spc="-1" strike="noStrike">
                <a:solidFill>
                  <a:srgbClr val="ffffff"/>
                </a:solidFill>
                <a:latin typeface="Verdana"/>
              </a:rPr>
              <a:t>07/30/26</a:t>
            </a:fld>
            <a:r>
              <a:rPr b="0" lang="en-US" sz="1200" spc="-1" strike="noStrike">
                <a:solidFill>
                  <a:srgbClr val="ffffff"/>
                </a:solidFill>
                <a:latin typeface="Verdana"/>
              </a:rPr>
              <a:t> </a:t>
            </a:r>
            <a:fld id="{1BED5A33-329A-48CC-8910-0254B33B22AB}"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3E1D0-097A-4D84-AA30-FFB81A40D4A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187F-2ED5-4720-85B9-0939F3047636}" type="datetime">
              <a:rPr b="0" lang="en-US" sz="1200" spc="-1" strike="noStrike">
                <a:solidFill>
                  <a:srgbClr val="ffffff"/>
                </a:solidFill>
                <a:latin typeface="Verdana"/>
              </a:rPr>
              <a:t>07/30/26</a:t>
            </a:fld>
            <a:r>
              <a:rPr b="0" lang="en-US" sz="1200" spc="-1" strike="noStrike">
                <a:solidFill>
                  <a:srgbClr val="ffffff"/>
                </a:solidFill>
                <a:latin typeface="Verdana"/>
              </a:rPr>
              <a:t> </a:t>
            </a:r>
            <a:fld id="{42A42F87-562E-4A89-8012-D3EE071A67C6}"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D03D-9EAB-4B46-91F4-B70C11FF6D9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F3E18-054B-4D6B-AFFC-F65C851EC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E7075-E4B3-438D-B1AA-DA05DEDD9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BB853-DB98-4738-B308-546CEE8BB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00B3D-8566-4345-AA67-DFA56C105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ECAF6B-A489-4BD7-9954-82D0CF92FB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B5205-13EF-40F8-96C3-F189A2A16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98C45-F55C-449F-8C38-201FF4E2D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0D167-056D-4156-ADC8-479951F69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F947A-CDCE-4068-A922-1E3394728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7BDE2-FFFA-41D9-9E20-DF0E71279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C2BB0-FA0E-4D8D-8591-FCA6A22CA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47864-67B9-4A7F-812F-E5DAFC337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03F1B-ED93-4E6B-93EF-CAC618420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F4FAD-A4C0-419E-BAA4-EF6A5D82C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54E13-FC52-4235-87E6-DE63FA24D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B063F4-0478-4BCD-B790-7055C254C0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1576BB-199C-46ED-8AF2-AC676D1DB0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7CE20-6D8F-490C-8FD3-99F068E69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93CBD-63EF-433C-8649-45A60FC49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7ED9B-F5B4-4020-9515-90895DE07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6BA42-7B58-4044-96AA-606236A0E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447FF-E370-46D8-94F7-307442B65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59E3E-FA81-47B4-BC88-17DE7ECF2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47E7C-0D09-47DA-AE4E-3C81ACA9B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4DCB-4490-4C5F-B9D1-4428745D4E2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6ED5-11EF-4C02-BB60-C076EF0369D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2879-1F1B-4E95-9DD2-D6A6AAC915F0}"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