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422F2-7A5C-4D1C-96E0-59F3A6A2B0B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BE5C-5E20-4984-916E-7C3F4AE7756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A8A8-FC05-45DC-9436-29D4CA5571E1}" type="datetime">
              <a:rPr b="0" lang="en-US" sz="1200" spc="-1" strike="noStrike">
                <a:solidFill>
                  <a:srgbClr val="ffffff"/>
                </a:solidFill>
                <a:latin typeface="Verdana"/>
              </a:rPr>
              <a:t>07/29/26</a:t>
            </a:fld>
            <a:r>
              <a:rPr b="0" lang="en-US" sz="1200" spc="-1" strike="noStrike">
                <a:solidFill>
                  <a:srgbClr val="ffffff"/>
                </a:solidFill>
                <a:latin typeface="Verdana"/>
              </a:rPr>
              <a:t> </a:t>
            </a:r>
            <a:fld id="{87E4038A-102D-43AF-AC5D-12F36DC6B22A}"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6CEA-2458-4BF5-91FF-24AF9C51E1E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E49A-B484-4D5B-A8B0-42B612A29162}" type="datetime">
              <a:rPr b="0" lang="en-US" sz="1200" spc="-1" strike="noStrike">
                <a:solidFill>
                  <a:srgbClr val="ffffff"/>
                </a:solidFill>
                <a:latin typeface="Verdana"/>
              </a:rPr>
              <a:t>07/29/26</a:t>
            </a:fld>
            <a:r>
              <a:rPr b="0" lang="en-US" sz="1200" spc="-1" strike="noStrike">
                <a:solidFill>
                  <a:srgbClr val="ffffff"/>
                </a:solidFill>
                <a:latin typeface="Verdana"/>
              </a:rPr>
              <a:t> </a:t>
            </a:r>
            <a:fld id="{0B1CEF99-EBA5-46D6-812A-99739B7941DF}"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076A-2370-42AF-98B0-7FA1C389631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7551-BDD8-43DD-B5F4-8511DB5D326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6568-F86B-459C-81F2-D735F1CF8815}" type="datetime">
              <a:rPr b="0" lang="en-US" sz="1200" spc="-1" strike="noStrike">
                <a:solidFill>
                  <a:srgbClr val="ffffff"/>
                </a:solidFill>
                <a:latin typeface="Verdana"/>
              </a:rPr>
              <a:t>07/29/26</a:t>
            </a:fld>
            <a:r>
              <a:rPr b="0" lang="en-US" sz="1200" spc="-1" strike="noStrike">
                <a:solidFill>
                  <a:srgbClr val="ffffff"/>
                </a:solidFill>
                <a:latin typeface="Verdana"/>
              </a:rPr>
              <a:t> </a:t>
            </a:r>
            <a:fld id="{58CFFCA8-73CB-4897-AB5D-A73283E8BA90}"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4388B-AC4F-431C-B567-2C790D84150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5A80-99C6-4646-A86D-A79EDEA06719}" type="datetime">
              <a:rPr b="0" lang="en-US" sz="1200" spc="-1" strike="noStrike">
                <a:solidFill>
                  <a:srgbClr val="ffffff"/>
                </a:solidFill>
                <a:latin typeface="Verdana"/>
              </a:rPr>
              <a:t>07/29/26</a:t>
            </a:fld>
            <a:r>
              <a:rPr b="0" lang="en-US" sz="1200" spc="-1" strike="noStrike">
                <a:solidFill>
                  <a:srgbClr val="ffffff"/>
                </a:solidFill>
                <a:latin typeface="Verdana"/>
              </a:rPr>
              <a:t> </a:t>
            </a:r>
            <a:fld id="{7F1BD9C5-2FE1-42EC-B6AD-8E38BCDEF967}"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2555E-EF04-4E3E-A287-7118ED203C1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0324D-2325-4765-B0FD-FA3D2669B1CB}" type="datetime">
              <a:rPr b="0" lang="en-US" sz="1200" spc="-1" strike="noStrike">
                <a:solidFill>
                  <a:srgbClr val="ffffff"/>
                </a:solidFill>
                <a:latin typeface="Verdana"/>
              </a:rPr>
              <a:t>07/29/26</a:t>
            </a:fld>
            <a:r>
              <a:rPr b="0" lang="en-US" sz="1200" spc="-1" strike="noStrike">
                <a:solidFill>
                  <a:srgbClr val="ffffff"/>
                </a:solidFill>
                <a:latin typeface="Verdana"/>
              </a:rPr>
              <a:t> </a:t>
            </a:r>
            <a:fld id="{0F64B147-A6AB-4D0C-846F-92A0241391C0}"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C92D3-CF20-4761-AF6F-04E02634116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31389-1130-4531-B711-AE39528AB1CF}" type="datetime">
              <a:rPr b="0" lang="en-US" sz="1200" spc="-1" strike="noStrike">
                <a:solidFill>
                  <a:srgbClr val="ffffff"/>
                </a:solidFill>
                <a:latin typeface="Verdana"/>
              </a:rPr>
              <a:t>07/29/26</a:t>
            </a:fld>
            <a:r>
              <a:rPr b="0" lang="en-US" sz="1200" spc="-1" strike="noStrike">
                <a:solidFill>
                  <a:srgbClr val="ffffff"/>
                </a:solidFill>
                <a:latin typeface="Verdana"/>
              </a:rPr>
              <a:t> </a:t>
            </a:r>
            <a:fld id="{623B7AED-41D1-4CE5-9DAE-376A468CE96E}"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ED21-62D9-4206-965F-22B940CAFFB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D1BB-3CCB-4DA6-9A64-4682746E9E95}" type="datetime">
              <a:rPr b="0" lang="en-US" sz="1200" spc="-1" strike="noStrike">
                <a:solidFill>
                  <a:srgbClr val="ffffff"/>
                </a:solidFill>
                <a:latin typeface="Verdana"/>
              </a:rPr>
              <a:t>07/29/26</a:t>
            </a:fld>
            <a:r>
              <a:rPr b="0" lang="en-US" sz="1200" spc="-1" strike="noStrike">
                <a:solidFill>
                  <a:srgbClr val="ffffff"/>
                </a:solidFill>
                <a:latin typeface="Verdana"/>
              </a:rPr>
              <a:t> </a:t>
            </a:r>
            <a:fld id="{F7205781-B04E-4E02-9E52-07BE229EF2EF}"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6EEED-C8C8-41D2-99F4-37E09E2D0AF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A139-B7B8-47EA-82F5-278DCC97D347}" type="datetime">
              <a:rPr b="0" lang="en-US" sz="1200" spc="-1" strike="noStrike">
                <a:solidFill>
                  <a:srgbClr val="ffffff"/>
                </a:solidFill>
                <a:latin typeface="Verdana"/>
              </a:rPr>
              <a:t>07/29/26</a:t>
            </a:fld>
            <a:r>
              <a:rPr b="0" lang="en-US" sz="1200" spc="-1" strike="noStrike">
                <a:solidFill>
                  <a:srgbClr val="ffffff"/>
                </a:solidFill>
                <a:latin typeface="Verdana"/>
              </a:rPr>
              <a:t> </a:t>
            </a:r>
            <a:fld id="{6328457D-EA4E-4AF2-BEB1-340E2B7DC9DD}"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513D-BE73-47C4-A1F1-E24B128C98C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A9DD-B667-4B0C-BAC2-1EE8CD206C5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3DABE-075A-4A3A-9D4D-76A13590299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DDEC-1C73-49A4-B2BF-FD24AB3CA24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A458E-E6CA-4802-91C8-7E8D494B131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3F394-041C-45AE-8888-465160337331}" type="datetime">
              <a:rPr b="0" lang="en-US" sz="1200" spc="-1" strike="noStrike">
                <a:solidFill>
                  <a:srgbClr val="ffffff"/>
                </a:solidFill>
                <a:latin typeface="Verdana"/>
              </a:rPr>
              <a:t>07/29/26</a:t>
            </a:fld>
            <a:r>
              <a:rPr b="0" lang="en-US" sz="1200" spc="-1" strike="noStrike">
                <a:solidFill>
                  <a:srgbClr val="ffffff"/>
                </a:solidFill>
                <a:latin typeface="Verdana"/>
              </a:rPr>
              <a:t> </a:t>
            </a:r>
            <a:fld id="{89BB9936-0335-4071-8284-832E518B0BA0}"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70A1-6F04-4EA8-A0F9-6100ACA96C8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101D-2FD8-4DE1-A12F-6719755885CA}" type="datetime">
              <a:rPr b="0" lang="en-US" sz="1200" spc="-1" strike="noStrike">
                <a:solidFill>
                  <a:srgbClr val="ffffff"/>
                </a:solidFill>
                <a:latin typeface="Verdana"/>
              </a:rPr>
              <a:t>07/29/26</a:t>
            </a:fld>
            <a:r>
              <a:rPr b="0" lang="en-US" sz="1200" spc="-1" strike="noStrike">
                <a:solidFill>
                  <a:srgbClr val="ffffff"/>
                </a:solidFill>
                <a:latin typeface="Verdana"/>
              </a:rPr>
              <a:t> </a:t>
            </a:r>
            <a:fld id="{20DC9DA4-2A2A-4B68-A8A3-EFF8785F1224}"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2337-6833-4E59-92A2-902B207AE3F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95681-822D-4305-A56E-43032773D264}" type="datetime">
              <a:rPr b="0" lang="en-US" sz="1200" spc="-1" strike="noStrike">
                <a:solidFill>
                  <a:srgbClr val="ffffff"/>
                </a:solidFill>
                <a:latin typeface="Verdana"/>
              </a:rPr>
              <a:t>07/29/26</a:t>
            </a:fld>
            <a:r>
              <a:rPr b="0" lang="en-US" sz="1200" spc="-1" strike="noStrike">
                <a:solidFill>
                  <a:srgbClr val="ffffff"/>
                </a:solidFill>
                <a:latin typeface="Verdana"/>
              </a:rPr>
              <a:t> </a:t>
            </a:r>
            <a:fld id="{E168948A-352F-44D4-AF55-7FBA5AA1FE1B}" type="datetime10">
              <a:rPr b="0" lang="en-US" sz="1200" spc="-1" strike="noStrike">
                <a:solidFill>
                  <a:srgbClr val="ffffff"/>
                </a:solidFill>
                <a:latin typeface="Verdana"/>
              </a:rPr>
              <a:t>18:05</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AC1B-C910-4596-A665-5F44BAFEC1F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93539-1EFA-4791-B250-B8B363A80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65C33-7E46-47A0-A928-68E9F5B0A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25549-240B-4364-9AF1-F8F2D3989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D2814-648F-480E-9727-8F4B97FC8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D99DAF-3BC0-4477-B5A0-2CD08DEB4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ABE4B-8FB9-4620-A84C-54C15BCD6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438E2-8111-4672-B274-433C856ED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11017-D73A-4B67-8975-AFA76761E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01279-5F36-4A25-AC37-F27263E53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993AD-A7F5-4A5B-B6FC-0CE8938A3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34510-0E95-4AEE-A4D7-195B5635A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B50A7-FD30-4E80-86EC-2A8EE24DB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642B9-0EE2-48E2-A4CD-DCB670081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8FD00-E2BB-4436-A6A9-E4B83E9AB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BB9CE-B822-4298-84AF-529ECF1CE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0B4090-2ADA-4BB1-BEE4-60F4B589ED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DE4A39-9DE8-4577-804D-4CC89C430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D4049-73BB-468D-BCD5-1AC8BC490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8E83D-6004-4362-918A-A4EDF7B4C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59DCE-AF96-4747-8F4B-EE58AD316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81662-633D-4B9B-A93B-EF59F61E1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9B7DA-5C71-44F6-94DF-56CEE3443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50E8F-378A-4D52-B1B0-C11B53649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7FA78-5278-4B3B-9B39-1C36636F7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5E60-2ACB-4482-95E5-6A8E91550C4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88AF-EC7A-4E5F-B7FC-CBC5CBF0B50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B0D7-41BC-4BD4-ACA6-FC2FE3EFA897}"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