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BC5FA-E215-4EA2-94A3-CBA2E970A4C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FE210-DDBF-4D15-9845-DAAF95BCA1A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FC5D5-4AD8-4905-95EE-554BB0075C8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7A589-3206-450D-8448-AF1CF252796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2A4DD-DC30-4184-8B25-16138BDC210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12681-2644-4E6A-9A18-44E621AC007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94EFF-1828-420D-AA04-C585A018B7E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D03B4-72BC-4A01-9CBC-66BF52AFC4D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5BE40-A9BD-42D4-A8D5-02D3489F4D4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806A1-27FE-441F-B967-FB58BCB9453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6C6E9-74D2-41C1-96DD-0DF3C4FAF4C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556A8-898A-4BA2-80C8-53B30A96FAB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9792C-6F15-4BC1-9A48-443448C1AA3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118DE-A189-482F-A112-00FFBDCF7B4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D534D-E067-4E0E-B809-3630BD14DCD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EA7BD-4365-4AE5-A5B5-FE7B46A45D8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37C82-1C94-447F-8123-75876EC676E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46F23-533C-448F-8CE8-C71DC3843E2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80B86-49B3-46B6-AF2E-7705A75CF91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C9FFE-33E6-4835-8136-2F171F0FC45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6CBFE-2E3F-4177-B044-D9D62B04232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CD0D2-6106-4DD1-AB5A-5ECF21261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749C2-8200-40D3-9B50-452C8C9ED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BB0B2-057E-440D-AC8A-63D4D357D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313EC-E83F-4124-B71F-FC6D8C09F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512FC-F831-402C-A8FF-E3B8067F2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A51E2-CB23-4C35-9556-03DF0097B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1F9C5-A6A2-446B-9030-C57AEC401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210C0-7B91-461E-B818-DD3591AD3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C43F4-A769-4A41-964A-C8DE3DC12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26513-35DA-408F-9FEA-38AEB6B98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499DE-085E-4030-B9D7-734212A6A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37BC3-4492-4326-B620-205615D84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5053F-83C9-4704-886F-52CC115742F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4FA14-3C45-411A-B290-6BFEA93958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0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2"/>
          <p:cNvSpPr/>
          <p:nvPr/>
        </p:nvSpPr>
        <p:spPr>
          <a:xfrm>
            <a:off x="642960" y="357120"/>
            <a:ext cx="8072280" cy="24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58ed5"/>
                </a:solidFill>
                <a:latin typeface="Calibri"/>
              </a:rPr>
              <a:t>Water Services Trust Fund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e Urban Projects Concept (UPC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1859c"/>
                </a:solidFill>
                <a:latin typeface="Calibri"/>
              </a:rPr>
              <a:t>Fast-tracking &amp; up scaling provision of water and sanitation services to the urban po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642960" y="2071800"/>
            <a:ext cx="7816680" cy="41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libri"/>
              </a:rPr>
              <a:t>Eng. Jacqueline Musyok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libri"/>
              </a:rPr>
              <a:t>CEO of the WST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7" descr="7. Commissioning and Operation.jpg"/>
          <p:cNvPicPr/>
          <p:nvPr/>
        </p:nvPicPr>
        <p:blipFill>
          <a:blip r:embed="rId2"/>
          <a:stretch/>
        </p:blipFill>
        <p:spPr>
          <a:xfrm>
            <a:off x="4714920" y="2924280"/>
            <a:ext cx="3844800" cy="309708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sp>
        <p:nvSpPr>
          <p:cNvPr id="54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1E0B6-F317-422A-8C77-C3A2262D7A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21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4693A-EED0-4653-ABEB-42DF184AB8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2"/>
          <p:cNvSpPr/>
          <p:nvPr/>
        </p:nvSpPr>
        <p:spPr>
          <a:xfrm>
            <a:off x="285840" y="214200"/>
            <a:ext cx="4786200" cy="7146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UPC (cont.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3"/>
          <p:cNvSpPr/>
          <p:nvPr/>
        </p:nvSpPr>
        <p:spPr>
          <a:xfrm>
            <a:off x="457200" y="1000080"/>
            <a:ext cx="7900920" cy="50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pproval and awarding of projec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y the WST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ject implementation by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SP and the WS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The Field Monitors of the WSTF provide support and are part of th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Multi-Stakeholder Project Task Te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7" descr="5. Proposal Awarding by WSTF.jpg"/>
          <p:cNvPicPr/>
          <p:nvPr/>
        </p:nvPicPr>
        <p:blipFill>
          <a:blip r:embed="rId2"/>
          <a:stretch/>
        </p:blipFill>
        <p:spPr>
          <a:xfrm>
            <a:off x="5286240" y="214200"/>
            <a:ext cx="3230640" cy="235764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127" name="Picture 8" descr="6b.Project Implementaton (Community Sensitisation).jpg"/>
          <p:cNvPicPr/>
          <p:nvPr/>
        </p:nvPicPr>
        <p:blipFill>
          <a:blip r:embed="rId3"/>
          <a:stretch/>
        </p:blipFill>
        <p:spPr>
          <a:xfrm>
            <a:off x="5214960" y="2786040"/>
            <a:ext cx="3286080" cy="242892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30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E53A4-307E-4185-B9D2-F089CC8D67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2"/>
          <p:cNvSpPr/>
          <p:nvPr/>
        </p:nvSpPr>
        <p:spPr>
          <a:xfrm>
            <a:off x="142920" y="142920"/>
            <a:ext cx="4572000" cy="7063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UPC (cont.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7" descr="7. Commissioning and Operation.jpg"/>
          <p:cNvPicPr/>
          <p:nvPr/>
        </p:nvPicPr>
        <p:blipFill>
          <a:blip r:embed="rId2"/>
          <a:stretch/>
        </p:blipFill>
        <p:spPr>
          <a:xfrm>
            <a:off x="5286240" y="571680"/>
            <a:ext cx="3356280" cy="257148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135" name="Picture 8" descr="8. Project Evaluation.jpg"/>
          <p:cNvPicPr/>
          <p:nvPr/>
        </p:nvPicPr>
        <p:blipFill>
          <a:blip r:embed="rId3"/>
          <a:stretch/>
        </p:blipFill>
        <p:spPr>
          <a:xfrm>
            <a:off x="5283360" y="3500280"/>
            <a:ext cx="3349440" cy="235764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sp>
        <p:nvSpPr>
          <p:cNvPr id="136" name="Rectangle 3"/>
          <p:cNvSpPr/>
          <p:nvPr/>
        </p:nvSpPr>
        <p:spPr>
          <a:xfrm>
            <a:off x="142920" y="928800"/>
            <a:ext cx="7900920" cy="46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peration of the projec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y the W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8.    Evaluation of the project by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STF or by external evaluato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Evaluation should be participative a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involve the residents  &gt;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39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0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D7E47-14F6-4BA6-810B-1569E94636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2"/>
          <p:cNvSpPr/>
          <p:nvPr/>
        </p:nvSpPr>
        <p:spPr>
          <a:xfrm>
            <a:off x="500040" y="214200"/>
            <a:ext cx="8001000" cy="8575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UPC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pport provided to the WSBs and WSP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3"/>
          <p:cNvSpPr/>
          <p:nvPr/>
        </p:nvSpPr>
        <p:spPr>
          <a:xfrm>
            <a:off x="428760" y="1071720"/>
            <a:ext cx="7900920" cy="49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480" indent="6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The WSTF has developed a number support product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UPC Brochure &amp; UPC 8-Step Cha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Toolkit for Urban Water Supply Projects (on  DVD-ROM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Toolkit for Public Sanitation Projects (on  DVD-ROM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Water Source -  the water and sanitation literature DVD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AquaPix  -    the urban pictures DVD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The In-situ Water Kiosk Construction Manu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Toolkit for Urban Sanitation Projec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A number of urban community sensitisation posters. Focus, fetching at the kiosk, on water storage &amp; use, hand washing and HIV/AIDS (laminated, size A3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46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7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602D8-575F-4BF8-9826-90D589C1FB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2"/>
          <p:cNvSpPr/>
          <p:nvPr/>
        </p:nvSpPr>
        <p:spPr>
          <a:xfrm>
            <a:off x="500040" y="285840"/>
            <a:ext cx="8001000" cy="7858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UP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pport provided to the WSBs and WSPs: The Toolkit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3"/>
          <p:cNvSpPr/>
          <p:nvPr/>
        </p:nvSpPr>
        <p:spPr>
          <a:xfrm>
            <a:off x="285840" y="1285920"/>
            <a:ext cx="8532720" cy="46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480" indent="61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Toolkit for Urban Water Supply Projects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480" indent="612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llows a project to mainstream HIV/AIDS and to address gender issu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s 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organised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in easy accessible module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ill mainly be used by the Field monitors and by WSP and WSB staff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Was developed with three  WSPs (Oloolaiser Water and Sewerage Company, Mavoko WSC and Naivasha Water, Sewerage and Sanitation Company) during the implementation of the </a:t>
            </a:r>
            <a:r>
              <a:rPr b="0" i="1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Kiosk Pilot Project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(funded by GTZ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All lessons learned resulted in numerous improvements and adapt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The pilot project currently supplies more than 20,000 residents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53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4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A66D6-AE86-4F3D-8400-BADD495121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2"/>
          <p:cNvSpPr/>
          <p:nvPr/>
        </p:nvSpPr>
        <p:spPr>
          <a:xfrm>
            <a:off x="500040" y="285840"/>
            <a:ext cx="8001000" cy="7858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UP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pport provided to the WSBs and WSPs: The Toolkit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3"/>
          <p:cNvSpPr/>
          <p:nvPr/>
        </p:nvSpPr>
        <p:spPr>
          <a:xfrm>
            <a:off x="457200" y="1357200"/>
            <a:ext cx="7900920" cy="46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480" indent="6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Toolkit for Urban Water Supply Project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480" indent="612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ains all tools needed to plan, implement &amp; operate an urban water supply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80" indent="612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vers all phases of the project cyc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80" indent="612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ains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WSTF Application Form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as well as data collection and project evaluation tool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80" indent="612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cludes all necessary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drawing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bills of quantiti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80" indent="612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ains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accompanying measure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of a water supply project (community mobilisation, sensitisation and participation, training of staff and kiosk operators, etc.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80" indent="612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60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1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39C8C-3FEF-451F-BBF5-11B78F2CC1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2"/>
          <p:cNvSpPr/>
          <p:nvPr/>
        </p:nvSpPr>
        <p:spPr>
          <a:xfrm>
            <a:off x="285840" y="214200"/>
            <a:ext cx="8143920" cy="7858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UPC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pport provided to the WSBs and WSPs: Field Monitor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3"/>
          <p:cNvSpPr/>
          <p:nvPr/>
        </p:nvSpPr>
        <p:spPr>
          <a:xfrm>
            <a:off x="285840" y="1071720"/>
            <a:ext cx="7900920" cy="49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4800" indent="-3348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ach project receives the support from a (1) Engineering-, (2) Social- and an (3) Financial Field Monit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The Field Monitor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re specialists contracted by the WST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re attached to WSTF-funded pro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ssist, facilitate, advice &amp; build capacity at WSP-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lso monitor progress and quality on behalf of the WST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ork closely together with the WSP and WSB and are part of the Project Task Te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ject Task Team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 consists of: WSP and WSB staff, Council staff, the Public Health Officer (PHO),  the Chief, residents and the Field Moni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66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7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6A2BA-1CC2-4FF7-9658-E8BD4D9552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2"/>
          <p:cNvSpPr/>
          <p:nvPr/>
        </p:nvSpPr>
        <p:spPr>
          <a:xfrm>
            <a:off x="71280" y="71280"/>
            <a:ext cx="8643960" cy="128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UPC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pport provided to the WSBs and WSP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echnical Options: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Water Supply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3"/>
          <p:cNvSpPr/>
          <p:nvPr/>
        </p:nvSpPr>
        <p:spPr>
          <a:xfrm>
            <a:off x="457200" y="1285920"/>
            <a:ext cx="7900920" cy="48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4800" indent="-334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Toolkit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tains a number of technical options (drawings, BoQs, etc.) a WSP can opt fo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itu closed water kiosk (2 siz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efabricated closed kiosk (2 siz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efabricated bamboo eco kio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pen kiosk (covered and not cover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itu yard ta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efabricated yard t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epaid  public tap (being develop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eter chambers (for up to 25 met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WSP can also choose to implement a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mixed system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(kiosks and yard taps or kiosk and domestic conn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7" descr="DSC02807.JPG"/>
          <p:cNvPicPr/>
          <p:nvPr/>
        </p:nvPicPr>
        <p:blipFill>
          <a:blip r:embed="rId2"/>
          <a:stretch/>
        </p:blipFill>
        <p:spPr>
          <a:xfrm>
            <a:off x="4809960" y="2928960"/>
            <a:ext cx="419112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74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5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11ADB-133D-413A-B674-0ED4965B6A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2"/>
          <p:cNvSpPr/>
          <p:nvPr/>
        </p:nvSpPr>
        <p:spPr>
          <a:xfrm>
            <a:off x="71280" y="142920"/>
            <a:ext cx="8715600" cy="128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UPC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pport provided to the WSBs and WSP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echnical Options: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Sanitation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3"/>
          <p:cNvSpPr/>
          <p:nvPr/>
        </p:nvSpPr>
        <p:spPr>
          <a:xfrm>
            <a:off x="142920" y="1428840"/>
            <a:ext cx="7900920" cy="46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4800" indent="-334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final version of th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Toolkit for Urban Sanitation Project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will contain a number of technical options a WSP can opt fo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public sanitation facility (linked 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sewer or to a bio-digest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plot-level (shared facilit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household level sanitation fac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An increasing number of residents of low income areas are renting their accommodation. They live on a plot together with other tenants and share the available toilet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8" descr="image 01.jpg"/>
          <p:cNvPicPr/>
          <p:nvPr/>
        </p:nvPicPr>
        <p:blipFill>
          <a:blip r:embed="rId2"/>
          <a:stretch/>
        </p:blipFill>
        <p:spPr>
          <a:xfrm>
            <a:off x="4429080" y="2567160"/>
            <a:ext cx="428616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82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3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2E540-DE56-4F5A-97E6-7BF7810418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2"/>
          <p:cNvSpPr/>
          <p:nvPr/>
        </p:nvSpPr>
        <p:spPr>
          <a:xfrm>
            <a:off x="285840" y="214200"/>
            <a:ext cx="8001000" cy="10000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UPC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ast but not least: MajiData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3"/>
          <p:cNvSpPr/>
          <p:nvPr/>
        </p:nvSpPr>
        <p:spPr>
          <a:xfrm>
            <a:off x="285840" y="1160640"/>
            <a:ext cx="7900920" cy="48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4800" indent="-334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WSTF, at the request of the Ministry of Water and irrigation, is conducting a pro-poor mapping exerci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tailed data is collected in and on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all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w income urban areas of Keny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ata on population, current water supply &amp; sanitation (WSS) situation, housing, solid waste, socio-economic activities &amp; infrastructure, land ownership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PS readings are taken of area boundaries, existing WSS infrastructure and of the “area characterisation pictures” tak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The data will be used to create a database: </a:t>
            </a:r>
            <a:r>
              <a:rPr b="1" i="1" lang="en-US" sz="4000" spc="-1" strike="noStrike">
                <a:solidFill>
                  <a:srgbClr val="000000"/>
                </a:solidFill>
                <a:latin typeface="Calibri"/>
              </a:rPr>
              <a:t>MajiD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MajiData  is supported and implemented together with Google.org, Un-Habitat and KfW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89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3C713-5EA1-463E-B345-FC943EA7FD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2"/>
          <p:cNvSpPr/>
          <p:nvPr/>
        </p:nvSpPr>
        <p:spPr>
          <a:xfrm>
            <a:off x="428760" y="285840"/>
            <a:ext cx="8001000" cy="10000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UPC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bjectives of MajiData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3"/>
          <p:cNvSpPr/>
          <p:nvPr/>
        </p:nvSpPr>
        <p:spPr>
          <a:xfrm>
            <a:off x="357120" y="1357200"/>
            <a:ext cx="7900920" cy="46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382680"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Improving water supply &amp; sanitation (WSS) in urban low income are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Enable Water Services Providers (WSPs) to prepare realistic project proposals for the WST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nable the WSTF to evaluate and prioritise proposals (value for mone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Strengthen the capacity of WSPs to manage WSS schem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nable the Kenyan water sector to assess the current WSS situation and monitor the impact of programmes and their contribution to the achievement of MDGs &amp; Vision 2030 objec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The Team has completed data collection in 6 Water Services Boards regions. Data collection will be complete in November. The Team has collected data on more than 1,100  low income urban are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7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E7DEA-E110-446F-BD45-2E4CD83752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2"/>
          <p:cNvSpPr/>
          <p:nvPr/>
        </p:nvSpPr>
        <p:spPr>
          <a:xfrm>
            <a:off x="500040" y="285840"/>
            <a:ext cx="8001000" cy="10000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Challe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500040" y="1357200"/>
            <a:ext cx="7929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A large proportion of the urban population in Kenya does not have access to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Calibri"/>
              </a:rPr>
              <a:t>safe water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Calibri"/>
              </a:rPr>
              <a:t>adequate sani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P1010648.JPG"/>
          <p:cNvPicPr/>
          <p:nvPr/>
        </p:nvPicPr>
        <p:blipFill>
          <a:blip r:embed="rId2"/>
          <a:stretch/>
        </p:blipFill>
        <p:spPr>
          <a:xfrm>
            <a:off x="857160" y="2874960"/>
            <a:ext cx="3500640" cy="26258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5" descr="P1010664.JPG"/>
          <p:cNvPicPr/>
          <p:nvPr/>
        </p:nvPicPr>
        <p:blipFill>
          <a:blip r:embed="rId3"/>
          <a:stretch/>
        </p:blipFill>
        <p:spPr>
          <a:xfrm>
            <a:off x="4786200" y="2874960"/>
            <a:ext cx="3500640" cy="26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96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7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57DE6-DCF1-437A-8548-395F8E1466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2"/>
          <p:cNvSpPr/>
          <p:nvPr/>
        </p:nvSpPr>
        <p:spPr>
          <a:xfrm>
            <a:off x="214200" y="214200"/>
            <a:ext cx="4500720" cy="10717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Thank you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1" descr=""/>
          <p:cNvPicPr/>
          <p:nvPr/>
        </p:nvPicPr>
        <p:blipFill>
          <a:blip r:embed="rId2"/>
          <a:stretch/>
        </p:blipFill>
        <p:spPr>
          <a:xfrm>
            <a:off x="5076720" y="216000"/>
            <a:ext cx="3346560" cy="251136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6" descr="P1020493.JPG"/>
          <p:cNvPicPr/>
          <p:nvPr/>
        </p:nvPicPr>
        <p:blipFill>
          <a:blip r:embed="rId3"/>
          <a:stretch/>
        </p:blipFill>
        <p:spPr>
          <a:xfrm>
            <a:off x="5072040" y="3071880"/>
            <a:ext cx="3429000" cy="257184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4" descr="P1020484.JPG"/>
          <p:cNvPicPr/>
          <p:nvPr/>
        </p:nvPicPr>
        <p:blipFill>
          <a:blip r:embed="rId4"/>
          <a:stretch/>
        </p:blipFill>
        <p:spPr>
          <a:xfrm>
            <a:off x="214200" y="2286000"/>
            <a:ext cx="4500720" cy="33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65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BF67A-1A76-49E5-AD11-30DC794DE2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500040" y="142920"/>
            <a:ext cx="7858080" cy="7142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Respons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3"/>
          <p:cNvSpPr/>
          <p:nvPr/>
        </p:nvSpPr>
        <p:spPr>
          <a:xfrm>
            <a:off x="457200" y="1000080"/>
            <a:ext cx="8218440" cy="512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To respond to this challenge, the Water Services Trust Fund (WSTF) established an </a:t>
            </a:r>
            <a:r>
              <a:rPr b="0" lang="en-GB" sz="2200" spc="-1" strike="noStrike" u="sng">
                <a:solidFill>
                  <a:srgbClr val="000000"/>
                </a:solidFill>
                <a:uFillTx/>
                <a:latin typeface="Calibri"/>
              </a:rPr>
              <a:t>Urban Window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to finance sustainable urban water supply and sanitation projects in low income urban are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This Window is supported by the European Union (EU) and by the German Development Bank (KfW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Available funds :  € 15.5 million (approx KSh 1.5 Billion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KfW will continue supporting the UPC after the current phase          (€ 5.5. million) with an additional € 12 mill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Technical support is provided by the German Technical Cooperation (GTZ) and by KfW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The WSTF has developed the </a:t>
            </a:r>
            <a:r>
              <a:rPr b="0" lang="en-GB" sz="2200" spc="-1" strike="noStrike" u="sng">
                <a:solidFill>
                  <a:srgbClr val="000000"/>
                </a:solidFill>
                <a:uFillTx/>
                <a:latin typeface="Calibri"/>
              </a:rPr>
              <a:t>Urban Projects Concept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(UPC) to provide support and opportunities to the Water Service Providers (WSPs) &amp; Water Services Boards (WSB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71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D3EEB-F1A3-42B3-A4FD-149FCEF7D0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2"/>
          <p:cNvSpPr/>
          <p:nvPr/>
        </p:nvSpPr>
        <p:spPr>
          <a:xfrm>
            <a:off x="500040" y="214200"/>
            <a:ext cx="7929720" cy="7858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Objectiv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"/>
          <p:cNvSpPr/>
          <p:nvPr/>
        </p:nvSpPr>
        <p:spPr>
          <a:xfrm>
            <a:off x="457200" y="1143000"/>
            <a:ext cx="7972560" cy="485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hat does the WSTF intend to achiev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Making sustainable safe water and adequate sanitation accessible to a large number of urban po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Improving public healt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Contributing to the improvement of urban livelihoo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Reducing unaccounted for water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Build capacity at provider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 u="sng">
                <a:solidFill>
                  <a:srgbClr val="000000"/>
                </a:solidFill>
                <a:uFillTx/>
                <a:latin typeface="Calibri"/>
              </a:rPr>
              <a:t>Objective of the WSTF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:  reaching the poor…..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Water supply:    1.4 million residents (500,000 in 2010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Sanitation: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       400,000 residents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between January 2009 and December 201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78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5F101-1CF1-43A7-9ACB-92BF07CA3F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500040" y="214200"/>
            <a:ext cx="8001000" cy="6429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Objectives (cont.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3"/>
          <p:cNvSpPr/>
          <p:nvPr/>
        </p:nvSpPr>
        <p:spPr>
          <a:xfrm>
            <a:off x="457200" y="1000080"/>
            <a:ext cx="7972560" cy="512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382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Calibri"/>
              </a:rPr>
              <a:t>Water supply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Investment cost per beneficiary:  Euro 5 – Euro 17 (depending on the required technical works and social constraints) of urban liveliho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Reducing unaccounted for wa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P1010655.JPG"/>
          <p:cNvPicPr/>
          <p:nvPr/>
        </p:nvPicPr>
        <p:blipFill>
          <a:blip r:embed="rId2"/>
          <a:stretch/>
        </p:blipFill>
        <p:spPr>
          <a:xfrm>
            <a:off x="4238640" y="3498840"/>
            <a:ext cx="3905280" cy="29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86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86716-B4DF-4076-A3EA-363824C011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"/>
          <p:cNvSpPr/>
          <p:nvPr/>
        </p:nvSpPr>
        <p:spPr>
          <a:xfrm>
            <a:off x="500040" y="214200"/>
            <a:ext cx="8001000" cy="7146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Objectives (cont.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457200" y="928800"/>
            <a:ext cx="7972560" cy="512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38268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Calibri"/>
              </a:rPr>
              <a:t>Sanitation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Investment cost per beneficiary: KSh 500 (funded by WSTF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he WSTF will offer innovative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Calibri"/>
              </a:rPr>
              <a:t>public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Calibri"/>
              </a:rPr>
              <a:t>plot-level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Calibri"/>
              </a:rPr>
              <a:t>household-level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sanitation solutions: KSh 8,000 for a single household facility and KSh 40,000 – 70,000; for a shared facility (4 – 20 households living on the same plo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Sanitation, in most cases, the outcome of a household decision... or a decision made by the landlor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P1010737.JPG"/>
          <p:cNvPicPr/>
          <p:nvPr/>
        </p:nvPicPr>
        <p:blipFill>
          <a:blip r:embed="rId2"/>
          <a:stretch/>
        </p:blipFill>
        <p:spPr>
          <a:xfrm>
            <a:off x="571680" y="4071960"/>
            <a:ext cx="3524040" cy="22147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8" descr="image 01.jpg"/>
          <p:cNvPicPr/>
          <p:nvPr/>
        </p:nvPicPr>
        <p:blipFill>
          <a:blip r:embed="rId3"/>
          <a:stretch/>
        </p:blipFill>
        <p:spPr>
          <a:xfrm>
            <a:off x="4500720" y="4071960"/>
            <a:ext cx="4071960" cy="22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95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C4451-FE42-45C8-A474-4EA9A4F86F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2"/>
          <p:cNvSpPr/>
          <p:nvPr/>
        </p:nvSpPr>
        <p:spPr>
          <a:xfrm>
            <a:off x="500040" y="214200"/>
            <a:ext cx="7929720" cy="7858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Appro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1" descr=""/>
          <p:cNvPicPr/>
          <p:nvPr/>
        </p:nvPicPr>
        <p:blipFill>
          <a:blip r:embed="rId2"/>
          <a:stretch/>
        </p:blipFill>
        <p:spPr>
          <a:xfrm>
            <a:off x="1473120" y="3481560"/>
            <a:ext cx="3527640" cy="264456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3"/>
          <p:cNvSpPr/>
          <p:nvPr/>
        </p:nvSpPr>
        <p:spPr>
          <a:xfrm>
            <a:off x="457200" y="1428840"/>
            <a:ext cx="8043840" cy="46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he funds of the WSTF can only be accessed by licensed Water Service Providers (WSP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he WSPs are responsible for the management of project funds as well as for the successful implementation and sustainable operation of the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03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57F17-A865-420B-8CBF-E22FC27A6C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2"/>
          <p:cNvSpPr/>
          <p:nvPr/>
        </p:nvSpPr>
        <p:spPr>
          <a:xfrm>
            <a:off x="214200" y="214200"/>
            <a:ext cx="8358480" cy="8575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UP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rban Projects Concept has eight (8) ste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3"/>
          <p:cNvSpPr/>
          <p:nvPr/>
        </p:nvSpPr>
        <p:spPr>
          <a:xfrm>
            <a:off x="214200" y="1214280"/>
            <a:ext cx="814392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aunch of the Call for Proposal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y the WST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llection of data by the W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population demand for water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7" descr="1. Announcing the Call for Proposals .jpg"/>
          <p:cNvPicPr/>
          <p:nvPr/>
        </p:nvPicPr>
        <p:blipFill>
          <a:blip r:embed="rId2"/>
          <a:stretch/>
        </p:blipFill>
        <p:spPr>
          <a:xfrm>
            <a:off x="5357880" y="1143000"/>
            <a:ext cx="3214800" cy="232884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109" name="Picture 8" descr="2. Data Collection.jpg"/>
          <p:cNvPicPr/>
          <p:nvPr/>
        </p:nvPicPr>
        <p:blipFill>
          <a:blip r:embed="rId3"/>
          <a:stretch/>
        </p:blipFill>
        <p:spPr>
          <a:xfrm>
            <a:off x="5357880" y="3643200"/>
            <a:ext cx="3286080" cy="233676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12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8D265-A2B7-4C67-B3B8-DD906170CB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2"/>
          <p:cNvSpPr/>
          <p:nvPr/>
        </p:nvSpPr>
        <p:spPr>
          <a:xfrm>
            <a:off x="428760" y="214200"/>
            <a:ext cx="8143920" cy="8575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UPC (cont.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3"/>
          <p:cNvSpPr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5120" indent="-465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eparation of project proposal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y WSPs and WSB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   Appraisal of project propos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the WST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7" descr="3. Proposal Preparation.jpg"/>
          <p:cNvPicPr/>
          <p:nvPr/>
        </p:nvPicPr>
        <p:blipFill>
          <a:blip r:embed="rId2"/>
          <a:stretch/>
        </p:blipFill>
        <p:spPr>
          <a:xfrm>
            <a:off x="5286240" y="1071720"/>
            <a:ext cx="3286440" cy="232884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118" name="Picture 8" descr="4. Proposal Evaluation by WSTF.jpg"/>
          <p:cNvPicPr/>
          <p:nvPr/>
        </p:nvPicPr>
        <p:blipFill>
          <a:blip r:embed="rId3"/>
          <a:stretch/>
        </p:blipFill>
        <p:spPr>
          <a:xfrm>
            <a:off x="5286240" y="3643200"/>
            <a:ext cx="3321360" cy="231480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9T12:02:34Z</dcterms:created>
  <dc:creator>dell client</dc:creator>
  <dc:description/>
  <dc:language>en-US</dc:language>
  <cp:lastModifiedBy>rolendo</cp:lastModifiedBy>
  <dcterms:modified xsi:type="dcterms:W3CDTF">2010-10-18T04:54:57Z</dcterms:modified>
  <cp:revision>123</cp:revision>
  <dc:subject/>
  <dc:title>Slide 1</dc:title>
</cp:coreProperties>
</file>