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B42-8366-47BD-B173-B3D33913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0E6D-2562-4CA6-BF14-F7A8888A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A9DE-5CBD-4C53-9DD9-C5DF85A3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489-B318-489A-B367-B5E1E237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23D8-39BF-4741-A3E8-E778886C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16D-2DBB-457B-BF77-DE0270C7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467-8053-4A22-BDD5-4D87984F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E4E1-CBAA-4186-BA8E-2F3BA283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C541-AD84-4CC2-8469-8B512586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DB3-D372-47F2-A55E-E8B2375C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4EE-6A8A-44CC-A861-B510C1DA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BAB-5B0D-48FA-8D4B-7016CB40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BAF9-7717-4BCE-B7EA-FED7132F4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political economy being u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years ago pe not in donor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many donors using p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Sid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we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DFI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Drivers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Netherlan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SG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World Ba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roblem drive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UN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Asia Found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litical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 point to importance of politic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impact of public sector reform, best practice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s about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fragile states highlights politics of state 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approaches, common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down, botto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r less prescri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or technocratic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, sector or problem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analyst, country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for ow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ly with partner country changes 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development, diplomacy, security,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best practice, comprehensive PSR, crude condi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l change; more nuanced narrative about 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tion and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-building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internal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country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ity, complexity of country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alism about objectives, donor leverage (SGA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undamental shifts in strategy (Nigeria, Nep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of donor behaviour, aid mod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sector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ganda roads, Bangladesh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portunit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fferent entry points, global drivers, changed narr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driven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raction, risk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doing be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fragmented: no fundamental re-think about development, donor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vergence between internal debate and external narrative (alignment, reform in return for aid, all good things go together, zero tolerance for corru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changes to donor staffing,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sk missing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A just the next donor fash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1:06:57Z</dcterms:created>
  <dc:creator>UNSWORTH</dc:creator>
  <dc:description/>
  <dc:language>en-US</dc:language>
  <cp:lastModifiedBy>UNSWORTH</cp:lastModifiedBy>
  <dcterms:modified xsi:type="dcterms:W3CDTF">2011-01-07T12:07:37Z</dcterms:modified>
  <cp:revision>10</cp:revision>
  <dc:subject/>
  <dc:title>How is political economy being used?</dc:title>
</cp:coreProperties>
</file>