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14B3-A9C1-4D0F-9C38-3158701C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70B-2767-4502-80C8-57537CDC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2B4-E697-4489-B0B0-2B8B5A4D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722-C900-4E09-8F20-5332FE72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D1F3-0E64-495F-9157-F46B7E59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1B75-D710-41A9-B96E-2F4EED27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05A3-9C1A-4152-BAFC-0BF8083E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44B1-88FB-4EBC-8E60-A09C7B84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AB02-5E6B-4A61-9969-68E3A09F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6C1D-EA8A-4A8D-BFF4-75F6FBF5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56AA-2DBF-4B52-BE2C-4C344C37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84C-E1EF-4B54-995E-5DF147C3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11D1-86B9-4568-BF39-D55AE762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7F50-282A-49BD-A5BA-8115A2CF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4C7F-4B56-4791-8603-3962F88B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221A-3597-4662-B6D4-E7187233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26CC-7A81-408E-88F4-58292845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5C4-6A2A-4057-B655-27EE75FE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756-C169-4792-9C7A-FF024AD5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202B-BBCF-4F48-ACE5-CF415CA9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3F5-04F8-44C4-885D-D0C688C0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66BB-BB06-441B-87A9-F47F954B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17AD-FB5D-4C12-BF98-130C5AF8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8FF5-EA21-4C7B-9A23-7AAF321A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6FB6-563C-48DF-AF1A-06E2699760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C9D2-09E8-4893-B0B0-144D63BE319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3534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Field visit to Banks Breweri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See, learn, apply?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6520" y="5661000"/>
            <a:ext cx="8532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Jannik VAA, EU Delegation, Barbados and OEC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U Energy and Water Seminar, 18-22 May 2015, Barbado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5ec1"/>
              </a:solidFill>
              <a:latin typeface="Verdana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801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Electrical KPI 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4 Kwh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8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3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Thermal energy KPI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114Kg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2.8 Kg/h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28.8 Kg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560" y="2060280"/>
            <a:ext cx="8713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Water consumption KPI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16 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9.6Hl/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8. 7hl/h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nclu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77336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Example of the “green economy” concept being embraced at private sector leve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E actions and undertakings save money and resources – good for business. Generates / secures job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iven the “right” framework (enabling environment) private sector can and wil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annik</cp:lastModifiedBy>
  <cp:lastPrinted>2015-02-23T13:54:39Z</cp:lastPrinted>
  <dcterms:modified xsi:type="dcterms:W3CDTF">2015-05-20T10:33:20Z</dcterms:modified>
  <cp:revision>241</cp:revision>
  <dc:subject/>
  <dc:title>Slide 1</dc:title>
</cp:coreProperties>
</file>