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0A17-D051-43D2-85FC-5AE7195564FE}" type="slidenum">
              <a:rPr b="0" lang="en-GB" sz="12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CBC6-5BB6-47E3-8BC7-7F54ED9A2DB9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2FDE-32D5-4090-9EAE-5E342CBD013B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1A39-A033-4A13-BB11-31B07CBBB2AF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B41D-A92C-4916-A297-F6EE950520BE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F088-51F5-4987-A33A-6A1275BC385C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EF9B-2723-4F88-A2AF-0E63DA8F9F4D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FD7C-25E1-452A-9F61-4FABA02C1D89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92A3-5CEA-4CB4-AD38-BBCBF40A9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55B6-E7F1-4796-B86B-FC2B668A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66BB-89D0-4970-9872-A8DE73B32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74FC-6430-4CCE-9312-429E63975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5B18-9866-4C29-8112-2139B611C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8186-F237-4CFC-95AA-76977568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E26F-DBA3-4B1C-BFBD-1FA612EE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1020-4366-44F2-98E1-F5128508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61E6-5BAE-4E18-B140-1A0D9DDA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E67C-F838-4890-AEB5-049A66E7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800BB-162F-4945-A9F4-EEE2A72A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5AA2-4B02-4196-A392-947C53A2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D2DC-CE2B-4F68-9C97-32461D93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D5392-E1EA-47B5-ACD1-F8755112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BC7A-788B-4101-A724-E45FC842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6DFC-E0BC-4226-B593-759C229D1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9C9B-C29E-4FE1-928E-FC37E1182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5664-5E07-47B9-9C2B-CBD54536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6DF5-CB21-44FF-A8C8-A528C689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C436-4612-46B2-B04A-8497D1EF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FB59-1145-4314-861C-1878E5A9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AA70-186B-49CD-9E15-7D4DF3B1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8016-AED9-4F5C-BDBC-BB05CA16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D082-7482-42CF-BC1C-D26DD6E3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Actra Advisers Limi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FCFC-FB4A-4C08-AE70-8F0EE1B0433A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9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0" name="Rectangle 10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1" name="Group 11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2" name="Rectangle 12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103c72"/>
                </a:solidFill>
                <a:latin typeface="Verdana"/>
              </a:rPr>
              <a:t>Actra Advisers Limi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ED2C-EA18-45CD-9F68-F502E8CFD831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1915920"/>
            <a:ext cx="77025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800" spc="-1" strike="noStrike">
                <a:solidFill>
                  <a:srgbClr val="333399"/>
                </a:solidFill>
                <a:latin typeface="Verdana"/>
              </a:rPr>
              <a:t>Support to Capacity Development in Public Financial Management (PFM) </a:t>
            </a:r>
            <a:br>
              <a:rPr sz="2800"/>
            </a:br>
            <a:endParaRPr b="1" lang="en-US" sz="28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4000" y="3284280"/>
            <a:ext cx="708804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arole  and Nico Pretoriu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1356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d200"/>
                </a:solidFill>
                <a:latin typeface="Verdana"/>
              </a:rPr>
              <a:t>Approach to Guide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8360" y="1341360"/>
            <a:ext cx="799128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5880" indent="-51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Guide focuses on how to support not just what to support – holistic perspective on issues that need to be addressed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Arial"/>
                <a:ea typeface="Arial"/>
              </a:rPr>
              <a:t>Know your country, your subject, yourself (your organisation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Develop relationships that facilitate open and constructive discuss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Be transparent and assess with an open mind. Focus on what is there, not just what is not ther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In designing support, provide alternatives to the problem, not single standard solutions, think out of the box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Improve the flexibility of funding to accommodate the dynamic nature of capacity development.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In providing assistance ensure there is demand and then look at the various options involving government in selection/manage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Take longer term perspective on learning and seek to improve organisational learning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Know your goal/intended benefit at the outset, if not always the exact path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3" marL="1368360" indent="-517320">
              <a:lnSpc>
                <a:spcPct val="90000"/>
              </a:lnSpc>
              <a:buClr>
                <a:srgbClr val="353b55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3" marL="1368360" indent="-517320">
              <a:lnSpc>
                <a:spcPct val="90000"/>
              </a:lnSpc>
              <a:buClr>
                <a:srgbClr val="353b55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marL="515880" indent="-515880">
              <a:lnSpc>
                <a:spcPct val="90000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914400" indent="-51768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ts val="2798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Capacity Development – A Change Perspectiv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Human element of reforms/development/change strateg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hange challenges at different level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Societal (values &amp; beliefs e.g. public accountability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stitutional (changing roles e.g. audit independence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rganisational (Culture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dividual (Behaviour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nclude “hard issues” and “soft issues”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stitutional frameworks, technical reforms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uy-in, compliance, behavioural change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anaging chan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ocus on rational processes and </a:t>
            </a:r>
            <a:r>
              <a:rPr b="1" lang="en-GB" sz="1800" spc="-1" strike="noStrike" u="sng">
                <a:solidFill>
                  <a:srgbClr val="103c72"/>
                </a:solidFill>
                <a:uFillTx/>
                <a:latin typeface="Verdana"/>
              </a:rPr>
              <a:t>emotional responses 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to ensure sustainable chang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Why Change Efforts Fail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7" name="Content Placeholder 2"/>
          <p:cNvSpPr/>
          <p:nvPr/>
        </p:nvSpPr>
        <p:spPr>
          <a:xfrm>
            <a:off x="609480" y="2565360"/>
            <a:ext cx="82296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5669-A2F5-4872-BB88-9FF3E21A5BC4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249228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4360" y="2781360"/>
          <a:ext cx="7416720" cy="3095640"/>
        </p:xfrm>
        <a:graphic>
          <a:graphicData uri="http://schemas.openxmlformats.org/drawingml/2006/table">
            <a:tbl>
              <a:tblPr/>
              <a:tblGrid>
                <a:gridCol w="944280"/>
                <a:gridCol w="1216080"/>
                <a:gridCol w="1224000"/>
                <a:gridCol w="905040"/>
                <a:gridCol w="3127320"/>
              </a:tblGrid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lear Vision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Urgency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apacity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Likely Outcome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ast start, then fizzle out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ottom of “In” tray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ockets of change, Fear due to lack of skills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alse starts, Ad Hoc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ustainable change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131" name="Footer Placeholder 8"/>
          <p:cNvSpPr/>
          <p:nvPr/>
        </p:nvSpPr>
        <p:spPr>
          <a:xfrm>
            <a:off x="46836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Based on Kotter, J.P. (2000) Leading Change: Why Transformation Efforts Fail. Harvard Business Review no 423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Title 1"/>
          <p:cNvSpPr/>
          <p:nvPr/>
        </p:nvSpPr>
        <p:spPr>
          <a:xfrm>
            <a:off x="539640" y="1557360"/>
            <a:ext cx="77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539640" y="184464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ountry Findings – Sustainability an Issue – Why is that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Getting Ready for Chan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aking the Case for Change/the Vis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uilding case in which logic is irrefutable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est practice is not a good argu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Have clear criteria for success,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t manages expectations so everyone is clear on destina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vide insight not prescription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ternal drivers, not external forc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apture P(p)olitical Wil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olitical Level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rganisational Level (Senior Management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Insight  (Case Study: Using PEFA) 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pic>
        <p:nvPicPr>
          <p:cNvPr id="137" name="Picture 1" descr="Drawing scores2"/>
          <p:cNvPicPr/>
          <p:nvPr/>
        </p:nvPicPr>
        <p:blipFill>
          <a:blip r:embed="rId1"/>
          <a:stretch/>
        </p:blipFill>
        <p:spPr>
          <a:xfrm>
            <a:off x="179280" y="765000"/>
            <a:ext cx="8126640" cy="401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250920" y="4724280"/>
          <a:ext cx="8064360" cy="1729080"/>
        </p:xfrm>
        <a:graphic>
          <a:graphicData uri="http://schemas.openxmlformats.org/drawingml/2006/table">
            <a:tbl>
              <a:tblPr/>
              <a:tblGrid>
                <a:gridCol w="784080"/>
                <a:gridCol w="1838520"/>
                <a:gridCol w="1287360"/>
                <a:gridCol w="1382760"/>
                <a:gridCol w="1252440"/>
                <a:gridCol w="1519200"/>
              </a:tblGrid>
              <a:tr h="863640"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ar Ending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mission of Fin. Statements to AG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 signed off by AG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mission to Speaker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rutiny by PAC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 available to Public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 Mar 07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ign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ubmitt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Hearing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released yet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 Mar 07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ign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ubmitt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Hearing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released yet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 Jun 09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ign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ubmitt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Hearing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released yet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Oval 7"/>
          <p:cNvSpPr/>
          <p:nvPr/>
        </p:nvSpPr>
        <p:spPr>
          <a:xfrm>
            <a:off x="1763640" y="1916280"/>
            <a:ext cx="1511280" cy="1584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0" name="Oval 8"/>
          <p:cNvSpPr/>
          <p:nvPr/>
        </p:nvSpPr>
        <p:spPr>
          <a:xfrm>
            <a:off x="6227640" y="2060640"/>
            <a:ext cx="1511280" cy="1582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1" name="Oval 9"/>
          <p:cNvSpPr/>
          <p:nvPr/>
        </p:nvSpPr>
        <p:spPr>
          <a:xfrm>
            <a:off x="6804000" y="4365720"/>
            <a:ext cx="1511280" cy="1584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2" name="Picture 3" descr="C:\Users\Karools\AppData\Local\Microsoft\Windows\Temporary Internet Files\Content.IE5\P59UQRSN\MC900441521[1].wmf"/>
          <p:cNvPicPr/>
          <p:nvPr/>
        </p:nvPicPr>
        <p:blipFill>
          <a:blip r:embed="rId2"/>
          <a:stretch/>
        </p:blipFill>
        <p:spPr>
          <a:xfrm>
            <a:off x="6804000" y="0"/>
            <a:ext cx="136836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Beyond leadership and communication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Rwanda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High level political will now, but ...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ali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hange management unit but still battling with how to tackle vested interes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Lesotho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‘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hange management consultants told us what we already knew – not what to do about it’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How do you move to a stage where this is ‘how we do things around here (now)’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Importance of Cultur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he way we do things”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he 80 % principl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Values and ethic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ulturally loaded concep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Most difficult to chang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Shadow side of Culture (Perception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Loyalty (“Don’t question”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fessional (“High Power Distance”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3F0A-32CF-4D8F-BFA2-27085BC21800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8" name="Picture 7" descr="Drawing Cultural Onion.jpg"/>
          <p:cNvPicPr/>
          <p:nvPr/>
        </p:nvPicPr>
        <p:blipFill>
          <a:blip r:embed="rId1"/>
          <a:stretch/>
        </p:blipFill>
        <p:spPr>
          <a:xfrm>
            <a:off x="5003640" y="1700280"/>
            <a:ext cx="367200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Organisational Change Strategy (6Ps)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43BB-C1AB-42AA-BE08-5C73892BE345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-14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2" name="Content Placeholder 3"/>
          <p:cNvSpPr/>
          <p:nvPr/>
        </p:nvSpPr>
        <p:spPr>
          <a:xfrm>
            <a:off x="457200" y="2174760"/>
            <a:ext cx="4040280" cy="4133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bbe0e3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reason for chang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Making irrefutable case for change!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Implications if no change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i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will things look like in future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Vision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How will it be better than what we got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la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timelin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Priorities and Sequence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o  is involved in planning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Top-down, Consultation, Participation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" name="Content Placeholder 5"/>
          <p:cNvSpPr/>
          <p:nvPr/>
        </p:nvSpPr>
        <p:spPr>
          <a:xfrm>
            <a:off x="4645080" y="2174760"/>
            <a:ext cx="4103640" cy="4062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art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my role in chang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What is expected from me now, during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and after change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ass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Emotional response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Anger, fear, cynicism, excitement, etc.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ersona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in it for m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Am I a winner or loser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Rewards – financial, self-actualisation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Effort – increased workload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4" name="Text Placeholder 2"/>
          <p:cNvSpPr/>
          <p:nvPr/>
        </p:nvSpPr>
        <p:spPr>
          <a:xfrm>
            <a:off x="468360" y="155736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808080"/>
                </a:solidFill>
                <a:uFillTx/>
                <a:latin typeface="Calibri"/>
              </a:rPr>
              <a:t>Organisationa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5" name="Text Placeholder 4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808080"/>
                </a:solidFill>
                <a:uFillTx/>
                <a:latin typeface="Calibri"/>
              </a:rPr>
              <a:t>Individua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6" name="Title 1"/>
          <p:cNvSpPr/>
          <p:nvPr/>
        </p:nvSpPr>
        <p:spPr>
          <a:xfrm>
            <a:off x="468360" y="1125360"/>
            <a:ext cx="822960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Calibri"/>
              </a:rPr>
              <a:t>Case Study </a:t>
            </a:r>
            <a:r>
              <a:rPr b="0" lang="en-GB" sz="2400" spc="-1" strike="noStrike">
                <a:solidFill>
                  <a:srgbClr val="103c72"/>
                </a:solidFill>
                <a:latin typeface="Calibri"/>
              </a:rPr>
              <a:t>(South African Civil Service Reforms)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Design and Implementation Sta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rivers (strategies) for Sustainable Chan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lear strategies for achieving vis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ne organisation, one strateg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lignment (Development Strategy and Culture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cess must promote urgenc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lexible framework that encourages action and limits opportunity for passivit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etailed implement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Requires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management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not strateg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ppropriate technical and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managerial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capacit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ternal capacity to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manage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change proces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Monitoring and Evaluation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6840" y="1267920"/>
            <a:ext cx="7859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Formulate Criteria and KPI at Design Sta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5144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Keep it simple, Monitor change in behaviour not just systems and procedures and REAC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5144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cess Step Analysis (Inputs, Outputs, Impact, etc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316160" indent="-51444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Example: Open Strateg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514440">
              <a:lnSpc>
                <a:spcPts val="27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0487-C910-4FC6-8830-7A03EA76101A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39640" y="3500280"/>
          <a:ext cx="7704360" cy="2789280"/>
        </p:xfrm>
        <a:graphic>
          <a:graphicData uri="http://schemas.openxmlformats.org/drawingml/2006/table">
            <a:tbl>
              <a:tblPr/>
              <a:tblGrid>
                <a:gridCol w="1527120"/>
                <a:gridCol w="1327320"/>
                <a:gridCol w="2560680"/>
                <a:gridCol w="228924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Process 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Result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Uses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Benefits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067400"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eveloping training Manual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ocument produced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is it supposed to be used?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is it actually used (or not)?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or Unit, Organisation, 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310760"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pecialist Training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hd graduate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is person being used?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does organisation learn from that knowledge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or Organisation, sector, society, individual, etc.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cxnSp>
        <p:nvCxnSpPr>
          <p:cNvPr id="163" name="Straight Arrow Connector 10"/>
          <p:cNvCxnSpPr/>
          <p:nvPr/>
        </p:nvCxnSpPr>
        <p:spPr>
          <a:xfrm>
            <a:off x="1547640" y="3715920"/>
            <a:ext cx="504000" cy="25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lg"/>
          </a:ln>
        </p:spPr>
      </p:cxnSp>
      <p:cxnSp>
        <p:nvCxnSpPr>
          <p:cNvPr id="164" name="Straight Arrow Connector 11"/>
          <p:cNvCxnSpPr/>
          <p:nvPr/>
        </p:nvCxnSpPr>
        <p:spPr>
          <a:xfrm>
            <a:off x="2843280" y="3715920"/>
            <a:ext cx="505440" cy="25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lg"/>
          </a:ln>
        </p:spPr>
      </p:cxnSp>
      <p:cxnSp>
        <p:nvCxnSpPr>
          <p:cNvPr id="165" name="Straight Arrow Connector 12"/>
          <p:cNvCxnSpPr/>
          <p:nvPr/>
        </p:nvCxnSpPr>
        <p:spPr>
          <a:xfrm>
            <a:off x="4859280" y="3715920"/>
            <a:ext cx="505440" cy="25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Introduction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01840" indent="-50184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Development of practitioners guide to supporting capacity development in PFM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Five case study countries: Lesotho, Nepal, Mali, Morocco and Rwanda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Semi- structured interview proces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understanding/meaning of key terms, capacity development (CD), reform and PFM;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content, form and duration of CD support;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process of design, implementation and assessment;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mpact and sustainability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lvl="1" marL="85608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5608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Nepal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3640" y="1484280"/>
            <a:ext cx="8515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51228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Ad hoc interventions, predominantly based on technical training and supply driven assistance, government not seen as in driving seat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24488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Arial"/>
              </a:rPr>
              <a:t>‘</a:t>
            </a: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Arial"/>
              </a:rPr>
              <a:t>Need to train right person on right course for right reason’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Gradual move to more coordinated and focussed support with some recognition of political situation, but not of how society/organisations operat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Limited local ownership/management of technical assistance, complaints over micro management, concerns over ‘cut and paste’ approach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mpact not assessed and sustainability constrained by a number of factors e.g. Frequent rotation of senior personnel, low status of financial personn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2280" indent="-512280">
              <a:lnSpc>
                <a:spcPct val="90000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2280" indent="-512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2280" indent="-512280">
              <a:lnSpc>
                <a:spcPct val="90000"/>
              </a:lnSpc>
              <a:buClr>
                <a:srgbClr val="353b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3c72"/>
              </a:solidFill>
              <a:latin typeface="Verdana"/>
            </a:endParaRPr>
          </a:p>
          <a:p>
            <a:pPr lvl="1" marL="873720" indent="-5122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Lesotho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Reform programme comprising of traditional technical ‘fixes’ but addressing issues of professionaliz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Level of ‘government’ ownership declined over time, all affected bodies not on board from the outset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At operational level, preferred technical assistance, those who had practical experience. At micro level, internal CD of organisation, which is emphasising ‘human element’ making progress.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Change management support did not go beyond the ‘communication philosophy’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Sustainability generally and of professionalization process 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“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f you train them they leave?”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Rwanda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  <a:ea typeface="Arial"/>
              </a:rPr>
              <a:t>Reform programme supported by limited number of knowledgeable donors, high level of mutual trust and respec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Major transformation, but high level of political support with clear vision (even if not realistic)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Joint selection and management of TA, monitoring done by counterparts/senior government officials 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nitial attempts at professionalization failed, poor selection process, broader educational issues need to be addressed + high leaka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Sustainability – still highly questionable, shared vision ?, very small civil service, flat pay system, personal motivation issues not addresse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Morocco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  <a:ea typeface="Arial"/>
              </a:rPr>
              <a:t>High level support by the King, but shared vision across all senior management still being sought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The Trésorerie Générale du Royaume (TGR) has sequenced its reform efforts taking account of capacity issues/scope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Focus on tools viewed as being to the detriment of a focus on enabling people to use those tools for the benefit of their organisation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Government manage technical assistance, effective use of institutional twinning arrangemen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Need for donors to adopt flexible approach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Mali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3c72"/>
                </a:solidFill>
                <a:latin typeface="Arial"/>
                <a:ea typeface="Arial"/>
              </a:rPr>
              <a:t>Lack of involvement of parliament and audit together with protracted discussions over methodology seen as reducing country ownership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3c72"/>
                </a:solidFill>
                <a:latin typeface="Arial"/>
                <a:ea typeface="Arial"/>
              </a:rPr>
              <a:t>WAEMU directives – so direction prescribed, but </a:t>
            </a: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sequencing of reforms has not taken into account country context. Also concerns raised that </a:t>
            </a:r>
            <a:r>
              <a:rPr b="0" lang="en-US" sz="1900" spc="-1" strike="noStrike">
                <a:solidFill>
                  <a:srgbClr val="103c72"/>
                </a:solidFill>
                <a:latin typeface="Arial"/>
                <a:ea typeface="Arial"/>
              </a:rPr>
              <a:t>values, beliefs, ways of doing things not respected – e.g. audit model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Carefully formulated plans are addressing a number of institutional, organisational and individual capacity development issues. 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There is a change management strategy, the implementation of which is headed by a dedicated unit; however addressing the influence of vested interests and the need to take into account motivational issues remains. 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Common findings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10920" y="1413000"/>
            <a:ext cx="822780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5176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2" marL="5176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Understanding and meaning of key term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Variations exist between governments, between donors and between government and donors leading to some tensions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76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03c72"/>
              </a:solidFill>
              <a:latin typeface="Verdana"/>
            </a:endParaRPr>
          </a:p>
          <a:p>
            <a:pPr lvl="2" marL="5176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7680" indent="-51768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19" name="Picture 5" descr="Drawing Cross talking.jpg"/>
          <p:cNvPicPr/>
          <p:nvPr/>
        </p:nvPicPr>
        <p:blipFill>
          <a:blip r:embed="rId1"/>
          <a:stretch/>
        </p:blipFill>
        <p:spPr>
          <a:xfrm>
            <a:off x="1187280" y="3068640"/>
            <a:ext cx="676944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Common findings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10920" y="1413000"/>
            <a:ext cx="822780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Still mainly support to new ‘technical’ tools and approaches (MTEF, IFMIS, TSA), conventional training/workshops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In general focus on traditional imports, not finding solutions to actual (and shared) problems, very limited innovation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Limited understanding (incorporation) of local context by donors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Timescales still appear to fit donor programming requirements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Capacity Development and change management link not clearly addressed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Recognition only of need for communication strategies and political will (leadership) but not the overall dynamics of change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63400" indent="-517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03c72"/>
              </a:solidFill>
              <a:latin typeface="Verdana"/>
            </a:endParaRPr>
          </a:p>
          <a:p>
            <a:pPr lvl="2" marL="563400" indent="-51732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7680" indent="-51768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Christoforos Korakas</cp:lastModifiedBy>
  <cp:lastPrinted>2011-06-27T14:49:09Z</cp:lastPrinted>
  <dcterms:modified xsi:type="dcterms:W3CDTF">2011-07-27T14:11:08Z</dcterms:modified>
  <cp:revision>90</cp:revision>
  <dc:subject/>
  <dc:title>Slide 1</dc:title>
</cp:coreProperties>
</file>