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9F62-1413-4F44-85DD-6967A4165F04}"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E236-9291-4AC9-880C-38A97A7BA6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C738-623A-4880-960C-2B22DBD9BA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4D15CFC-F8E7-4E20-AFCC-FEF1F481DA56}"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1215023-3737-4F2B-9EA0-3F1306597ACC}"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54F6C10-A5E8-488D-9DD8-EEFC1964A0AF}"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2B8AC1C-524B-4BBA-9419-52014F3BAB70}"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781F2-9862-4CE0-B185-20AF7A423A0F}"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1CF1-A7A9-4C1B-8C35-3EA71EBBBEC6}" type="datetime3">
              <a:rPr b="0" lang="en-GB" sz="1200" spc="-1" strike="noStrike">
                <a:solidFill>
                  <a:srgbClr val="000000"/>
                </a:solidFill>
                <a:latin typeface="Arial"/>
              </a:rPr>
              <a:t>29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0876-92FF-4B87-9691-49A04E222C9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F7B9-12EC-4833-948C-815F2B8C1E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6251-B5A1-4908-997E-CA372B4965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FE7D-0438-40D6-AB18-0D17DA5589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016C-8481-4462-A3FF-4D0BF1B574D1}"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C7C9-E9CD-4202-94D4-2AF72DB1ACFC}" type="datetime3">
              <a:rPr b="0" lang="en-GB" sz="1200" spc="-1" strike="noStrike">
                <a:solidFill>
                  <a:srgbClr val="000000"/>
                </a:solidFill>
                <a:latin typeface="Arial"/>
              </a:rPr>
              <a:t>29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E3FD-4AC4-4BEA-9C8C-6B14C6369F8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CBA6-D484-48D4-8429-C1269FA982D8}"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A30E-C1D7-42BF-BE98-55246BF5F179}"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126B5A1-9A29-44F6-81F4-BB5E923F916E}"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9FCBCBC-02E9-40D9-9A3B-09AA3E0FBAE2}"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C3ED-D7AB-47FF-B01A-B0CF9FFA7F1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C514-F04A-4986-A570-761931CF9416}"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5780-41BE-4752-8585-2FA65692B00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11D2708-D9D6-4DAA-AAF5-C43A4093793C}"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3D2C-0556-48CD-B114-46A6C94F54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F401-0365-434A-82D8-1885799495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CE26-D66D-4B63-8520-337E00A0F28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B0F1-4BC3-49CF-A2FA-C0E628233AF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B72B-EC8D-4F7B-80A6-658FEC1358F0}"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CA2C-48A0-4995-A4C8-A3688E950002}"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4177-4404-4689-9430-BC35C261D037}"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C912-ACFE-4BF6-9BA4-CD00F790FFE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A032-ACBD-4A0A-B5F9-6EAD9ED2727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87E5-D2B7-44C0-B7C7-92EA1F68BBEF}"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F4C3-BC65-4C4E-9769-0F5E314F8ED7}"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9A01-F820-4047-8247-1538D93D27E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F096-5D7E-490D-857B-1A247DDE3E29}"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1E21FC5-C573-4E3A-A8D0-E8A5B21FDCBF}"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11C4-99BE-4C53-B793-EB0F1B416DAD}"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84B9-34CD-4802-96FC-6357F1BD0BA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4236-A406-4002-A789-27BB588AD9D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5818-9F08-4BBB-89D0-6CA98B9D153B}"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04715-DB42-459A-BE54-7F8D5DB54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15106-22EC-45A5-8011-0195C20C7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10ED2-8BCF-4947-A230-1A8E8DE7D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44B54-FA9C-4BD9-989F-EF516B92A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4DF21D-2F92-4F19-A133-1E69EBC2CC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7D4A1-FA07-40A3-A64C-5127E1492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43C17-9238-4304-A1AA-4BCC702C4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8483D-66ED-42E6-B3C3-D030F721C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02497-1394-4409-92C6-EB233133A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A7C61-2554-4DA0-BF5F-4DA292BA6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F38C7-05F4-448B-8671-CF67B3D90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AA958-F68A-4E65-8081-8422897E6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ABC41-F4DA-462A-B949-B9CE3A0F3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01DC3-357E-4331-8479-9854FAAF8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D882A-D8AD-495E-ADE7-B13428332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42DF35-E8EB-4B90-9624-97D040AE0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866561-7128-4D70-B406-173141D9D9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B01D1-C93F-4FC4-A7EC-4658AB1E5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00439-D7D8-4F14-A2D9-E191EE52C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D07D1-9789-4461-9F27-150B65F29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A97BD-8203-43D4-B3D0-4BBA74048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8A73D-BADD-476D-B49B-D05DE5CBB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57E28-24D6-44B4-ABF5-C468AE09A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87E80-69B7-4855-9AAD-B384F3A29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E455-0486-43D3-A381-C5CF382B7CA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6C7E-38EF-48A2-9E4E-F942C373E63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845E-95DE-4A11-9103-3453422668F0}"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8D44-950E-47F5-9BC9-A3A48413850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112D-0259-43C1-AF24-AD89549301D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4470-65C1-4DF0-868B-C3077DC012A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ADF4-5368-476C-928B-71F860E5794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17D5-56A0-4028-BEB8-92474D7FAE37}"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E43D-ACB5-415B-8DEE-E4FB8EAFC401}"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2489-458E-4AEE-9442-99F350AFE6B0}"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086D-AF21-4F5F-A462-5BDC88EE73BE}"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F8B1-6667-4D61-92CC-A9CC3932BBB9}"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2B03-8E94-4456-B957-0450EF18CD1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5525-3168-4895-A39E-2CA5685C43B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FDAF-BBB1-430D-82C7-4A20BEF9FC9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A5F8-6127-4849-9E32-1F8FC899C7A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F0C7-04FB-4540-9046-B7195CE8F40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1437-48F1-4AD5-916A-281BAF3E8329}"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1731-2ED1-4CFE-9F6A-6B6A22E14F89}"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652D-9908-4205-B418-9572BC25F8D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E66B-8853-4163-9A0D-12EFA10FC849}"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0CD21-1BC9-433C-909C-48D1CE957395}"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F872-4E7F-48C7-852A-25CC8D4A40DA}"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1309-B7B4-4B11-827C-23B47225856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605B-BE3B-4906-AB27-3B3863FE4183}"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FE62-9E51-48CB-B0CA-F552B66CBCF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16B3-D2B8-4D50-8A52-592E66D4D51C}"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BB61-8D79-4BC9-A54E-1D4901260FE4}"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3720-B984-49C4-B6F7-2B8849C2BCC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9454-7D2B-48AE-B0E2-A2D8686A652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0389-B087-4225-9540-3BEB7FD6124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4872-BB12-4B25-8E65-69A60734F834}"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97F3-A02B-4AE9-AA47-A3714439AB4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476D-FF94-46FE-9FAB-74DA4146A7F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634C-481C-4863-BCE1-345EF99DF1D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51D2-92B7-4D13-9474-D576E7DD3C3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7D93-0871-4EF1-B812-B4CF8AB78E1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D6B7-069F-4F27-B18E-692E6B2C8E5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3EB7-AA77-4388-8970-2991FB62B2E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4483-EAA0-4608-B2EC-957017E6ADE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35B6-44F8-4BBD-B17C-60D86E39D65F}"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EFF6B-C798-43C4-B16B-33593C3B029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616A-A289-4DA7-83C6-3442B2666F3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E2903-EB28-429D-BA3C-478B2FF2AE9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9516-76F7-4D3E-8BD9-E2D81DDA41C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981A-65AB-49B7-85AE-C37170088C3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1820-788D-4D3C-AD6C-7BDECA5E54D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11C3-2A31-462B-A625-C66547284FF2}"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9DEC-F257-4FC2-8216-9D51F7DFD61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