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F89-A626-4A9E-8092-8606BD85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F4B-F063-4D06-8578-F9B7A76D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131-0E63-488E-9BC6-E889D177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829-6021-40AB-958E-470741A6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079-CBB1-48B8-A5CD-3F4839FD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5EC-BA97-4F3B-B631-3BAB88D5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93E-C788-4C01-B699-B22CAC07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ED1-56C3-44F2-B875-98D48146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03D-25DC-4BF4-8F35-68FC39E6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7EF-9BFB-491B-9EB8-0304C3C6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41F-4B30-4FF5-A773-F4E57CA1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ADA-5CA1-4FE1-BA46-649878DB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44D6-D3CC-4B3A-8415-C058E32B3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political economy being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years ago pe not in donor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many donors using p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Sid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w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DF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Driver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Netherlan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G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World Ba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blem drive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UN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sia Found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olitical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 point to importance of politic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impact of public sector reform, best practice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bout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fragile states highlights politics of state 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approaches, common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down, botto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r less pr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r technocratic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, sector or problem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analyst, country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for ow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with partner country changes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development, diplomacy, security,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best practice, comprehensive PSR, crude condi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change; more nuanced narrative about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tion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-building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internal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country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ty, complexity of countr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alism about objectives, donor leverage (SGA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damental shifts in strategy (Nigeria, Nep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donor behaviour, aid mod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: sector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ganda roads, Bangladesh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portunit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fferent entry points, global drivers, changed narr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driven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ction, risk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doing be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fragmented: no fundamental re-think about development, donor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ergence between internal debate and external narrative (alignment, reform in return for aid, all good things go together, zero tolerance for corru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changes to donor staffing,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sk miss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A just the next donor fash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06:57Z</dcterms:created>
  <dc:creator>UNSWORTH</dc:creator>
  <dc:description/>
  <dc:language>en-US</dc:language>
  <cp:lastModifiedBy>UNSWORTH</cp:lastModifiedBy>
  <dcterms:modified xsi:type="dcterms:W3CDTF">2011-01-07T12:07:37Z</dcterms:modified>
  <cp:revision>10</cp:revision>
  <dc:subject/>
  <dc:title>How is political economy being used?</dc:title>
</cp:coreProperties>
</file>