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19C9-B52E-417C-A426-DF151274F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D563-5A54-4845-9D72-0C9401641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B8D5-38D8-4955-B921-979A94E70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B57B-D975-4D34-B91A-01CC8B3C5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AC79-8D0E-4059-8D90-F42398E11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82B6-F29B-446E-9053-7AEFC1211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F44B-CDBD-4DB5-8057-5964F46E3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7B52-6724-4858-BF19-3F8DBB80F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68F6-8B52-459E-A904-1CF5C7231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C271-3852-4D6B-BFA2-8CCF4CA8F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D9BA-66CB-450A-882A-B3A86272A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6894-5441-4D3F-BDB3-113314FF5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A47FF-4E62-4B77-87EE-1CF4AC910A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is political economy being us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0 years ago pe not in donor vocabul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w many donors using pe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- Sida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 power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- DFI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 Drivers of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- Netherland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 SGA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- World Bank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 problem driven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- UND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- Asia Foundatio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 political sett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ions point to importance of politic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mited impact of public sector reform, best practice approa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erns about corru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 in fragile states highlights politics of state buil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fferent approaches, common experi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p down, bottom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or less prescrip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itical or technocratic leader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ntry, sector or problem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lity of analyst, country knowle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ly for own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ly with partner country changes dynam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act: gene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s development, diplomacy, security, tr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llenges best practice, comprehensive PSR, crude condition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mental change; more nuanced narrative about corru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xation and accoun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obal dri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-building l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lity of internal deb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act: country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versity, complexity of country con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realism about objectives, donor leverage (SGAC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fundamental shifts in strategy (Nigeria, Nep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act of donor behaviour, aid moda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act: sector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alis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Uganda roads, Bangladesh wat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pportunitie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ifferent entry points, global drivers, changed narrati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blem driven analys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traction, risk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ope for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doing bette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mpact fragmented: no fundamental re-think about development, donor 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vergence between internal debate and external narrative (alignment, reform in return for aid, all good things go together, zero tolerance for corrup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 changes to donor staffing, incen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isk missing opportun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EA just the next donor fash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7T11:06:57Z</dcterms:created>
  <dc:creator>UNSWORTH</dc:creator>
  <dc:description/>
  <dc:language>en-US</dc:language>
  <cp:lastModifiedBy>UNSWORTH</cp:lastModifiedBy>
  <dcterms:modified xsi:type="dcterms:W3CDTF">2011-01-07T12:07:37Z</dcterms:modified>
  <cp:revision>10</cp:revision>
  <dc:subject/>
  <dc:title>How is political economy being used?</dc:title>
</cp:coreProperties>
</file>