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77F4-39BA-46F0-BF89-EC25EA2C1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B4AF-5772-4E78-8116-B3632099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8A68-9FDE-4961-A9CB-4EAC4640D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2813-49FA-4B94-B449-148A59F14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A2A9-AE55-4887-95DF-46FE37E6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45CD-9F67-4262-A6EF-924DADFF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DFF4-178B-4023-864A-E841C302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C8FC-FA6E-4758-8EC3-5D43FE1B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2AFC-7634-44FA-B46A-E092AF78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D1BE-2C09-499C-847C-C1250046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CF4F-62B9-48A1-A135-F11FBDC5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68A4-5343-40DF-B330-C445ED6E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BB0F-6655-4E57-8F2A-3A3CD0894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is political economy being us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 years ago pe not in donor 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w many donors using pe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Sid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power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DFI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Drivers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Netherland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SGA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World Ban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problem driven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UN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Asia Found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political sett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s point to importance of politic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ed impact of public sector reform, best practice approa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rns about corru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n fragile states highlights politics of state 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erent approaches, common experi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 down, bottom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or less prescrip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al or technocratic lead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ry, sector or problem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of analyst, country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ly for own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ly with partner country changes 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: 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development, diplomacy, security,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 best practice, comprehensive PSR, crude condi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mental change; more nuanced narrative about corru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ation and accoun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d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-building l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of internal deb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: country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ersity, complexity of country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realism about objectives, donor leverage (SGAC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fundamental shifts in strategy (Nigeria, Nep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 of donor behaviour, aid mod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: sector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l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Uganda roads, Bangladesh w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portunit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ifferent entry points, global drivers, changed narrat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 driven analy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raction, risk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pe f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doing bett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act fragmented: no fundamental re-think about development, donor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vergence between internal debate and external narrative (alignment, reform in return for aid, all good things go together, zero tolerance for corrup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changes to donor staffing, incen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sk missing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A just the next donor fash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1:06:57Z</dcterms:created>
  <dc:creator>UNSWORTH</dc:creator>
  <dc:description/>
  <dc:language>en-US</dc:language>
  <cp:lastModifiedBy>UNSWORTH</cp:lastModifiedBy>
  <dcterms:modified xsi:type="dcterms:W3CDTF">2011-01-07T12:07:37Z</dcterms:modified>
  <cp:revision>10</cp:revision>
  <dc:subject/>
  <dc:title>How is political economy being used?</dc:title>
</cp:coreProperties>
</file>