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A5D8A-00EA-44E8-B135-ECF351631BF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4599D-4B16-4FD6-B5DF-6A2054671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15E0-8EE6-4F58-B012-089F72E318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F107-5618-4DC8-829A-2996CAF1E5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FAC95-E743-49A5-B8B7-B1BFDDA37A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0480-3625-419B-8AAF-0FF1D65D0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2EC1E-C1EF-425C-B79B-48F37F53A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8C874-0AD4-4026-A199-1640DE4D6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0B6EB-043F-46B3-AFAA-1F3532A13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F1A05-B80D-41BB-956B-81CA1EC83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9B2FE-46B3-4BAD-8F68-FD75A86A3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09FED-1617-4D5F-84FE-F1128C5AA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CA6C7-848A-492D-AC13-4952B7888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A6C4E-8ABC-4C10-AD5C-7ED578C14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DB273-B3E7-4527-A7BB-A5066C60D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BAE02-FC67-427F-AD61-F1B8EEDEF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81610-280E-4442-BD27-A3B046CD7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25D22-8961-43BF-BD97-C628BAD77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17D70-18CF-40FC-B77B-65A7F7905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05C6A-3E1C-4CF2-8C8A-0CF116F74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BE934-346B-4610-8CE2-56F79A11B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AC522-87FB-4E02-8FFC-B3A191951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D15462-D321-4486-B00B-060974AB3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2E5C90-7446-4757-B66E-9D230082D1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6AA687-059C-483B-8DF3-234A82504D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C85E39-882A-4828-8B0C-08EDE995E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362AA-8437-425B-B8AA-C98918E8B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9DAC1-FC60-40D2-9702-8E25BB80A4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3192E-DF30-44E3-A207-F711AEC2B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72CC7-7D64-4265-9817-D6798D191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CC0E3F-9098-4C94-A92B-F38864CF9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BFFC7-2303-43D4-B3B1-07591C5B7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14483-8538-4D80-8DD1-46FB86CD3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F90EC9-861A-49DF-9660-3FC23C234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6E86B-53DC-4446-972E-2868C6EF18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6F795D-73B2-4273-97EA-B7F1EA8489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F3A67-F318-4D29-98C7-CC9F40C3B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A69C6-E80F-457E-9199-9683290E6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778EB-EC03-4184-834C-ED7B5FDFC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837C-9244-48AB-A2A2-A4A31DDC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7A610-E4DE-41F7-BE62-DF61AB424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E84B4-53F7-4864-9AF7-445E146A7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5C269-0D32-4E58-8B23-B4E8015793AF}" type="datetime">
              <a:rPr b="0" lang="fr-FR" sz="1200" spc="-1" strike="noStrike">
                <a:solidFill>
                  <a:srgbClr val="898989"/>
                </a:solidFill>
                <a:latin typeface="Verdan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C04E6-DF7C-4FB4-9752-E30CE237FD9F}"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09903-5438-4541-95DC-11DB6496D8F1}"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8C6E6-CD51-4F31-99C2-432AC2CA92AC}"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FF092-C234-4065-929E-CBADBB4CF928}" type="datetime">
              <a:rPr b="0" lang="en-US" sz="1200" spc="-1" strike="noStrike">
                <a:solidFill>
                  <a:srgbClr val="898989"/>
                </a:solidFill>
                <a:latin typeface="Verdana"/>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2D3BA1-1B8D-42A7-B6FC-510A42301C64}"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