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27A-957B-4DDA-B37B-82BE3E03C2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BE0-ACA8-49C2-A1B7-71ACCC166B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9943-6137-474D-9BAF-4254E453D63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8B4-7606-4283-874C-91DD56FFF73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0CD7-FBD5-457D-A0DF-3200ACDB4A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4727-C564-4153-BEB4-46C15550FC5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FFDF-4C72-448F-9585-43B06B73DA5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93E-F7BC-472F-BDF3-E6865AF99C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D22-B844-4BA2-B4FD-E9FACA4E133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FC7-7B74-4C05-9E43-A0DE604E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65B-0393-43E6-898F-157ACFA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E06-7C3C-44AB-A117-09E26688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233-5791-41F2-89B2-E4212689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700C-C71C-4A68-B74D-22B93F15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C7A3-76F2-4EDB-A223-8DA166E6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7AD-1E98-4949-9A3A-9ABED16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705C-C4F7-4224-AFD6-F97D7AA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9344-BBAC-4D1B-A3D9-A1C32BC7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274-EDCF-4448-8931-F08579B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2249-21EA-4FED-AC52-505F977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778-B41D-4383-B639-D2E6D1F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B024-7832-4E14-865A-210ADB5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CDD7-9126-4BA2-B7A3-8AF1F81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046A-F778-4815-B9BD-A05DF6C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D64-EB96-48B5-9F0F-574267DE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8024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2360" y="220968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77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98024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2360" y="3921120"/>
            <a:ext cx="18399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3811-EF56-4B3D-B645-55381E15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036-9741-4211-AA63-8EAEA99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FEE-904C-48F9-B13D-C9B52AAC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2BE-5669-4DDA-9835-4B90E39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D28-814F-471F-B206-B0C9EA2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420-8335-4877-9907-52D5D95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76000" y="392112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B69-A88C-453D-B39F-C14AE28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76000" y="2209680"/>
            <a:ext cx="2788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21120"/>
            <a:ext cx="5715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A0B-8951-438E-8C51-377C3EF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C22A-9F72-4C92-8D58-9DA8298248DB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AA0-55F8-45D4-B0EF-4ED6BB1AFD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9" descr="banner_en"/>
          <p:cNvPicPr/>
          <p:nvPr/>
        </p:nvPicPr>
        <p:blipFill>
          <a:blip r:embed="rId2"/>
          <a:stretch/>
        </p:blipFill>
        <p:spPr>
          <a:xfrm>
            <a:off x="3048120" y="557856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24"/>
          <p:cNvGraphicFramePr/>
          <p:nvPr/>
        </p:nvGraphicFramePr>
        <p:xfrm>
          <a:off x="662040" y="4562640"/>
          <a:ext cx="215748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4562640"/>
                    <a:ext cx="215748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anner_en"/>
          <p:cNvPicPr/>
          <p:nvPr/>
        </p:nvPicPr>
        <p:blipFill>
          <a:blip r:embed="rId2"/>
          <a:stretch/>
        </p:blipFill>
        <p:spPr>
          <a:xfrm>
            <a:off x="685800" y="457200"/>
            <a:ext cx="5715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662040" y="3733920"/>
          <a:ext cx="2919240" cy="21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733920"/>
                    <a:ext cx="29192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FD5-EB98-4339-9906-81EB502FF56F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7C58-9BB8-43EC-B6FD-835BC71EF8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frica-eu-partnership.org/" TargetMode="External"/><Relationship Id="rId2" Type="http://schemas.openxmlformats.org/officeDocument/2006/relationships/hyperlink" Target="http://www.africa-eu-partnership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093-34B5-4BA8-B69C-0FCF5B8365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EMPLOYMENT, SOCIAL PROTECTION AND DECENT WORK </a:t>
            </a:r>
            <a:br>
              <a:rPr sz="1800"/>
            </a:br>
            <a:r>
              <a:rPr b="0" i="1" lang="en-IE" sz="1800" spc="-1" strike="noStrike">
                <a:solidFill>
                  <a:srgbClr val="ffff00"/>
                </a:solidFill>
                <a:latin typeface="Tahoma"/>
              </a:rPr>
              <a:t>Outcomes from Workshop in Dakar</a:t>
            </a: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ffff00"/>
                </a:solidFill>
                <a:latin typeface="Tahoma"/>
              </a:rPr>
              <a:t>30 June-2 July 2011</a:t>
            </a:r>
            <a:br>
              <a:rPr sz="1800"/>
            </a:br>
            <a:br>
              <a:rPr sz="2400"/>
            </a:br>
            <a:r>
              <a:rPr b="0" lang="en-IE" sz="2400" spc="-1" strike="noStrike">
                <a:solidFill>
                  <a:srgbClr val="b2b2b2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62160" y="3124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Hjördis D’Agostino Ogen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00"/>
                </a:solidFill>
                <a:latin typeface="Tahoma"/>
              </a:rPr>
              <a:t>DG EuropeAid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Brusse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v-SE" sz="2400" spc="-1" strike="noStrike">
                <a:solidFill>
                  <a:srgbClr val="ffff00"/>
                </a:solidFill>
                <a:latin typeface="Tahoma"/>
              </a:rPr>
              <a:t>These recommendations/conclusions  were used as important inputs for the 3 activities identified in 2nd action plan of the joint Africa-EU Strategy - adopted in 3rd Africa-EU Summit in November 2010.</a:t>
            </a:r>
            <a:r>
              <a:rPr b="0" lang="sv-SE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EF0-0491-4670-9225-2CA08FC01E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D43-6B26-4BC0-B042-6611F9E904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 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Joint 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Africa-EU Stra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hu-HU" sz="3200" spc="-1" strike="noStrike">
                <a:solidFill>
                  <a:srgbClr val="ffff00"/>
                </a:solidFill>
                <a:latin typeface="Tahoma"/>
              </a:rPr>
              <a:t>egy</a:t>
            </a:r>
            <a:r>
              <a:rPr b="0" lang="sv-SE" sz="3200" spc="-1" strike="noStrike">
                <a:solidFill>
                  <a:srgbClr val="ffff00"/>
                </a:solidFill>
                <a:latin typeface="Tahoma"/>
              </a:rPr>
              <a:t> i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www.africa-eu-partnership.or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A9B-82CD-4883-B1D3-657119E410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Purpose of the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715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haring experience and knowledge in the field of employment, social protection and decent work in African and European countri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Stimulate debate and discussio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Tahoma"/>
              </a:rPr>
              <a:t>and creation of networks/working groups in areas of common interest between interested EU and African countries and stakeholder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FB8E-9175-4820-ACEF-312B2FDA31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Overall conclusions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he fundamental role of employment, social protection and social dialogue in achieving sustainable and balanced economic growth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ortance and potential of the informal economy in the development of African countrie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cessary involvement of governments, non-state actors and, in particular, of social partners, as well as of international organisations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FAE-458A-4732-8529-245884C812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ffff00"/>
                </a:solidFill>
                <a:latin typeface="Tahoma"/>
              </a:rPr>
              <a:t>Overall conclusions </a:t>
            </a: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continue</a:t>
            </a: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776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oted the existence of a satisfactory framework both political as well as sectoral policies which will serve as the framework for action (EU-Africa Strategy, AU SPF etc..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Need to improve the strategic framework for  mobilizing  resources for sustainable reforms at  local, public and private level, as well as predictable and long-term external resource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761-6905-46DC-B4C9-9163F79A5E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Specific conclusions from working group on social prote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7760" y="22096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took note of the AU Social Policy Framework and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e supported its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“comprehensive social policy vision”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and the need of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mplementing it at regional, sub-regional and national level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The working group (on SP) will support the development of national Social Protection </a:t>
            </a:r>
            <a:r>
              <a:rPr b="0" lang="fi-FI" sz="2000" spc="-1" strike="noStrike" u="sng">
                <a:solidFill>
                  <a:srgbClr val="ffff00"/>
                </a:solidFill>
                <a:uFillTx/>
                <a:latin typeface="Tahoma"/>
              </a:rPr>
              <a:t>systems</a:t>
            </a:r>
            <a:r>
              <a:rPr b="0" lang="fi-FI" sz="2000" spc="-1" strike="noStrike">
                <a:solidFill>
                  <a:srgbClr val="ffff00"/>
                </a:solidFill>
                <a:latin typeface="Tahoma"/>
              </a:rPr>
              <a:t> as one of the important elements of AU-SPF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8B3F-BE57-4415-9918-BBD95DD0CD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The strengthening of national social protection systems should start by analyzing and improving existing social protection arrangements, and complementing them with new ones to reach those not covered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526-25FB-44D2-A9D0-C9877F9B37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68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Knowledge management and analytic capacity within the government on SP are key in building national SP-systems, and should therefore be supported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DBB-7267-4EA8-9E58-739A43E430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II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7760" y="1676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The  need to support capacity building of relevant ministries, authorities such a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nistries of Finance, National Planning Commissions, Social Affairs, Labour, and other ministries and local authorities involved in the implementation of social protec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d other relevant stakeholders, including social partners and civil society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400-2EBC-4B9F-9BAC-70E33FDD99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Recommendations IV </a:t>
            </a:r>
            <a:br>
              <a:rPr sz="3600"/>
            </a:br>
            <a:r>
              <a:rPr b="0" lang="sv-SE" sz="3600" spc="-1" strike="noStrike">
                <a:solidFill>
                  <a:srgbClr val="ffff00"/>
                </a:solidFill>
                <a:latin typeface="Tahoma"/>
              </a:rPr>
              <a:t>from Dakar Workshop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7760" y="19807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We agreed that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00"/>
                </a:solidFill>
                <a:latin typeface="Tahoma"/>
              </a:rPr>
              <a:t>the (informal) working group on social protection should continue as part of the Informal Joint Expert Group within MME;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ffff00"/>
                </a:solidFill>
                <a:latin typeface="Tahoma"/>
              </a:rPr>
              <a:t>social protection should be prioritized within the Africa-EU cooperation, in particular within the framework of the Joint Africa-EU Strateg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2:57:42Z</dcterms:created>
  <dc:creator>Christoph Raudonat</dc:creator>
  <dc:description/>
  <dc:language>en-US</dc:language>
  <cp:lastModifiedBy>aidco-sd-tech2</cp:lastModifiedBy>
  <dcterms:modified xsi:type="dcterms:W3CDTF">2011-03-31T07:59:50Z</dcterms:modified>
  <cp:revision>46</cp:revision>
  <dc:subject/>
  <dc:title>PowerPoint Presentation</dc:title>
</cp:coreProperties>
</file>