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3120" y="738360"/>
            <a:ext cx="493092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5272-FD19-429F-AC6E-F6480AE7904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25B2-93C1-4845-A806-56D6FE999EE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BE9A-CF26-4C0D-B843-518853BB386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Despite the lack of a coherent policy framework there are widespread actions: support to home grown reforms of SP systems, through Food Security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5F1D-8D08-4207-BC51-68A498107D2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F9AB-131D-49B1-B4EA-C8386DC1813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P: main interest around 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Empl+SP only from 2010 and in 2nd 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akar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8C79-A731-473F-B8FF-D65AC77ECE5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56B0-E1B6-4D99-BA51-A74A4ACDF45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F0F6-071A-477B-83F2-01DF2F2995B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st Africa-EU Summit: 2000 Cairo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nd 2007 Lisbon =&gt; JAES: strategic partnership beyond development (political dialog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3rd 2010 Tripoli =&gt; 2nd 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FE9C-B12E-4762-A762-9A6D10DA214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 has a long history of SP within Europe – there is a European Social Model even if there are major differences among national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V POL: EU Consensus – empl+social cohesion as one of 9 priority areas of EU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2009 OECD policy statement on the role of employment and social protection in making economic growth more pro-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1924-AA93-462B-B95D-45F0D9D4CB7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Food Facility (2008 – social transf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1bn MDG initiative (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3B63-D238-4CD5-8D9D-E070EE9F40E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MDG Action Plan: support to wide-range coverage SP systems which are key element of social cohesion and s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ia számának helye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B6B7-CDAE-45AC-AFC6-DCA901C58A0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C6DA-0D38-4C98-8436-72A7448A80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51EA-F4D3-4DC4-8AEF-1E3505A807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7A1D-44BB-419C-AA8C-910BB14BAE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34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83240"/>
            <a:ext cx="5438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9E6A-5D8B-4423-A4CB-0D88546A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1E7-89B6-4692-AE04-213243CE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5CD5-878E-4A47-8B43-3044D723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8BB-A91C-4975-A938-5C8315A8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06C6-0D49-4D33-B3AC-BDA04AD7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FD92-E808-4805-A0AC-16129D01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83C8-A6EE-4A59-8716-74D2479E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71FA-2AC7-4941-B6C7-69B6EF24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A353-FD11-4D75-9307-D11244FD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E4AE-A650-4F1A-BCEF-7D8A89BB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7435-9255-453A-B117-3FCB1DD1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154-ABD2-4597-860B-0511FE03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45D9-8218-4CA5-994D-B1413C21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A50A-AFBD-4C64-92F9-6558474A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71C3-38D9-4A4E-B25A-F79D0AFE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82C3-E025-482D-B5A2-60485347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F668-67B4-49A3-B6EF-8799AA4A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FEED-4FAE-4634-B19A-8FB79976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FEB-1815-42BA-A4EB-1C65405E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08A0-F752-4920-8FC7-FDE7B144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55C-7459-4635-8DFA-B8FC8583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688-87B3-4426-9C55-C41650E6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90E-7B6B-4487-AAB2-8814CF76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9464-F609-4A02-BF91-40D47EC2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9BBC-0F1B-4CC0-8A9F-31094423D717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E893-F1EA-40CB-AD2A-31616D6337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9B85-4A01-4F04-84B9-53B0236CBFE7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4E5A-019B-4947-9C8E-349B41EC4B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social-protection/index_en.htm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hyperlink" Target="http://www.africa-eu-partnership.org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E499-8A38-4BC6-8BFF-AF220F36F8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EU-AU Workshop on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- in the 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informal economy</a:t>
            </a:r>
            <a:br>
              <a:rPr sz="3200"/>
            </a:br>
            <a:br>
              <a:rPr sz="3200"/>
            </a:b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Nairobi 10-11 March 2011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6157-BD61-430D-AD0F-A95A6A081C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EC is present in all regions – levels and means of cooperation / a demand driven and differentiated approac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Latin America: 40% of cooperation to social sector/social prote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B9B7-314A-4B70-BD0F-C09FC7F9D8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sia: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increasingly political dialogue but important bilateral cooperation support to social protection reform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Sector budget support to Kyrgyzstan, Tajikistan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ghanistan, China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B4B4-DD73-4FA3-997C-07487E3D28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C support to social protection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in Africa (country programmes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Ethiopia: Productive Safety Net Programme (WB Trust Fund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Rwanda: comprehensive social protection programme through sector budget sup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Lesotho, Zimbabwe: support to OVC (cash transfers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41DD-092C-47C5-8B2A-CFE37A9921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rica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oint Africa-EU Strategy  -  8 partnership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548280" indent="-548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Peace &amp; Securit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Democratic Governance &amp; Human Right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Regional Economic Integration, Trade &amp; Infrastructur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DG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Climate Change &amp; Environ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Ener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Migration, Mobility &amp; Employ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91360" indent="-479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Tahoma"/>
              </a:rPr>
              <a:t>Science, Information Society &amp; Spac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5E51-103D-4069-A7B1-A8116DF731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Partnership on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Migration, Mobility and Employ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7760" y="17521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12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5 migrat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employment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related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1 social protection initiative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(part of decent work initiative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3 higher education / student mobility initiativ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C8C2-A81C-4E94-A2C4-507554501D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38280" y="17524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Decent work initiative –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AUC and EC will launch a project on extending SP in the inform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ing AU programme on upgrading the informal economy  and the Productiviy Agenda for Afri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32720" indent="-4327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5347-E51F-42C1-A150-38121CC8D4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7920" y="17524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7.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Labour market governance and capacity buildin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Strengthening institutional capacity of labour market institutions i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Target public employment services and labour adminstratio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E171-439D-4637-BAD6-3879E007F8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U-AU cooperation on social protec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1752480"/>
            <a:ext cx="5943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8. Regional ans sub-regional fora on employment, labour, social protection and labour migr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Support harmonisation processes of labour market and social protection frameworks at regional levels, in cooperation with the REC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81320" indent="-481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ffff00"/>
                </a:solidFill>
                <a:latin typeface="Tahoma"/>
              </a:rPr>
              <a:t>7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96B4-8C08-47D3-9BCC-BD3E776A46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Social Protection in EU coope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ec.europa.eu/europeaid/what/social-protection/index_en.ht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g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africa-eu-partnership.or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83EF-469D-482F-A8BD-0361AA13DB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600200" y="2514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6A7E-1647-42EE-8A2C-2E4820B7F4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Social protection in EU development cooperation and in EU-A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U </a:t>
            </a: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relation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7080" y="44197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Ogendo/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Tamás Várna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ahoma"/>
              </a:rPr>
              <a:t>European Commission DG EuropeA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2375-BB8A-4D71-8E05-DF98116634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1. EU Political Context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2. Social protection from an EC perspec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343400" y="39625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3. EC support to social protection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4. EU- Africa Strateg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B6EF-D85E-451B-B846-CEC699800B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U political contex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European Consensus for Development (2005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mmunication and Council Conclusions on ‘Promoting Decent Work for all (2006)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Staff working paper on “Promoting Employment through EU Development Cooperation” (2007) an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00"/>
                </a:solidFill>
                <a:latin typeface="Tahoma"/>
              </a:rPr>
              <a:t>Council conclusions including on social protection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246F-DF6A-4FBF-B274-2D952F4890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2009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ommunication on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Supporting developing countries </a:t>
            </a:r>
            <a:br>
              <a:rPr sz="2400"/>
            </a:br>
            <a:r>
              <a:rPr b="0" lang="hu-HU" sz="2400" spc="-1" strike="noStrike">
                <a:solidFill>
                  <a:srgbClr val="ffff00"/>
                </a:solidFill>
                <a:latin typeface="Tahoma"/>
              </a:rPr>
              <a:t>in coping with the cris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EU committed to support developing countries in their efforts in setting up or strengthening social protection systems and programm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2009 and 2010 Ad hoc Vulnerable Flex mechanis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sv-SE" sz="2000" spc="-1" strike="noStrike">
                <a:solidFill>
                  <a:srgbClr val="ffff00"/>
                </a:solidFill>
                <a:latin typeface="Tahoma"/>
              </a:rPr>
              <a:t> / safeguard social spending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2010 Communication 12 point EU Action plan in support of the MDG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5E24-EFE8-4E14-9AAC-70B042A765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U initiativ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71440" y="19810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Tahoma"/>
              </a:rPr>
              <a:t>European Report on Development 2010 focuses on poverty, inequality, social protection in (primarily) sub-Saharan Afr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EC Reference Document on Social Transfers in the fight against hung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6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Social protection is a soci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…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81280" y="24379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Promote social cohesion and stability – redistribution system as reducing inequaliti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Endorse a human rights approa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2041-2C4E-4921-9FC2-FF8714D94185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581280" y="22860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b3b3b3"/>
                </a:solidFill>
                <a:latin typeface="Tahoma"/>
              </a:rPr>
              <a:t>chock absorber of crisis;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3b3b3"/>
                </a:solidFill>
                <a:latin typeface="Tahoma"/>
              </a:rPr>
              <a:t>reduces poverty and supports pro-poor economic growth (impact on human development, access to education and health etc)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b3b3b3"/>
                </a:solidFill>
                <a:latin typeface="Tahoma"/>
              </a:rPr>
              <a:t>social protection as a productive factor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A35C-0E9D-4743-AAAE-7FC6E3685CEF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ahoma"/>
              </a:rPr>
              <a:t>and an economic necessit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ahoma"/>
              </a:rPr>
              <a:t>Challenges for social prote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809520" y="23619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ise awareness/evidence on the positive impacts of social protection</a:t>
            </a: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Affordability – how to find fiscal space for social protection/home-grown, long term financially sustainably;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How to extend social protection for people in the informal economy/rural are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569D-7919-48F3-8855-70263958F343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14:56:36Z</dcterms:modified>
  <cp:revision>53</cp:revision>
  <dc:subject/>
  <dc:title>PowerPoint Presentation</dc:title>
</cp:coreProperties>
</file>