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2120" y="74412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5ca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2910A-A10F-44F9-BA3C-F1AD82E06C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BD5A4-DA2D-48C2-AD57-6AFD743EF9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72090-4909-4249-9C90-E5A3E64620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9A48E-DFAB-4466-9445-A7C5FDB527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82751-AD44-48EE-9957-AA1C822AC1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B42E5-1200-47C8-92EB-C4C8B90D2A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5D13C-A38D-4FAD-87F5-59972B84D9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E28A5-E62D-40A3-870E-8BC3EA849B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9AAFB-EC77-4ACE-A8E8-9EAE646277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B4888-470C-4493-91D5-A651B2F7AD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FBB9A-0BF7-462A-91BE-8E00D4AE18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Water for All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: Project area should include lower-income settlements where the non-served re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Affordability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: Demand-driven services, Targeted subsid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Sustainability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: Institutional, financial, operational environmental &amp; soc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Scale-up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: Build on local successful experi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Ownership/Participation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: Dialogue with all stakeholders including local PS &amp; previously excluded vulnerable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14E50D-A61E-4B06-A3CD-0E7328A56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73422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79280" y="3742200"/>
            <a:ext cx="73422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D69238-D9AE-4531-8E89-47CA39DAF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41640" y="125856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79280" y="374220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41640" y="374220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8D27F8-7D10-456F-9AB6-59487C2DE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23641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1840" y="1258560"/>
            <a:ext cx="23641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4760" y="1258560"/>
            <a:ext cx="23641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79280" y="3742200"/>
            <a:ext cx="23641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1840" y="3742200"/>
            <a:ext cx="23641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4760" y="3742200"/>
            <a:ext cx="23641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EF9AF9-F275-42EC-B342-88FA17159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79280" y="1258560"/>
            <a:ext cx="73422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2912E-E3F4-4FA3-93F4-53C83DA0C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73422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D8698D-F8B6-4713-AF65-1EBC18EE9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35827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41640" y="1258560"/>
            <a:ext cx="35827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F1A903-D7B9-4778-B29C-48C944080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142CC3-725D-4E69-BDB0-37F9E814C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42560" y="404640"/>
            <a:ext cx="720108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56FC09-96AC-4F79-90C5-1B8ED3809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41640" y="1258560"/>
            <a:ext cx="35827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79280" y="374220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06A821-0844-4C32-A047-98BBF0377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35827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41640" y="125856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41640" y="374220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8B0E98-6009-4F94-B09E-1726F6D5B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41640" y="125856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79280" y="3742200"/>
            <a:ext cx="73422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01546F-E7C0-4227-99D8-C219307A5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5ca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79280" y="1258560"/>
            <a:ext cx="73422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524640"/>
            <a:ext cx="990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FC93E-B28A-4AAC-8CF4-BE321D1C7204}" type="datetime">
              <a:rPr b="0" lang="en-GB" sz="1000" spc="-1" strike="noStrike">
                <a:solidFill>
                  <a:srgbClr val="ffffff"/>
                </a:solidFill>
                <a:latin typeface="Arial"/>
              </a:rPr>
              <a:t>29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772400" y="6524640"/>
            <a:ext cx="990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CCACC-3659-47A3-B5FD-0CE8D628E9A7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ftr" idx="3"/>
          </p:nvPr>
        </p:nvSpPr>
        <p:spPr>
          <a:xfrm>
            <a:off x="1403280" y="6524640"/>
            <a:ext cx="633744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17.jpeg"/><Relationship Id="rId12" Type="http://schemas.openxmlformats.org/officeDocument/2006/relationships/slideLayout" Target="../slideLayouts/slideLayout3.xml"/><Relationship Id="rId1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18.jpe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10.jpeg"/><Relationship Id="rId17" Type="http://schemas.openxmlformats.org/officeDocument/2006/relationships/slideLayout" Target="../slideLayouts/slideLayout3.xml"/><Relationship Id="rId1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3640" y="2491920"/>
            <a:ext cx="856908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GB" sz="3200" spc="-1" strike="noStrike">
                <a:solidFill>
                  <a:srgbClr val="015cab"/>
                </a:solidFill>
                <a:latin typeface="Arial"/>
              </a:rPr>
              <a:t>Water and Sanitation EC-EIB Seminar</a:t>
            </a:r>
            <a:br>
              <a:rPr sz="1800"/>
            </a:br>
            <a:br>
              <a:rPr sz="1800"/>
            </a:br>
            <a:r>
              <a:rPr b="1" i="1" lang="en-GB" sz="2400" spc="-1" strike="noStrike">
                <a:solidFill>
                  <a:srgbClr val="015cab"/>
                </a:solidFill>
                <a:latin typeface="Arial"/>
              </a:rPr>
              <a:t>Session 3: Sanitation “supply”</a:t>
            </a:r>
            <a:br>
              <a:rPr sz="2400"/>
            </a:br>
            <a:br>
              <a:rPr sz="2400"/>
            </a:br>
            <a:r>
              <a:rPr b="1" i="1" lang="en-GB" sz="2400" spc="-1" strike="noStrike">
                <a:solidFill>
                  <a:srgbClr val="a12f0b"/>
                </a:solidFill>
                <a:latin typeface="Arial"/>
              </a:rPr>
              <a:t> </a:t>
            </a:r>
            <a:r>
              <a:rPr b="1" i="1" lang="en-GB" sz="2800" spc="-1" strike="noStrike">
                <a:solidFill>
                  <a:srgbClr val="a12f0b"/>
                </a:solidFill>
                <a:latin typeface="Arial"/>
              </a:rPr>
              <a:t>Malawi Peri-Urban Water and Sanitation Project -</a:t>
            </a:r>
            <a:br>
              <a:rPr sz="2800"/>
            </a:br>
            <a:r>
              <a:rPr b="1" i="1" lang="en-GB" sz="2800" spc="-1" strike="noStrike">
                <a:solidFill>
                  <a:srgbClr val="a12f0b"/>
                </a:solidFill>
                <a:latin typeface="Arial"/>
              </a:rPr>
              <a:t>Working with NGO’s to increase W&amp;S coverage </a:t>
            </a:r>
            <a:br>
              <a:rPr sz="2800"/>
            </a:br>
            <a:br>
              <a:rPr sz="2800"/>
            </a:br>
            <a:r>
              <a:rPr b="0" i="1" lang="en-GB" sz="2400" spc="-1" strike="noStrike">
                <a:solidFill>
                  <a:srgbClr val="015cab"/>
                </a:solidFill>
                <a:latin typeface="Arial"/>
              </a:rPr>
              <a:t>Brussels, 6 July 2010</a:t>
            </a: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EE8D8A-2642-4903-8613-AD5EBA7CFE2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-6480" y="847800"/>
            <a:ext cx="9156960" cy="5162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2F6FA6-4A9B-4BDE-BC71-67D6D12E7B2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-6480" y="847800"/>
            <a:ext cx="9156960" cy="5162400"/>
            <a:chOff x="-6480" y="847800"/>
            <a:chExt cx="9156960" cy="5162400"/>
          </a:xfrm>
        </p:grpSpPr>
        <p:pic>
          <p:nvPicPr>
            <p:cNvPr id="74" name="" descr=""/>
            <p:cNvPicPr/>
            <p:nvPr/>
          </p:nvPicPr>
          <p:blipFill>
            <a:blip r:embed="rId2"/>
            <a:stretch/>
          </p:blipFill>
          <p:spPr>
            <a:xfrm>
              <a:off x="-6480" y="847800"/>
              <a:ext cx="9156960" cy="516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" descr=""/>
            <p:cNvPicPr/>
            <p:nvPr/>
          </p:nvPicPr>
          <p:blipFill>
            <a:blip r:embed="rId3"/>
            <a:stretch/>
          </p:blipFill>
          <p:spPr>
            <a:xfrm>
              <a:off x="611280" y="2768760"/>
              <a:ext cx="2633400" cy="1484280"/>
            </a:xfrm>
            <a:prstGeom prst="rect">
              <a:avLst/>
            </a:prstGeom>
            <a:ln w="12600">
              <a:solidFill>
                <a:srgbClr val="ffffff"/>
              </a:solidFill>
              <a:miter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4B9AFF-163A-4E40-8542-BA79419B027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86CB8-C216-4B8D-A1C7-61948375037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73422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457880" cy="551664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4500720" y="0"/>
            <a:ext cx="4614840" cy="55166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85850B-A355-482D-9609-3AD75B7BB6F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5541840" y="4248000"/>
            <a:ext cx="1478160" cy="698760"/>
          </a:xfrm>
          <a:prstGeom prst="flowChartProcess">
            <a:avLst/>
          </a:prstGeom>
          <a:solidFill>
            <a:srgbClr val="015c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ffff"/>
                </a:solidFill>
                <a:latin typeface="Tahoma"/>
              </a:rPr>
              <a:t>LW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735360" y="1722600"/>
            <a:ext cx="1476360" cy="698400"/>
          </a:xfrm>
          <a:prstGeom prst="flowChartProcess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EI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363840" y="2852640"/>
            <a:ext cx="2217960" cy="698760"/>
          </a:xfrm>
          <a:prstGeom prst="flowChartProcess">
            <a:avLst/>
          </a:prstGeom>
          <a:solidFill>
            <a:srgbClr val="ff99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8080"/>
                </a:solidFill>
                <a:latin typeface="Tahoma"/>
              </a:rPr>
              <a:t>Ministry of Fin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116080" y="4186080"/>
            <a:ext cx="1476360" cy="698760"/>
          </a:xfrm>
          <a:prstGeom prst="flowChartProcess">
            <a:avLst/>
          </a:prstGeom>
          <a:solidFill>
            <a:srgbClr val="015c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ffff"/>
                </a:solidFill>
                <a:latin typeface="Tahoma"/>
              </a:rPr>
              <a:t>BW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735360" y="620640"/>
            <a:ext cx="1476360" cy="698400"/>
          </a:xfrm>
          <a:prstGeom prst="flowChartProcess">
            <a:avLst/>
          </a:prstGeom>
          <a:solidFill>
            <a:srgbClr val="015c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Tahoma"/>
              </a:rPr>
              <a:t>EU ACP W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" name=""/>
          <p:cNvCxnSpPr>
            <a:stCxn id="87" idx="2"/>
            <a:endCxn id="84" idx="0"/>
          </p:cNvCxnSpPr>
          <p:nvPr/>
        </p:nvCxnSpPr>
        <p:spPr>
          <a:xfrm>
            <a:off x="4473360" y="1318680"/>
            <a:ext cx="1080" cy="404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9" name=""/>
          <p:cNvCxnSpPr>
            <a:stCxn id="85" idx="2"/>
            <a:endCxn id="83" idx="0"/>
          </p:cNvCxnSpPr>
          <p:nvPr/>
        </p:nvCxnSpPr>
        <p:spPr>
          <a:xfrm flipH="1" rot="16200000">
            <a:off x="5029200" y="2995200"/>
            <a:ext cx="697320" cy="1808640"/>
          </a:xfrm>
          <a:prstGeom prst="bentConnector3">
            <a:avLst>
              <a:gd name="adj1" fmla="val 696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0" name=""/>
          <p:cNvCxnSpPr>
            <a:stCxn id="85" idx="2"/>
            <a:endCxn id="86" idx="0"/>
          </p:cNvCxnSpPr>
          <p:nvPr/>
        </p:nvCxnSpPr>
        <p:spPr>
          <a:xfrm rot="5400000">
            <a:off x="3346200" y="3058920"/>
            <a:ext cx="635400" cy="1620000"/>
          </a:xfrm>
          <a:prstGeom prst="bentConnector3">
            <a:avLst>
              <a:gd name="adj1" fmla="val 767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4464000" y="1341360"/>
            <a:ext cx="287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Contribution agre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197840" y="5467320"/>
            <a:ext cx="1477800" cy="698400"/>
          </a:xfrm>
          <a:prstGeom prst="flowChartProcess">
            <a:avLst/>
          </a:prstGeom>
          <a:solidFill>
            <a:srgbClr val="071d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WaterA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3" name=""/>
          <p:cNvCxnSpPr>
            <a:stCxn id="85" idx="0"/>
            <a:endCxn id="84" idx="2"/>
          </p:cNvCxnSpPr>
          <p:nvPr/>
        </p:nvCxnSpPr>
        <p:spPr>
          <a:xfrm flipV="1">
            <a:off x="4473360" y="2420280"/>
            <a:ext cx="1080" cy="43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94" name=""/>
          <p:cNvSpPr/>
          <p:nvPr/>
        </p:nvSpPr>
        <p:spPr>
          <a:xfrm>
            <a:off x="4562640" y="2421000"/>
            <a:ext cx="268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Loan/ grant agre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427640" y="3573360"/>
            <a:ext cx="29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On-lending agre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543800" y="4000680"/>
            <a:ext cx="178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Partnership  agre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92" idx="0"/>
            <a:endCxn id="83" idx="3"/>
          </p:cNvCxnSpPr>
          <p:nvPr/>
        </p:nvCxnSpPr>
        <p:spPr>
          <a:xfrm flipV="1" rot="16200000">
            <a:off x="7043400" y="4573080"/>
            <a:ext cx="870480" cy="918360"/>
          </a:xfrm>
          <a:prstGeom prst="bentConnector2">
            <a:avLst/>
          </a:prstGeom>
          <a:ln w="284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466560" y="5467320"/>
            <a:ext cx="1478160" cy="698400"/>
          </a:xfrm>
          <a:prstGeom prst="flowChartProcess">
            <a:avLst/>
          </a:prstGeom>
          <a:solidFill>
            <a:srgbClr val="071d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Water For Peo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86" idx="1"/>
            <a:endCxn id="98" idx="0"/>
          </p:cNvCxnSpPr>
          <p:nvPr/>
        </p:nvCxnSpPr>
        <p:spPr>
          <a:xfrm flipV="1" rot="10800000">
            <a:off x="1205640" y="4535280"/>
            <a:ext cx="910440" cy="932400"/>
          </a:xfrm>
          <a:prstGeom prst="bentConnector2">
            <a:avLst/>
          </a:prstGeom>
          <a:ln w="284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>
            <a:off x="2989440" y="5467320"/>
            <a:ext cx="3159000" cy="698400"/>
          </a:xfrm>
          <a:prstGeom prst="flowChartProcess">
            <a:avLst/>
          </a:prstGeom>
          <a:solidFill>
            <a:srgbClr val="ff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8080"/>
                </a:solidFill>
                <a:latin typeface="Tahoma"/>
              </a:rPr>
              <a:t>Private Service Contra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6" idx="2"/>
            <a:endCxn id="100" idx="0"/>
          </p:cNvCxnSpPr>
          <p:nvPr/>
        </p:nvCxnSpPr>
        <p:spPr>
          <a:xfrm flipH="1" rot="16200000">
            <a:off x="3420360" y="4318560"/>
            <a:ext cx="583200" cy="1715040"/>
          </a:xfrm>
          <a:prstGeom prst="bentConnector3">
            <a:avLst>
              <a:gd name="adj1" fmla="val 55281"/>
            </a:avLst>
          </a:prstGeom>
          <a:ln w="284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3" idx="2"/>
            <a:endCxn id="100" idx="0"/>
          </p:cNvCxnSpPr>
          <p:nvPr/>
        </p:nvCxnSpPr>
        <p:spPr>
          <a:xfrm rot="5400000">
            <a:off x="5164200" y="4350600"/>
            <a:ext cx="521280" cy="1713600"/>
          </a:xfrm>
          <a:prstGeom prst="bentConnector3">
            <a:avLst>
              <a:gd name="adj1" fmla="val 49965"/>
            </a:avLst>
          </a:prstGeom>
          <a:ln w="284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3" name=""/>
          <p:cNvSpPr/>
          <p:nvPr/>
        </p:nvSpPr>
        <p:spPr>
          <a:xfrm>
            <a:off x="3056040" y="4873680"/>
            <a:ext cx="29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Performance Contra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6360" y="3933720"/>
            <a:ext cx="187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Implementation agre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04DABB-E5FE-46C0-A25C-25D63A0C4CF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Scaling up NGO’s service enabler role through project</a:t>
            </a:r>
            <a:endParaRPr b="0" lang="en-US" sz="28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734220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identify kiosk sites in GIS system for PSP to construct 700 kiosk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set up associated WUA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oll out 70,000 latr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anitation awareness building and mark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ining slab buil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tting up private pit latrine emptying servic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ulper; Nibb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d we have the NGO’s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longwe: WaterAid – 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lantyre: - 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1"/>
          <a:stretch/>
        </p:blipFill>
        <p:spPr>
          <a:xfrm>
            <a:off x="6588000" y="2276640"/>
            <a:ext cx="2016360" cy="3573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4E09CA-0B41-42CA-A19D-FEC0E878237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42560" y="549000"/>
            <a:ext cx="720108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Procuring an NGO for Blantyre ?</a:t>
            </a:r>
            <a:endParaRPr b="0" lang="en-US" sz="28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73422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nly identified 3 potential NGO’s at outse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GO’s need local grass-root pres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y oper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rough CBO’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they bid competitively (WaterAid not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pen to consultan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playing field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8"/>
          <a:stretch/>
        </p:blipFill>
        <p:spPr>
          <a:xfrm>
            <a:off x="4500720" y="2276640"/>
            <a:ext cx="3570120" cy="2012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A6673E-1CBD-4D95-83AD-29AF39DB27D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Restricted tender carried out</a:t>
            </a:r>
            <a:endParaRPr b="0" lang="en-US" sz="28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73422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Open tender for Expression of Interest (EO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9 expressions of interest from int’l &amp; loc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SzPct val="12343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GO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SzPct val="12343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sul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SzPct val="12343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V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 pre-qualified bid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 bids recei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 winner: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4P, on pr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Signature in August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Big help: </a:t>
            </a:r>
            <a:r>
              <a:rPr b="0" lang="fr-CH" sz="2400" spc="-1" strike="noStrike">
                <a:solidFill>
                  <a:srgbClr val="cc3300"/>
                </a:solidFill>
                <a:latin typeface="Arial"/>
              </a:rPr>
              <a:t>Transaction Advisory Services (Fichtner Consulting) to prepare tender documents, raise market awareness, manage proces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18E5CB-FC6D-40F5-B237-724EC8A55D6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Some early conclusions</a:t>
            </a:r>
            <a:endParaRPr b="0" lang="en-US" sz="28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73422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NGO/CBO’s can play a very important role in reaching the MDG’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Especially crucial on the sanitation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Including NGO’s in the project structure simply adds mode parties and thus complex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If sanitation is out of Water Supplier’s remit, even more parties (city council etc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We walked a thin line to procure competitively, but market is thin: Would other bidders have done as wel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Winning bidder confirmed sanitation marketing approach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No complaints received from bidders other than tight ti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E13CD8-6790-426A-9B1D-C2A2F5A1B75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-6480" y="847800"/>
            <a:ext cx="9156960" cy="5162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91D80C-1ED9-4D42-8730-EF839F204C4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73422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-828720" y="-531720"/>
            <a:ext cx="10693440" cy="75610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843280" y="3141720"/>
            <a:ext cx="2016000" cy="649080"/>
          </a:xfrm>
          <a:prstGeom prst="wedgeRectCallout">
            <a:avLst>
              <a:gd name="adj1" fmla="val 57638"/>
              <a:gd name="adj2" fmla="val 8545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670k inhabit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72% WS cover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76720" y="4797360"/>
            <a:ext cx="2016000" cy="649440"/>
          </a:xfrm>
          <a:prstGeom prst="wedgeRectCallout">
            <a:avLst>
              <a:gd name="adj1" fmla="val 79449"/>
              <a:gd name="adj2" fmla="val 5562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715k inhabit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70% WS cover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1CC5D8-8094-41C3-A858-B55669E021A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4920" y="692280"/>
            <a:ext cx="82803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Main Project Objectives</a:t>
            </a:r>
            <a:br>
              <a:rPr sz="2800"/>
            </a:br>
            <a:endParaRPr b="0" lang="en-US" sz="28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8000" y="1341000"/>
            <a:ext cx="8928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fe drinking water to 723,000 additional people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asic sanitation to 468,000 peop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low income areas of the cities of Blantyre and Lilongwe by September 201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33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NGO/CBO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4-hour water supply for 408,000 people in Blantyre who currently receive it intermitten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uilding competent and sustainable Water Ut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33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Private Sector Service Contractor with Performance Based Cont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7C3A03-CEE6-4CFA-A4E0-850C64317FF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Stakeholders and project budget?</a:t>
            </a:r>
            <a:endParaRPr b="0" lang="en-US" sz="28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71280" y="1258560"/>
            <a:ext cx="359388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3300"/>
                </a:solidFill>
                <a:latin typeface="Arial"/>
              </a:rPr>
              <a:t>Stakeholders before 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longwe Water Bo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lantyre Water Bo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aterA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ivatisation Com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WDP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orld Ba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wo PIU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GOs, CB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ater U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w Income Area U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inistry of Fin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??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17800" y="1258560"/>
            <a:ext cx="374148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3300"/>
                </a:solidFill>
                <a:latin typeface="Arial"/>
              </a:rPr>
              <a:t>Budget in EURO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3300"/>
                </a:solidFill>
                <a:latin typeface="Arial"/>
              </a:rPr>
              <a:t>EU grant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</a:rPr>
              <a:t>14.9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IB loa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5.8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Water Boards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  1.1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tal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31.8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igible EUWF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30.8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f which for LIA’s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7.3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20665A-D325-4A35-A9D3-F121D521D17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8920" y="763560"/>
            <a:ext cx="84963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Most challenging task is the water and sanitation delivery in the LIA’s:</a:t>
            </a:r>
            <a:br>
              <a:rPr sz="2800"/>
            </a:br>
            <a:endParaRPr b="0" lang="en-US" sz="28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8964720" cy="461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fe drinking water to 723,000 additional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735 Kios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asic sanitation to 468,000 additional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70,000 VIP latr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ey LIA 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nplan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mited land ten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fford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or payment 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andal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anitation pract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atrine investment hurd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B1114D-DC60-4626-83B3-3E535358E14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-6480" y="847800"/>
            <a:ext cx="9156960" cy="5162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AC2382-093A-430A-9073-F8E3EB77796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-6480" y="847800"/>
            <a:ext cx="9156960" cy="5162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5D3416-8100-46E3-892E-4817A01EFC1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2633760" y="-9360"/>
            <a:ext cx="3643200" cy="6462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C2C24D-EC9B-4181-80B8-546BD3BF8B1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Replicating successful models: WaterAid</a:t>
            </a:r>
            <a:endParaRPr b="0" lang="en-US" sz="28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4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aterAid (in partnership with LWB) demonstrated a succesful local kiosk management mode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Water User Association” built on a strong social/community fabr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UA’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nage up to 100 kio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customer interface for Water Bo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UA’s: charge slightly increased fee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y kiosk operators &amp; WUA administr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cover prior deb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Kiosk design with “superstructure” against vandals/th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ccess has sensitised WaterBoards who now have special LIA unit to deal with WUA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anitation marketing vs slab subsi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ining small entreprene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lab co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it latrine empty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6"/>
          <a:stretch/>
        </p:blipFill>
        <p:spPr>
          <a:xfrm>
            <a:off x="5292720" y="4554360"/>
            <a:ext cx="3384720" cy="1908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559C32-D18F-43E4-855C-708E81C243D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6T09:30:31Z</dcterms:created>
  <dc:creator>CLIFFOR</dc:creator>
  <dc:description/>
  <dc:language>en-US</dc:language>
  <cp:lastModifiedBy>VANGILST</cp:lastModifiedBy>
  <dcterms:modified xsi:type="dcterms:W3CDTF">2010-07-05T19:49:59Z</dcterms:modified>
  <cp:revision>290</cp:revision>
  <dc:subject/>
  <dc:title>PowerPoint Presentation</dc:title>
</cp:coreProperties>
</file>