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664D-9CE2-4D4E-9BA9-D7E54F417970}"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5ABD-97F5-43AF-83A9-5D034E85AA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7F28-8828-459C-9A3A-5B07EF0ED1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CDD8D71-F867-446C-B100-3F97E2D01980}"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7791EA0-A533-49C7-803A-923FFC2FB570}"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C95DF52-255E-4EFA-B47B-4FA22044B95E}"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5AA2DD1-F734-429B-9EB5-FDBFD59143A8}"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BF41-DC57-443F-A2CD-D4C84A893E26}"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1437-3879-41EA-90D7-034E6407AE72}" type="datetime3">
              <a:rPr b="0" lang="en-GB" sz="1200" spc="-1" strike="noStrike">
                <a:solidFill>
                  <a:srgbClr val="000000"/>
                </a:solidFill>
                <a:latin typeface="Arial"/>
              </a:rPr>
              <a:t>31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E760-61A4-44E4-8EF3-6E5F57416E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1C4B-6870-43B1-A4D8-56B5D05ABA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D292-9932-49D2-BAB3-931A0E0F29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A667-6AEA-4B67-A4C2-8D80A84F780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E28D-9865-45C1-99B0-33409551DB3D}"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99A2-6249-4B72-933A-B47D5EFC438F}" type="datetime3">
              <a:rPr b="0" lang="en-GB" sz="1200" spc="-1" strike="noStrike">
                <a:solidFill>
                  <a:srgbClr val="000000"/>
                </a:solidFill>
                <a:latin typeface="Arial"/>
              </a:rPr>
              <a:t>31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48EB-1CDE-42BC-ADE7-9863672A2D5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A09B-3BC0-42B4-B27B-EEF43B2F545E}"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D591-1DBC-4463-87E6-3CAC7BF9B0E0}"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065A408-3EFD-4000-8942-9F6A4CE44435}"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89E1F2E-0ED2-4748-A6E1-E4C6EF548D22}"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53C4-5C83-4643-ADBD-DD9685613D1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C800-6BBA-4AA6-B029-6F0B3FBF2161}"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8D9D0-9FA6-4A20-BF21-783CDED558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00527F0-7F82-4B06-B068-6353AA7E4D8A}"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EBC5-9712-439A-9B34-3CACC9B0025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ECC6-14AE-423A-B5BC-DA86571CBA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AE39-6ECE-4339-99BA-78E7694B489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3894-224F-41F7-9BB6-29C44DEA3C0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792F-26E0-4BAB-A2A8-DB4A6E47C095}"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CB07-CF38-4468-AFB2-2BFE7E85354A}"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31A3-894E-4CF9-A953-FD53622D2C12}"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E5F5-ECED-44EB-9164-53AAA858C6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A726-F2AD-4C80-9C00-3C9B40E0478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E2F3-C574-4C01-B40F-B7127BA8ACC6}"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5823-B25E-4D91-AF26-9BD5B35ADDBD}"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AD7A-2708-45AF-9090-773CF4C5819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0A98-328C-48D7-8F05-E9B6E0505AD8}"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E482F12-090F-4208-8AD5-BBA6762456F2}"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B8E1-31FF-4571-8DD8-BBE60D31AC6D}"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BA3F-F54A-4C13-812A-3C13CEB0FC3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4F46-F3B1-4669-8C92-2252915D5B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613B-6C5F-4966-94FD-A752E2C58425}"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3A479-BE56-4136-A7FB-99ADFC81A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E8AB5-0EF0-49DD-87D2-BF8FC6D12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96B74-9729-4FD9-9D13-1C339C1F1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31C98-EE67-4235-80CB-E8E900A0D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F0BD4-B804-42B8-B9D0-03DAB8A70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25C20-3B3D-4831-AEFD-2BA2F5AFC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14E30-4028-486B-A97D-F2B6E5845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951FF-8142-4CA9-A594-788CD9AED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EEEFE-463E-4ADF-8293-DF3DE3D25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7E9B7-CD42-4ADC-8621-60C887AB4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ABAE4-C65A-4AE3-81F0-61AAA4345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4EE68-4505-4009-B031-CE6E3D99B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DCB70-8275-4ECF-8467-32074CB09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CCEE9-FBBC-4ED5-A933-5C2E81ADF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B7A45-380E-4CF7-AF76-103CB4094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736E2-3800-45B0-9EAD-7B6E189D8F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E676A-E936-4986-973A-1D858EA78E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1688E-CDAB-4FD5-9CC1-DE1F85869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54948-FFBA-428D-9E89-F56B773EE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82756-469A-45EF-A887-E63D68B66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0B482-664E-4893-9456-F3219080E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23EBE-4B4A-4689-8788-244435060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F7A21-59C2-4EA8-BD4D-B8DF656F9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908D7-3D19-4014-8058-FB3C29BBD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ACA1-3AC9-4E57-AF77-ED01DDDA0C0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1A97-1E6B-41FE-BEE8-CCBA7F21AF6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72E4-9C5F-4B2E-B76E-5A6AEE2DFE18}"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CF43-6C11-4520-80D3-EC442ADC816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F642-21F5-4579-9CC0-BD1413B9ABA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215F-6B20-4E8A-A337-E7113A8B68D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C55E-D6DC-47F2-96A0-93CBF342381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A4D9-B1A8-4082-88A9-CD1CFB060823}"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335B-3369-4FFF-9AC5-F2D2926813C8}"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BA10-16F5-4700-A5A2-512599209932}"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A8A8-AB1C-4070-927C-732F8B85E818}"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3F72-5AA1-4AC8-A85B-FCE16D71868C}"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6C09-20B6-4663-99E0-D32A1F4237A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633E-454B-4294-B01C-748CF31BF4A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7852C-7618-46BB-BC8A-556D1658310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AA44-35A0-4E7D-BCA1-341275C0D62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58BE-C92D-43CD-98B8-A689E074CB0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1BBD-ADF2-4105-A128-BD0B868BC48D}"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3953-64AC-4C7D-B5F2-7E15A77B8DEC}"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BD8F-DFE5-4ED8-A622-BF658DD4410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E469-F2D2-427A-A6BE-862113D52315}"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ECFE-4C87-4FC6-BB7F-2A6CF3F854F4}"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D0C2-1FD8-4896-ACC4-1E032844470D}"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B21F-D133-4535-8A30-525F5A7B0FA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8FF54-C8CC-429F-AF8B-3F66C446940A}"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062C-CF04-4742-8A48-84D5960AA0EC}"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03D7-231A-4428-9ED8-C939E979285B}"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D2C5-5932-43D4-8717-CFBF44BEF6C3}"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7F89-B04F-4485-985F-FDD6BC6276A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800E-80B5-4C0C-9C85-895D2ED4DE5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AC6C-1095-4B6F-8963-1948F27B0B4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2E28-44C5-494B-B906-5059584CC2DD}"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A2D7-C108-445D-A824-C62E2BC1EDC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1821-0DCD-407F-A7D5-E8F5F0F9707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D6B6-42EE-4BDA-8AB4-2A1C978CE75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E3AC-57BD-4304-8048-914F212EEB4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BACF-73E4-43CA-8F19-C2362922165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5F3C-15AB-488D-8266-7B90AC2B214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2959-37BB-4DC4-A899-6EED00D23C1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056B-F67D-4ADB-9EFD-3EBDAEAB94C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1ABD-E84B-4AA0-B182-304E70E767C1}"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2D42-D2C0-46C2-A892-910B65E1E68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3013-694E-488A-881C-52754CF2D9C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251B-1AC2-4146-97AA-588E1EF9715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C3CF-A073-4C7F-97FF-F2599C4E8A8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4651-BE88-4A59-AABC-F6C9D6E32CB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1B6B-C20E-4187-9CF1-70EAC41BE85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15CD-D625-49CC-BD86-7C5FC390A00C}"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CD42-1EFA-402D-8E89-533562D00AB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