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35255-CB9C-4A04-A0E0-C724CC02F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BEC4E-7831-418B-945E-7687E567F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28913-9563-49E0-AFBC-64D54AA2F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DC45F-F702-42D4-B81A-CB7E331AE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F0F390-1AE0-4BC4-B4F4-660A5B784B1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883007-9244-45E7-904F-F0EEAC9DA08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98FE91-8266-4A3A-9168-64E2954DB11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D4444E-798D-4587-B35E-16C6770754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D5E34E-69D3-496D-B0A8-FE26D4803DA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533EEE-3774-45EE-8FED-A6D40F6BEAB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280388-C557-4DE7-B0F5-69F0027961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44B29-C356-4724-92C7-18B8B7569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1490AA-371B-4BCD-A13D-8B852CBB552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867E11-CD8C-44F4-A9F3-90946BE510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5904B9-2A04-4580-A4E9-0893E84FF5A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AD67A9-A215-4EE4-BD85-A03BE29D6DB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BF3ACB-9909-45D8-9543-BBE9528C34D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D886E-C336-4C17-8F7C-778FF6643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E67DD-AE7F-4B00-A847-A83A93C09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C4F11-E74C-40FE-8B1D-F3EAE60A3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448B2-D70D-4F4D-A425-6353E21A3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B9A60-F212-4D75-A314-B1B02424A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08B3E-F4DD-4F81-8E2E-BE6619FD0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6D84C-9CC7-4293-AC5D-F240C9113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AB638D81-9540-4600-BF2F-D6A880D8BBCD}" type="datetime11">
              <a:rPr b="0" lang="en-US" sz="1400" spc="-1" strike="noStrike">
                <a:solidFill>
                  <a:srgbClr val="ffffff"/>
                </a:solidFill>
                <a:latin typeface="Times New Roman"/>
              </a:rPr>
              <a:t>17:59:17</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9E4EA-EBB6-4A48-8AD1-368907C3E3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809A-0E7B-4B9B-BF95-0A885C9B7D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70105674-B799-46AC-8666-9CFC001A7DC2}" type="datetime11">
              <a:rPr b="0" lang="en-US" sz="1400" spc="-1" strike="noStrike">
                <a:solidFill>
                  <a:srgbClr val="ffffff"/>
                </a:solidFill>
                <a:latin typeface="Times New Roman"/>
              </a:rPr>
              <a:t>17:59:17</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205B5B6-AF83-42F3-827F-263BB41627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87BC371-6B74-4020-99F0-008E397A60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087E323-1EF3-4C6B-8CC5-7103D66ABE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464A2F8-8D45-4D5E-A646-EB9402283C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F01562D0-B02C-4ED0-91C2-15794EF2ED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08A531F-D419-417A-B7A7-8C7B49E0ED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D85406E-3833-42A4-A82C-B5F8D4D368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ECCE7B4-C39C-47CD-85F5-97BDF71B23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6DC97D6E-916B-4A32-A20F-7B3F8FE89D9E}"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F259961-5351-4FBA-9890-A6BDC56C86C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57BEBC0-23D6-49C0-940B-BBDF555652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2E267C0-36A7-4361-A84F-7C48708146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29E833D-10AB-465B-B033-C93BB0D9B6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1087F1E-90E8-46EA-8455-B0867F8892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86350DC-93AA-4975-9C2D-FF66E7FFA9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C8B2A99-B236-41E3-944E-12EC0F51CE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DAD69FF-B9D9-4FA5-B2C5-80F3B92B03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