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5E60D-1AE6-4B5A-896A-8BD6AC632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DE30B-2268-4662-8881-4B6BD9DE0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946D6-97BA-4207-81AD-B4A369C2B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334CF-015E-4DC8-ABF6-2DDB0C720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61C0BA-B27B-41C3-9662-3DD28660683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21B744-0725-44EF-A555-DD229448106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07F507-C6CD-48CA-9D80-ADC5B914431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8531D6-8A87-438F-8A10-C7507F9375B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4012CD-0D55-4725-A2B5-36D7AC37C46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60609D-FA02-4F6D-95AC-E524471F994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35730A-2386-4E6D-8712-9AD607EA6FF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212DE-4D53-487B-AD24-009129B99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E12445-9818-49CE-97A9-587EB1C349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16D9D4-A85D-4779-AB70-CBEA07C7BB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D82888-E892-45E0-BF3B-F87BC294BA5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B5D0DF-A73F-438E-82E5-2B0608DC862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0346D7-F919-425C-89F7-FEB27219914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DE0AF-3631-4FD9-81A5-C1A607842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7093F-6AC4-4CB4-97F8-013758DBB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E473B-4AF3-42A9-8F2E-E87758043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D9061-8CB5-4064-8EE0-730364A72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CB830-C424-490A-A44F-67854FBC4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633BF-AB8E-4F54-9F96-DFE28DC73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FA707-8254-4E33-AED5-939F19BDC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554E5D11-499E-43F3-8BD5-6DE9332F8B0D}" type="datetime11">
              <a:rPr b="0" lang="en-US" sz="1400" spc="-1" strike="noStrike">
                <a:solidFill>
                  <a:srgbClr val="ffffff"/>
                </a:solidFill>
                <a:latin typeface="Times New Roman"/>
              </a:rPr>
              <a:t>17:58:0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18553-7F80-4696-BBDA-80EB11945A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713C-CA32-4FED-9310-888BC90953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918C72A2-2BD1-46E4-8924-09539E1ED0C1}" type="datetime11">
              <a:rPr b="0" lang="en-US" sz="1400" spc="-1" strike="noStrike">
                <a:solidFill>
                  <a:srgbClr val="ffffff"/>
                </a:solidFill>
                <a:latin typeface="Times New Roman"/>
              </a:rPr>
              <a:t>17:58:00</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1DEA63A-FF09-4501-8209-00279D683E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28F7C22-D9AC-4F1D-A61F-0C59A7FDAD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876532D-A3B7-4164-9146-8AD438F39C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49B85CD-86BA-433C-956A-8F04BFAE1F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F3C5C84F-FEFC-461A-AD52-34DCC727DD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89A6318-DE63-4B05-A2FF-625C0704F9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C038BEB-8D23-427D-8671-B8A8FA601D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9A2A082-4274-4C78-8C1C-E966A3FFB7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A7D6F2DD-9FE4-4570-95F2-A136F1742030}"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FB87854-ED36-47E8-958B-CD590DCD56BA}"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6EC9274-AF07-4DE2-9DBD-E7DEA84B5A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730DE15-9408-45A7-8C3A-4987A777B9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BC66DC6-2C90-4A0F-B9B1-FD6B829DEB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892B01A-FB2F-42AA-843A-2501F17F4F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A387FA2-19F5-4BD4-97B6-B3C06F47AE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32C2CB5-C07E-432C-827D-59530A30E5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B17236E-6173-479F-8077-7F96288E7C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